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EE1-E406-467E-AC27-E309DC9A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822-8756-4FAA-B4DC-595D0237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988-4ACE-4F2D-B41A-EB482011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CA1-425F-4CD7-A451-F954CA6D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6D5-C273-4D49-A437-55354D9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C11-1402-4459-A2E0-2267F1C8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8FD-1833-4B77-9A85-98F3B8AA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3F8-8A45-42FD-BDCD-AACD5BCB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4E0-1646-4B1B-9A2E-5B7E94FF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BD4-58DD-4B2D-B3E6-FFE261FA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EBD-6604-4ED3-81F6-CF55D4E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3D2-1D09-457C-964F-B6912B1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8CA9-BF6E-4BF2-9CDC-58B8928825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uesday, December 2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Verify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600200" y="1676520"/>
          <a:ext cx="518148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181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371600" y="57913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When finished please make sure you have a calculato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rule sheet, and your unit circle hando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677960" y="3402000"/>
            <a:ext cx="965160" cy="330120"/>
          </a:xfrm>
          <a:custGeom>
            <a:avLst/>
            <a:gdLst/>
            <a:ahLst/>
            <a:rect l="l" t="t" r="r" b="b"/>
            <a:pathLst>
              <a:path w="2680" h="918">
                <a:moveTo>
                  <a:pt x="4663" y="9451"/>
                </a:moveTo>
                <a:cubicBezTo>
                  <a:pt x="4663" y="9524"/>
                  <a:pt x="4685" y="9576"/>
                  <a:pt x="4688" y="9649"/>
                </a:cubicBezTo>
                <a:cubicBezTo>
                  <a:pt x="4695" y="9827"/>
                  <a:pt x="4682" y="9995"/>
                  <a:pt x="4663" y="10170"/>
                </a:cubicBezTo>
                <a:cubicBezTo>
                  <a:pt x="4659" y="10204"/>
                  <a:pt x="4663" y="10385"/>
                  <a:pt x="4663" y="10344"/>
                </a:cubicBezTo>
              </a:path>
              <a:path w="2680" h="918">
                <a:moveTo>
                  <a:pt x="4986" y="9922"/>
                </a:moveTo>
                <a:cubicBezTo>
                  <a:pt x="5046" y="9948"/>
                  <a:pt x="5069" y="9947"/>
                  <a:pt x="5135" y="9947"/>
                </a:cubicBezTo>
                <a:cubicBezTo>
                  <a:pt x="5218" y="9947"/>
                  <a:pt x="5300" y="9947"/>
                  <a:pt x="5383" y="9947"/>
                </a:cubicBezTo>
              </a:path>
              <a:path w="2680" h="918">
                <a:moveTo>
                  <a:pt x="5879" y="9872"/>
                </a:moveTo>
                <a:cubicBezTo>
                  <a:pt x="5879" y="9886"/>
                  <a:pt x="5869" y="9894"/>
                  <a:pt x="5829" y="9872"/>
                </a:cubicBezTo>
                <a:cubicBezTo>
                  <a:pt x="5773" y="9841"/>
                  <a:pt x="5779" y="9847"/>
                  <a:pt x="5730" y="9897"/>
                </a:cubicBezTo>
                <a:cubicBezTo>
                  <a:pt x="5675" y="9952"/>
                  <a:pt x="5676" y="10006"/>
                  <a:pt x="5655" y="10071"/>
                </a:cubicBezTo>
                <a:cubicBezTo>
                  <a:pt x="5630" y="10149"/>
                  <a:pt x="5615" y="10213"/>
                  <a:pt x="5655" y="10294"/>
                </a:cubicBezTo>
                <a:cubicBezTo>
                  <a:pt x="5679" y="10342"/>
                  <a:pt x="5760" y="10365"/>
                  <a:pt x="5804" y="10368"/>
                </a:cubicBezTo>
                <a:cubicBezTo>
                  <a:pt x="5863" y="10371"/>
                  <a:pt x="5922" y="10340"/>
                  <a:pt x="5978" y="10319"/>
                </a:cubicBezTo>
              </a:path>
              <a:path w="2680" h="918">
                <a:moveTo>
                  <a:pt x="6102" y="9922"/>
                </a:moveTo>
                <a:cubicBezTo>
                  <a:pt x="6080" y="10003"/>
                  <a:pt x="6077" y="10062"/>
                  <a:pt x="6077" y="10145"/>
                </a:cubicBezTo>
                <a:cubicBezTo>
                  <a:pt x="6077" y="10199"/>
                  <a:pt x="6067" y="10230"/>
                  <a:pt x="6102" y="10269"/>
                </a:cubicBezTo>
                <a:cubicBezTo>
                  <a:pt x="6134" y="10304"/>
                  <a:pt x="6172" y="10342"/>
                  <a:pt x="6226" y="10319"/>
                </a:cubicBezTo>
                <a:cubicBezTo>
                  <a:pt x="6266" y="10302"/>
                  <a:pt x="6313" y="10270"/>
                  <a:pt x="6325" y="10220"/>
                </a:cubicBezTo>
                <a:cubicBezTo>
                  <a:pt x="6339" y="10162"/>
                  <a:pt x="6337" y="10064"/>
                  <a:pt x="6300" y="10021"/>
                </a:cubicBezTo>
                <a:cubicBezTo>
                  <a:pt x="6272" y="9989"/>
                  <a:pt x="6244" y="9950"/>
                  <a:pt x="6201" y="9947"/>
                </a:cubicBezTo>
                <a:cubicBezTo>
                  <a:pt x="6150" y="9943"/>
                  <a:pt x="6145" y="9933"/>
                  <a:pt x="6102" y="9922"/>
                </a:cubicBezTo>
              </a:path>
              <a:path w="2680" h="918">
                <a:moveTo>
                  <a:pt x="6499" y="9823"/>
                </a:moveTo>
                <a:cubicBezTo>
                  <a:pt x="6471" y="9838"/>
                  <a:pt x="6310" y="9895"/>
                  <a:pt x="6350" y="9971"/>
                </a:cubicBezTo>
                <a:cubicBezTo>
                  <a:pt x="6378" y="10023"/>
                  <a:pt x="6456" y="10111"/>
                  <a:pt x="6499" y="10145"/>
                </a:cubicBezTo>
                <a:cubicBezTo>
                  <a:pt x="6553" y="10188"/>
                  <a:pt x="6573" y="10196"/>
                  <a:pt x="6573" y="10269"/>
                </a:cubicBezTo>
                <a:cubicBezTo>
                  <a:pt x="6573" y="10311"/>
                  <a:pt x="6514" y="10316"/>
                  <a:pt x="6474" y="10319"/>
                </a:cubicBezTo>
                <a:cubicBezTo>
                  <a:pt x="6443" y="10322"/>
                  <a:pt x="6366" y="10318"/>
                  <a:pt x="6350" y="10294"/>
                </a:cubicBezTo>
                <a:cubicBezTo>
                  <a:pt x="6350" y="10269"/>
                  <a:pt x="6350" y="10261"/>
                  <a:pt x="6350" y="10244"/>
                </a:cubicBezTo>
              </a:path>
              <a:path w="2680" h="918">
                <a:moveTo>
                  <a:pt x="6648" y="9575"/>
                </a:moveTo>
                <a:cubicBezTo>
                  <a:pt x="6680" y="9575"/>
                  <a:pt x="6775" y="9557"/>
                  <a:pt x="6796" y="9599"/>
                </a:cubicBezTo>
                <a:cubicBezTo>
                  <a:pt x="6827" y="9661"/>
                  <a:pt x="6747" y="9671"/>
                  <a:pt x="6722" y="9699"/>
                </a:cubicBezTo>
                <a:cubicBezTo>
                  <a:pt x="6700" y="9742"/>
                  <a:pt x="6696" y="9754"/>
                  <a:pt x="6672" y="9773"/>
                </a:cubicBezTo>
                <a:cubicBezTo>
                  <a:pt x="6697" y="9807"/>
                  <a:pt x="6704" y="9833"/>
                  <a:pt x="6747" y="9847"/>
                </a:cubicBezTo>
                <a:cubicBezTo>
                  <a:pt x="6755" y="9847"/>
                  <a:pt x="6764" y="9847"/>
                  <a:pt x="6772" y="9847"/>
                </a:cubicBezTo>
              </a:path>
              <a:path w="2680" h="918">
                <a:moveTo>
                  <a:pt x="6896" y="10046"/>
                </a:moveTo>
                <a:cubicBezTo>
                  <a:pt x="6903" y="10100"/>
                  <a:pt x="6924" y="10181"/>
                  <a:pt x="6970" y="10220"/>
                </a:cubicBezTo>
                <a:cubicBezTo>
                  <a:pt x="7014" y="10257"/>
                  <a:pt x="7093" y="10291"/>
                  <a:pt x="7144" y="10319"/>
                </a:cubicBezTo>
                <a:cubicBezTo>
                  <a:pt x="7183" y="10340"/>
                  <a:pt x="7272" y="10367"/>
                  <a:pt x="7317" y="10344"/>
                </a:cubicBezTo>
                <a:cubicBezTo>
                  <a:pt x="7325" y="10336"/>
                  <a:pt x="7334" y="10327"/>
                  <a:pt x="7342" y="10319"/>
                </a:cubicBezTo>
              </a:path>
              <a:path w="2680" h="918">
                <a:moveTo>
                  <a:pt x="7243" y="9947"/>
                </a:moveTo>
                <a:cubicBezTo>
                  <a:pt x="7166" y="10040"/>
                  <a:pt x="7099" y="10146"/>
                  <a:pt x="7020" y="10220"/>
                </a:cubicBezTo>
                <a:cubicBezTo>
                  <a:pt x="6971" y="10266"/>
                  <a:pt x="6919" y="10297"/>
                  <a:pt x="6871" y="10344"/>
                </a:cubicBezTo>
                <a:cubicBezTo>
                  <a:pt x="6831" y="10383"/>
                  <a:pt x="6861" y="10374"/>
                  <a:pt x="6871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3295800"/>
            <a:ext cx="938520" cy="446040"/>
          </a:xfrm>
          <a:custGeom>
            <a:avLst/>
            <a:gdLst/>
            <a:ahLst/>
            <a:rect l="l" t="t" r="r" b="b"/>
            <a:pathLst>
              <a:path w="2605" h="1241">
                <a:moveTo>
                  <a:pt x="8359" y="9575"/>
                </a:moveTo>
                <a:cubicBezTo>
                  <a:pt x="8359" y="9690"/>
                  <a:pt x="8371" y="9790"/>
                  <a:pt x="8384" y="9897"/>
                </a:cubicBezTo>
                <a:cubicBezTo>
                  <a:pt x="8393" y="9969"/>
                  <a:pt x="8336" y="10233"/>
                  <a:pt x="8409" y="10269"/>
                </a:cubicBezTo>
                <a:cubicBezTo>
                  <a:pt x="8417" y="10269"/>
                  <a:pt x="8426" y="10269"/>
                  <a:pt x="8434" y="10269"/>
                </a:cubicBezTo>
              </a:path>
              <a:path w="2605" h="1241">
                <a:moveTo>
                  <a:pt x="8682" y="9996"/>
                </a:moveTo>
                <a:cubicBezTo>
                  <a:pt x="8872" y="9996"/>
                  <a:pt x="9062" y="9996"/>
                  <a:pt x="9252" y="9996"/>
                </a:cubicBezTo>
              </a:path>
              <a:path w="2605" h="1241">
                <a:moveTo>
                  <a:pt x="8954" y="9699"/>
                </a:moveTo>
                <a:cubicBezTo>
                  <a:pt x="8915" y="9831"/>
                  <a:pt x="8905" y="9890"/>
                  <a:pt x="8905" y="10021"/>
                </a:cubicBezTo>
                <a:cubicBezTo>
                  <a:pt x="8905" y="10058"/>
                  <a:pt x="8905" y="10314"/>
                  <a:pt x="8905" y="10195"/>
                </a:cubicBezTo>
              </a:path>
              <a:path w="2605" h="1241">
                <a:moveTo>
                  <a:pt x="9624" y="9872"/>
                </a:moveTo>
                <a:cubicBezTo>
                  <a:pt x="9616" y="9889"/>
                  <a:pt x="9607" y="9905"/>
                  <a:pt x="9599" y="9922"/>
                </a:cubicBezTo>
                <a:cubicBezTo>
                  <a:pt x="9589" y="9890"/>
                  <a:pt x="9578" y="9884"/>
                  <a:pt x="9550" y="9847"/>
                </a:cubicBezTo>
                <a:cubicBezTo>
                  <a:pt x="9520" y="9857"/>
                  <a:pt x="9508" y="9889"/>
                  <a:pt x="9475" y="9922"/>
                </a:cubicBezTo>
                <a:cubicBezTo>
                  <a:pt x="9427" y="9970"/>
                  <a:pt x="9367" y="10050"/>
                  <a:pt x="9351" y="10120"/>
                </a:cubicBezTo>
                <a:cubicBezTo>
                  <a:pt x="9340" y="10169"/>
                  <a:pt x="9345" y="10234"/>
                  <a:pt x="9376" y="10269"/>
                </a:cubicBezTo>
                <a:cubicBezTo>
                  <a:pt x="9411" y="10308"/>
                  <a:pt x="9485" y="10289"/>
                  <a:pt x="9525" y="10269"/>
                </a:cubicBezTo>
                <a:cubicBezTo>
                  <a:pt x="9550" y="10244"/>
                  <a:pt x="9558" y="10236"/>
                  <a:pt x="9575" y="10220"/>
                </a:cubicBezTo>
              </a:path>
              <a:path w="2605" h="1241">
                <a:moveTo>
                  <a:pt x="9674" y="10021"/>
                </a:moveTo>
                <a:cubicBezTo>
                  <a:pt x="9662" y="10066"/>
                  <a:pt x="9623" y="10170"/>
                  <a:pt x="9649" y="10220"/>
                </a:cubicBezTo>
                <a:cubicBezTo>
                  <a:pt x="9666" y="10253"/>
                  <a:pt x="9682" y="10291"/>
                  <a:pt x="9723" y="10294"/>
                </a:cubicBezTo>
                <a:cubicBezTo>
                  <a:pt x="9791" y="10299"/>
                  <a:pt x="9850" y="10276"/>
                  <a:pt x="9897" y="10220"/>
                </a:cubicBezTo>
                <a:cubicBezTo>
                  <a:pt x="9929" y="10182"/>
                  <a:pt x="9922" y="10095"/>
                  <a:pt x="9922" y="10046"/>
                </a:cubicBezTo>
                <a:cubicBezTo>
                  <a:pt x="9922" y="10004"/>
                  <a:pt x="9928" y="9938"/>
                  <a:pt x="9872" y="9922"/>
                </a:cubicBezTo>
                <a:cubicBezTo>
                  <a:pt x="9828" y="9922"/>
                  <a:pt x="9814" y="9925"/>
                  <a:pt x="9798" y="9897"/>
                </a:cubicBezTo>
              </a:path>
              <a:path w="2605" h="1241">
                <a:moveTo>
                  <a:pt x="10021" y="9872"/>
                </a:moveTo>
                <a:cubicBezTo>
                  <a:pt x="9922" y="9963"/>
                  <a:pt x="9891" y="9963"/>
                  <a:pt x="9971" y="10071"/>
                </a:cubicBezTo>
                <a:cubicBezTo>
                  <a:pt x="10006" y="10118"/>
                  <a:pt x="10151" y="10200"/>
                  <a:pt x="10145" y="10269"/>
                </a:cubicBezTo>
                <a:cubicBezTo>
                  <a:pt x="10140" y="10323"/>
                  <a:pt x="10088" y="10319"/>
                  <a:pt x="10046" y="10319"/>
                </a:cubicBezTo>
                <a:cubicBezTo>
                  <a:pt x="9979" y="10319"/>
                  <a:pt x="9967" y="10288"/>
                  <a:pt x="9922" y="10244"/>
                </a:cubicBezTo>
                <a:cubicBezTo>
                  <a:pt x="9878" y="10201"/>
                  <a:pt x="9881" y="10207"/>
                  <a:pt x="9872" y="10145"/>
                </a:cubicBezTo>
              </a:path>
              <a:path w="2605" h="1241">
                <a:moveTo>
                  <a:pt x="10220" y="9575"/>
                </a:moveTo>
                <a:cubicBezTo>
                  <a:pt x="10271" y="9584"/>
                  <a:pt x="10455" y="9585"/>
                  <a:pt x="10468" y="9674"/>
                </a:cubicBezTo>
                <a:cubicBezTo>
                  <a:pt x="10477" y="9736"/>
                  <a:pt x="10433" y="9758"/>
                  <a:pt x="10393" y="9798"/>
                </a:cubicBezTo>
                <a:cubicBezTo>
                  <a:pt x="10359" y="9832"/>
                  <a:pt x="10356" y="9835"/>
                  <a:pt x="10393" y="9847"/>
                </a:cubicBezTo>
              </a:path>
              <a:path w="2605" h="1241">
                <a:moveTo>
                  <a:pt x="10492" y="9922"/>
                </a:moveTo>
                <a:cubicBezTo>
                  <a:pt x="10528" y="10047"/>
                  <a:pt x="10529" y="10064"/>
                  <a:pt x="10641" y="10120"/>
                </a:cubicBezTo>
                <a:cubicBezTo>
                  <a:pt x="10706" y="10152"/>
                  <a:pt x="10742" y="10170"/>
                  <a:pt x="10815" y="10170"/>
                </a:cubicBezTo>
                <a:cubicBezTo>
                  <a:pt x="10831" y="10170"/>
                  <a:pt x="10848" y="10170"/>
                  <a:pt x="10864" y="10170"/>
                </a:cubicBezTo>
              </a:path>
              <a:path w="2605" h="1241">
                <a:moveTo>
                  <a:pt x="10815" y="9897"/>
                </a:moveTo>
                <a:cubicBezTo>
                  <a:pt x="10735" y="10005"/>
                  <a:pt x="10635" y="10183"/>
                  <a:pt x="10517" y="10269"/>
                </a:cubicBezTo>
                <a:cubicBezTo>
                  <a:pt x="10466" y="10306"/>
                  <a:pt x="10435" y="10343"/>
                  <a:pt x="10393" y="10393"/>
                </a:cubicBezTo>
              </a:path>
              <a:path w="2605" h="1241">
                <a:moveTo>
                  <a:pt x="8260" y="10294"/>
                </a:moveTo>
                <a:cubicBezTo>
                  <a:pt x="8294" y="10273"/>
                  <a:pt x="8322" y="10239"/>
                  <a:pt x="8359" y="10220"/>
                </a:cubicBezTo>
                <a:cubicBezTo>
                  <a:pt x="8459" y="10168"/>
                  <a:pt x="8605" y="10106"/>
                  <a:pt x="8706" y="10071"/>
                </a:cubicBezTo>
                <a:cubicBezTo>
                  <a:pt x="8854" y="10019"/>
                  <a:pt x="9012" y="9969"/>
                  <a:pt x="9153" y="9897"/>
                </a:cubicBezTo>
                <a:cubicBezTo>
                  <a:pt x="9357" y="9793"/>
                  <a:pt x="9558" y="9708"/>
                  <a:pt x="9773" y="9624"/>
                </a:cubicBezTo>
                <a:cubicBezTo>
                  <a:pt x="9925" y="9564"/>
                  <a:pt x="10076" y="9502"/>
                  <a:pt x="10220" y="9451"/>
                </a:cubicBezTo>
                <a:cubicBezTo>
                  <a:pt x="10331" y="9412"/>
                  <a:pt x="10439" y="9333"/>
                  <a:pt x="10542" y="9277"/>
                </a:cubicBezTo>
                <a:cubicBezTo>
                  <a:pt x="10601" y="9245"/>
                  <a:pt x="10660" y="9210"/>
                  <a:pt x="10716" y="9178"/>
                </a:cubicBezTo>
                <a:cubicBezTo>
                  <a:pt x="10752" y="9158"/>
                  <a:pt x="10854" y="9167"/>
                  <a:pt x="10815" y="9153"/>
                </a:cubicBezTo>
                <a:cubicBezTo>
                  <a:pt x="10795" y="9145"/>
                  <a:pt x="10734" y="9153"/>
                  <a:pt x="10716" y="91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875040"/>
            <a:ext cx="1438200" cy="492120"/>
          </a:xfrm>
          <a:custGeom>
            <a:avLst/>
            <a:gdLst/>
            <a:ahLst/>
            <a:rect l="l" t="t" r="r" b="b"/>
            <a:pathLst>
              <a:path w="3995" h="1365">
                <a:moveTo>
                  <a:pt x="6028" y="11137"/>
                </a:moveTo>
                <a:cubicBezTo>
                  <a:pt x="6028" y="11266"/>
                  <a:pt x="6017" y="11384"/>
                  <a:pt x="6003" y="11509"/>
                </a:cubicBezTo>
                <a:cubicBezTo>
                  <a:pt x="5992" y="11608"/>
                  <a:pt x="5989" y="11710"/>
                  <a:pt x="5978" y="11807"/>
                </a:cubicBezTo>
                <a:cubicBezTo>
                  <a:pt x="5972" y="11858"/>
                  <a:pt x="5968" y="12027"/>
                  <a:pt x="5978" y="12005"/>
                </a:cubicBezTo>
                <a:cubicBezTo>
                  <a:pt x="5986" y="11989"/>
                  <a:pt x="5995" y="11972"/>
                  <a:pt x="6003" y="11956"/>
                </a:cubicBezTo>
              </a:path>
              <a:path w="3995" h="1365">
                <a:moveTo>
                  <a:pt x="6598" y="11559"/>
                </a:moveTo>
                <a:cubicBezTo>
                  <a:pt x="6593" y="11598"/>
                  <a:pt x="6541" y="11817"/>
                  <a:pt x="6573" y="11881"/>
                </a:cubicBezTo>
                <a:cubicBezTo>
                  <a:pt x="6579" y="11892"/>
                  <a:pt x="6609" y="11975"/>
                  <a:pt x="6623" y="11956"/>
                </a:cubicBezTo>
                <a:cubicBezTo>
                  <a:pt x="6623" y="11948"/>
                  <a:pt x="6623" y="11939"/>
                  <a:pt x="6623" y="11931"/>
                </a:cubicBezTo>
              </a:path>
              <a:path w="3995" h="1365">
                <a:moveTo>
                  <a:pt x="6449" y="11683"/>
                </a:moveTo>
                <a:cubicBezTo>
                  <a:pt x="6529" y="11713"/>
                  <a:pt x="6591" y="11689"/>
                  <a:pt x="6672" y="11708"/>
                </a:cubicBezTo>
                <a:cubicBezTo>
                  <a:pt x="6727" y="11736"/>
                  <a:pt x="6750" y="11744"/>
                  <a:pt x="6796" y="11733"/>
                </a:cubicBezTo>
              </a:path>
              <a:path w="3995" h="1365">
                <a:moveTo>
                  <a:pt x="7466" y="11609"/>
                </a:moveTo>
                <a:cubicBezTo>
                  <a:pt x="7474" y="11625"/>
                  <a:pt x="7483" y="11642"/>
                  <a:pt x="7491" y="11658"/>
                </a:cubicBezTo>
                <a:cubicBezTo>
                  <a:pt x="7485" y="11632"/>
                  <a:pt x="7452" y="11590"/>
                  <a:pt x="7441" y="11584"/>
                </a:cubicBezTo>
                <a:cubicBezTo>
                  <a:pt x="7381" y="11553"/>
                  <a:pt x="7395" y="11575"/>
                  <a:pt x="7342" y="11609"/>
                </a:cubicBezTo>
                <a:cubicBezTo>
                  <a:pt x="7288" y="11643"/>
                  <a:pt x="7230" y="11711"/>
                  <a:pt x="7218" y="11782"/>
                </a:cubicBezTo>
                <a:cubicBezTo>
                  <a:pt x="7209" y="11833"/>
                  <a:pt x="7201" y="11989"/>
                  <a:pt x="7243" y="12030"/>
                </a:cubicBezTo>
                <a:cubicBezTo>
                  <a:pt x="7305" y="12092"/>
                  <a:pt x="7441" y="12092"/>
                  <a:pt x="7516" y="12080"/>
                </a:cubicBezTo>
                <a:cubicBezTo>
                  <a:pt x="7583" y="12057"/>
                  <a:pt x="7601" y="12052"/>
                  <a:pt x="7640" y="12030"/>
                </a:cubicBezTo>
              </a:path>
              <a:path w="3995" h="1365">
                <a:moveTo>
                  <a:pt x="7863" y="11708"/>
                </a:moveTo>
                <a:cubicBezTo>
                  <a:pt x="7835" y="11783"/>
                  <a:pt x="7804" y="11840"/>
                  <a:pt x="7764" y="11906"/>
                </a:cubicBezTo>
                <a:cubicBezTo>
                  <a:pt x="7733" y="11958"/>
                  <a:pt x="7722" y="12025"/>
                  <a:pt x="7789" y="12055"/>
                </a:cubicBezTo>
                <a:cubicBezTo>
                  <a:pt x="7833" y="12075"/>
                  <a:pt x="7900" y="12048"/>
                  <a:pt x="7938" y="12030"/>
                </a:cubicBezTo>
                <a:cubicBezTo>
                  <a:pt x="8030" y="11986"/>
                  <a:pt x="8080" y="11947"/>
                  <a:pt x="8136" y="11857"/>
                </a:cubicBezTo>
                <a:cubicBezTo>
                  <a:pt x="8159" y="11820"/>
                  <a:pt x="8182" y="11726"/>
                  <a:pt x="8161" y="11683"/>
                </a:cubicBezTo>
                <a:cubicBezTo>
                  <a:pt x="8133" y="11627"/>
                  <a:pt x="8062" y="11633"/>
                  <a:pt x="8012" y="11633"/>
                </a:cubicBezTo>
                <a:cubicBezTo>
                  <a:pt x="7972" y="11633"/>
                  <a:pt x="7886" y="11612"/>
                  <a:pt x="7863" y="11658"/>
                </a:cubicBezTo>
                <a:cubicBezTo>
                  <a:pt x="7847" y="11690"/>
                  <a:pt x="7873" y="11713"/>
                  <a:pt x="7888" y="11733"/>
                </a:cubicBezTo>
              </a:path>
              <a:path w="3995" h="1365">
                <a:moveTo>
                  <a:pt x="8558" y="11609"/>
                </a:moveTo>
                <a:cubicBezTo>
                  <a:pt x="8500" y="11609"/>
                  <a:pt x="8463" y="11621"/>
                  <a:pt x="8409" y="11633"/>
                </a:cubicBezTo>
                <a:cubicBezTo>
                  <a:pt x="8381" y="11633"/>
                  <a:pt x="8370" y="11635"/>
                  <a:pt x="8359" y="11658"/>
                </a:cubicBezTo>
                <a:cubicBezTo>
                  <a:pt x="8375" y="11736"/>
                  <a:pt x="8415" y="11768"/>
                  <a:pt x="8458" y="11832"/>
                </a:cubicBezTo>
                <a:cubicBezTo>
                  <a:pt x="8505" y="11902"/>
                  <a:pt x="8535" y="11986"/>
                  <a:pt x="8582" y="12055"/>
                </a:cubicBezTo>
                <a:cubicBezTo>
                  <a:pt x="8605" y="12078"/>
                  <a:pt x="8613" y="12082"/>
                  <a:pt x="8607" y="12105"/>
                </a:cubicBezTo>
                <a:cubicBezTo>
                  <a:pt x="8504" y="12105"/>
                  <a:pt x="8453" y="12113"/>
                  <a:pt x="8359" y="12055"/>
                </a:cubicBezTo>
                <a:cubicBezTo>
                  <a:pt x="8314" y="12027"/>
                  <a:pt x="8294" y="11952"/>
                  <a:pt x="8285" y="11906"/>
                </a:cubicBezTo>
              </a:path>
              <a:path w="3995" h="1365">
                <a:moveTo>
                  <a:pt x="8806" y="11261"/>
                </a:moveTo>
                <a:cubicBezTo>
                  <a:pt x="8845" y="11261"/>
                  <a:pt x="8976" y="11240"/>
                  <a:pt x="9004" y="11286"/>
                </a:cubicBezTo>
                <a:cubicBezTo>
                  <a:pt x="9038" y="11341"/>
                  <a:pt x="8970" y="11408"/>
                  <a:pt x="8930" y="11435"/>
                </a:cubicBezTo>
                <a:cubicBezTo>
                  <a:pt x="8878" y="11470"/>
                  <a:pt x="8857" y="11481"/>
                  <a:pt x="8905" y="11534"/>
                </a:cubicBezTo>
                <a:cubicBezTo>
                  <a:pt x="8963" y="11598"/>
                  <a:pt x="9051" y="11584"/>
                  <a:pt x="9128" y="11584"/>
                </a:cubicBezTo>
                <a:cubicBezTo>
                  <a:pt x="9145" y="11584"/>
                  <a:pt x="9161" y="11584"/>
                  <a:pt x="9178" y="11584"/>
                </a:cubicBezTo>
              </a:path>
              <a:path w="3995" h="1365">
                <a:moveTo>
                  <a:pt x="9426" y="11485"/>
                </a:moveTo>
                <a:cubicBezTo>
                  <a:pt x="9426" y="11587"/>
                  <a:pt x="9422" y="11666"/>
                  <a:pt x="9475" y="11757"/>
                </a:cubicBezTo>
                <a:cubicBezTo>
                  <a:pt x="9539" y="11867"/>
                  <a:pt x="9631" y="11926"/>
                  <a:pt x="9723" y="12005"/>
                </a:cubicBezTo>
                <a:cubicBezTo>
                  <a:pt x="9789" y="12061"/>
                  <a:pt x="9811" y="12122"/>
                  <a:pt x="9897" y="12129"/>
                </a:cubicBezTo>
                <a:cubicBezTo>
                  <a:pt x="9943" y="12133"/>
                  <a:pt x="9922" y="11982"/>
                  <a:pt x="9922" y="11956"/>
                </a:cubicBezTo>
              </a:path>
              <a:path w="3995" h="1365">
                <a:moveTo>
                  <a:pt x="9699" y="11832"/>
                </a:moveTo>
                <a:cubicBezTo>
                  <a:pt x="9586" y="11925"/>
                  <a:pt x="9506" y="11996"/>
                  <a:pt x="9376" y="12055"/>
                </a:cubicBezTo>
                <a:cubicBezTo>
                  <a:pt x="9306" y="12087"/>
                  <a:pt x="9257" y="12080"/>
                  <a:pt x="9178" y="12080"/>
                </a:cubicBezTo>
              </a:path>
              <a:path w="3995" h="1365">
                <a:moveTo>
                  <a:pt x="5928" y="12080"/>
                </a:moveTo>
                <a:cubicBezTo>
                  <a:pt x="5951" y="12052"/>
                  <a:pt x="5985" y="11990"/>
                  <a:pt x="6003" y="11981"/>
                </a:cubicBezTo>
                <a:cubicBezTo>
                  <a:pt x="6061" y="11953"/>
                  <a:pt x="6130" y="11952"/>
                  <a:pt x="6201" y="11931"/>
                </a:cubicBezTo>
                <a:cubicBezTo>
                  <a:pt x="6358" y="11884"/>
                  <a:pt x="6514" y="11825"/>
                  <a:pt x="6672" y="11782"/>
                </a:cubicBezTo>
                <a:cubicBezTo>
                  <a:pt x="6839" y="11737"/>
                  <a:pt x="7002" y="11682"/>
                  <a:pt x="7169" y="11633"/>
                </a:cubicBezTo>
                <a:cubicBezTo>
                  <a:pt x="7354" y="11579"/>
                  <a:pt x="7532" y="11499"/>
                  <a:pt x="7714" y="11435"/>
                </a:cubicBezTo>
                <a:cubicBezTo>
                  <a:pt x="7885" y="11374"/>
                  <a:pt x="8073" y="11316"/>
                  <a:pt x="8235" y="11237"/>
                </a:cubicBezTo>
                <a:cubicBezTo>
                  <a:pt x="8381" y="11166"/>
                  <a:pt x="8538" y="11108"/>
                  <a:pt x="8682" y="11038"/>
                </a:cubicBezTo>
                <a:cubicBezTo>
                  <a:pt x="8773" y="10994"/>
                  <a:pt x="8865" y="10937"/>
                  <a:pt x="8954" y="10889"/>
                </a:cubicBezTo>
                <a:cubicBezTo>
                  <a:pt x="8979" y="10875"/>
                  <a:pt x="9067" y="10842"/>
                  <a:pt x="9079" y="10815"/>
                </a:cubicBezTo>
                <a:cubicBezTo>
                  <a:pt x="9097" y="10775"/>
                  <a:pt x="9054" y="10808"/>
                  <a:pt x="9054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249800" y="3490920"/>
            <a:ext cx="1305000" cy="411120"/>
          </a:xfrm>
          <a:custGeom>
            <a:avLst/>
            <a:gdLst/>
            <a:ahLst/>
            <a:rect l="l" t="t" r="r" b="b"/>
            <a:pathLst>
              <a:path w="3623" h="1142">
                <a:moveTo>
                  <a:pt x="11857" y="10641"/>
                </a:moveTo>
                <a:cubicBezTo>
                  <a:pt x="11956" y="10641"/>
                  <a:pt x="12055" y="10641"/>
                  <a:pt x="12154" y="10641"/>
                </a:cubicBezTo>
              </a:path>
              <a:path w="3623" h="1142">
                <a:moveTo>
                  <a:pt x="11807" y="10815"/>
                </a:moveTo>
                <a:cubicBezTo>
                  <a:pt x="11871" y="10839"/>
                  <a:pt x="11912" y="10840"/>
                  <a:pt x="11981" y="10840"/>
                </a:cubicBezTo>
                <a:cubicBezTo>
                  <a:pt x="12030" y="10840"/>
                  <a:pt x="12047" y="10840"/>
                  <a:pt x="12080" y="10840"/>
                </a:cubicBezTo>
              </a:path>
              <a:path w="3623" h="1142">
                <a:moveTo>
                  <a:pt x="13097" y="10220"/>
                </a:moveTo>
                <a:cubicBezTo>
                  <a:pt x="12971" y="10161"/>
                  <a:pt x="12991" y="10168"/>
                  <a:pt x="12874" y="10195"/>
                </a:cubicBezTo>
                <a:cubicBezTo>
                  <a:pt x="12841" y="10203"/>
                  <a:pt x="12770" y="10191"/>
                  <a:pt x="12750" y="10220"/>
                </a:cubicBezTo>
                <a:cubicBezTo>
                  <a:pt x="12731" y="10249"/>
                  <a:pt x="12758" y="10300"/>
                  <a:pt x="12774" y="10319"/>
                </a:cubicBezTo>
                <a:cubicBezTo>
                  <a:pt x="12816" y="10367"/>
                  <a:pt x="12885" y="10400"/>
                  <a:pt x="12923" y="10443"/>
                </a:cubicBezTo>
                <a:cubicBezTo>
                  <a:pt x="12965" y="10492"/>
                  <a:pt x="12967" y="10570"/>
                  <a:pt x="12948" y="10616"/>
                </a:cubicBezTo>
                <a:cubicBezTo>
                  <a:pt x="12920" y="10683"/>
                  <a:pt x="12893" y="10712"/>
                  <a:pt x="12824" y="10716"/>
                </a:cubicBezTo>
                <a:cubicBezTo>
                  <a:pt x="12749" y="10720"/>
                  <a:pt x="12736" y="10682"/>
                  <a:pt x="12675" y="10666"/>
                </a:cubicBezTo>
                <a:cubicBezTo>
                  <a:pt x="12631" y="10654"/>
                  <a:pt x="12584" y="10646"/>
                  <a:pt x="12626" y="10592"/>
                </a:cubicBezTo>
                <a:cubicBezTo>
                  <a:pt x="12634" y="10584"/>
                  <a:pt x="12642" y="10575"/>
                  <a:pt x="12650" y="10567"/>
                </a:cubicBezTo>
              </a:path>
              <a:path w="3623" h="1142">
                <a:moveTo>
                  <a:pt x="13320" y="10294"/>
                </a:moveTo>
                <a:cubicBezTo>
                  <a:pt x="13305" y="10427"/>
                  <a:pt x="13295" y="10536"/>
                  <a:pt x="13295" y="10666"/>
                </a:cubicBezTo>
                <a:cubicBezTo>
                  <a:pt x="13295" y="10703"/>
                  <a:pt x="13295" y="10791"/>
                  <a:pt x="13320" y="10765"/>
                </a:cubicBezTo>
                <a:cubicBezTo>
                  <a:pt x="13349" y="10735"/>
                  <a:pt x="13308" y="10705"/>
                  <a:pt x="13295" y="10666"/>
                </a:cubicBezTo>
                <a:cubicBezTo>
                  <a:pt x="13287" y="10649"/>
                  <a:pt x="13279" y="10633"/>
                  <a:pt x="13271" y="10616"/>
                </a:cubicBezTo>
              </a:path>
              <a:path w="3623" h="1142">
                <a:moveTo>
                  <a:pt x="13419" y="10021"/>
                </a:moveTo>
                <a:cubicBezTo>
                  <a:pt x="13436" y="10013"/>
                  <a:pt x="13452" y="10004"/>
                  <a:pt x="13469" y="9996"/>
                </a:cubicBezTo>
              </a:path>
              <a:path w="3623" h="1142">
                <a:moveTo>
                  <a:pt x="13618" y="10443"/>
                </a:moveTo>
                <a:cubicBezTo>
                  <a:pt x="13603" y="10498"/>
                  <a:pt x="13585" y="10635"/>
                  <a:pt x="13543" y="10691"/>
                </a:cubicBezTo>
                <a:cubicBezTo>
                  <a:pt x="13543" y="10758"/>
                  <a:pt x="13543" y="10652"/>
                  <a:pt x="13543" y="10641"/>
                </a:cubicBezTo>
                <a:cubicBezTo>
                  <a:pt x="13543" y="10577"/>
                  <a:pt x="13584" y="10508"/>
                  <a:pt x="13593" y="10443"/>
                </a:cubicBezTo>
                <a:cubicBezTo>
                  <a:pt x="13603" y="10375"/>
                  <a:pt x="13632" y="10317"/>
                  <a:pt x="13692" y="10269"/>
                </a:cubicBezTo>
                <a:cubicBezTo>
                  <a:pt x="13757" y="10217"/>
                  <a:pt x="13857" y="10201"/>
                  <a:pt x="13940" y="10220"/>
                </a:cubicBezTo>
                <a:cubicBezTo>
                  <a:pt x="14020" y="10238"/>
                  <a:pt x="14041" y="10352"/>
                  <a:pt x="14064" y="10418"/>
                </a:cubicBezTo>
                <a:cubicBezTo>
                  <a:pt x="14098" y="10517"/>
                  <a:pt x="14089" y="10612"/>
                  <a:pt x="14089" y="10716"/>
                </a:cubicBezTo>
                <a:cubicBezTo>
                  <a:pt x="14089" y="10757"/>
                  <a:pt x="14089" y="10831"/>
                  <a:pt x="14089" y="10790"/>
                </a:cubicBezTo>
                <a:cubicBezTo>
                  <a:pt x="14089" y="10733"/>
                  <a:pt x="14107" y="10684"/>
                  <a:pt x="14114" y="10641"/>
                </a:cubicBezTo>
                <a:cubicBezTo>
                  <a:pt x="14114" y="10616"/>
                  <a:pt x="14114" y="10592"/>
                  <a:pt x="14114" y="10567"/>
                </a:cubicBezTo>
              </a:path>
              <a:path w="3623" h="1142">
                <a:moveTo>
                  <a:pt x="14238" y="9798"/>
                </a:moveTo>
                <a:cubicBezTo>
                  <a:pt x="14379" y="9727"/>
                  <a:pt x="14418" y="9706"/>
                  <a:pt x="14560" y="9723"/>
                </a:cubicBezTo>
                <a:cubicBezTo>
                  <a:pt x="14597" y="9727"/>
                  <a:pt x="14598" y="9783"/>
                  <a:pt x="14585" y="9823"/>
                </a:cubicBezTo>
                <a:cubicBezTo>
                  <a:pt x="14558" y="9903"/>
                  <a:pt x="14470" y="9938"/>
                  <a:pt x="14412" y="9996"/>
                </a:cubicBezTo>
                <a:cubicBezTo>
                  <a:pt x="14382" y="10026"/>
                  <a:pt x="14387" y="10031"/>
                  <a:pt x="14387" y="10071"/>
                </a:cubicBezTo>
                <a:cubicBezTo>
                  <a:pt x="14453" y="10071"/>
                  <a:pt x="14519" y="10071"/>
                  <a:pt x="14585" y="10071"/>
                </a:cubicBezTo>
              </a:path>
              <a:path w="3623" h="1142">
                <a:moveTo>
                  <a:pt x="14784" y="10220"/>
                </a:moveTo>
                <a:cubicBezTo>
                  <a:pt x="14839" y="10378"/>
                  <a:pt x="14869" y="10449"/>
                  <a:pt x="14982" y="10567"/>
                </a:cubicBezTo>
                <a:cubicBezTo>
                  <a:pt x="15051" y="10639"/>
                  <a:pt x="15116" y="10694"/>
                  <a:pt x="15205" y="10740"/>
                </a:cubicBezTo>
                <a:cubicBezTo>
                  <a:pt x="15252" y="10765"/>
                  <a:pt x="15350" y="10786"/>
                  <a:pt x="15404" y="10765"/>
                </a:cubicBezTo>
                <a:cubicBezTo>
                  <a:pt x="15412" y="10757"/>
                  <a:pt x="15421" y="10748"/>
                  <a:pt x="15429" y="10740"/>
                </a:cubicBezTo>
              </a:path>
              <a:path w="3623" h="1142">
                <a:moveTo>
                  <a:pt x="15404" y="10368"/>
                </a:moveTo>
                <a:cubicBezTo>
                  <a:pt x="15324" y="10442"/>
                  <a:pt x="15216" y="10559"/>
                  <a:pt x="15131" y="10616"/>
                </a:cubicBezTo>
                <a:cubicBezTo>
                  <a:pt x="15059" y="10664"/>
                  <a:pt x="14982" y="10716"/>
                  <a:pt x="14908" y="10765"/>
                </a:cubicBezTo>
                <a:cubicBezTo>
                  <a:pt x="14867" y="10792"/>
                  <a:pt x="14827" y="10815"/>
                  <a:pt x="14784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009960" y="4705200"/>
            <a:ext cx="1303200" cy="430200"/>
          </a:xfrm>
          <a:custGeom>
            <a:avLst/>
            <a:gdLst/>
            <a:ahLst/>
            <a:rect l="l" t="t" r="r" b="b"/>
            <a:pathLst>
              <a:path w="3623" h="1192">
                <a:moveTo>
                  <a:pt x="8806" y="13519"/>
                </a:moveTo>
                <a:cubicBezTo>
                  <a:pt x="8796" y="13490"/>
                  <a:pt x="8772" y="13474"/>
                  <a:pt x="8731" y="13469"/>
                </a:cubicBezTo>
                <a:cubicBezTo>
                  <a:pt x="8682" y="13464"/>
                  <a:pt x="8631" y="13433"/>
                  <a:pt x="8582" y="13444"/>
                </a:cubicBezTo>
                <a:cubicBezTo>
                  <a:pt x="8557" y="13450"/>
                  <a:pt x="8453" y="13460"/>
                  <a:pt x="8434" y="13469"/>
                </a:cubicBezTo>
                <a:cubicBezTo>
                  <a:pt x="8405" y="13484"/>
                  <a:pt x="8385" y="13499"/>
                  <a:pt x="8359" y="13519"/>
                </a:cubicBezTo>
                <a:cubicBezTo>
                  <a:pt x="8397" y="13568"/>
                  <a:pt x="8403" y="13576"/>
                  <a:pt x="8458" y="13618"/>
                </a:cubicBezTo>
                <a:cubicBezTo>
                  <a:pt x="8512" y="13659"/>
                  <a:pt x="8556" y="13740"/>
                  <a:pt x="8607" y="13791"/>
                </a:cubicBezTo>
                <a:cubicBezTo>
                  <a:pt x="8672" y="13856"/>
                  <a:pt x="8709" y="13957"/>
                  <a:pt x="8756" y="14039"/>
                </a:cubicBezTo>
                <a:cubicBezTo>
                  <a:pt x="8790" y="14099"/>
                  <a:pt x="8818" y="14158"/>
                  <a:pt x="8781" y="14213"/>
                </a:cubicBezTo>
                <a:cubicBezTo>
                  <a:pt x="8759" y="14246"/>
                  <a:pt x="8670" y="14249"/>
                  <a:pt x="8632" y="14238"/>
                </a:cubicBezTo>
                <a:cubicBezTo>
                  <a:pt x="8575" y="14221"/>
                  <a:pt x="8482" y="14191"/>
                  <a:pt x="8434" y="14163"/>
                </a:cubicBezTo>
                <a:cubicBezTo>
                  <a:pt x="8364" y="14122"/>
                  <a:pt x="8385" y="14077"/>
                  <a:pt x="8409" y="14015"/>
                </a:cubicBezTo>
              </a:path>
              <a:path w="3623" h="1192">
                <a:moveTo>
                  <a:pt x="9227" y="13742"/>
                </a:moveTo>
                <a:cubicBezTo>
                  <a:pt x="9227" y="13856"/>
                  <a:pt x="9213" y="13967"/>
                  <a:pt x="9227" y="14064"/>
                </a:cubicBezTo>
                <a:cubicBezTo>
                  <a:pt x="9227" y="14089"/>
                  <a:pt x="9227" y="14097"/>
                  <a:pt x="9227" y="14114"/>
                </a:cubicBezTo>
                <a:cubicBezTo>
                  <a:pt x="9227" y="14156"/>
                  <a:pt x="9227" y="14081"/>
                  <a:pt x="9227" y="14039"/>
                </a:cubicBezTo>
              </a:path>
              <a:path w="3623" h="1192">
                <a:moveTo>
                  <a:pt x="9203" y="13221"/>
                </a:moveTo>
                <a:cubicBezTo>
                  <a:pt x="9285" y="13171"/>
                  <a:pt x="9267" y="13151"/>
                  <a:pt x="9327" y="13196"/>
                </a:cubicBezTo>
              </a:path>
              <a:path w="3623" h="1192">
                <a:moveTo>
                  <a:pt x="9550" y="13717"/>
                </a:moveTo>
                <a:cubicBezTo>
                  <a:pt x="9566" y="13873"/>
                  <a:pt x="9588" y="13963"/>
                  <a:pt x="9550" y="14089"/>
                </a:cubicBezTo>
                <a:cubicBezTo>
                  <a:pt x="9550" y="14114"/>
                  <a:pt x="9550" y="14122"/>
                  <a:pt x="9550" y="14139"/>
                </a:cubicBezTo>
                <a:cubicBezTo>
                  <a:pt x="9550" y="14092"/>
                  <a:pt x="9572" y="14060"/>
                  <a:pt x="9575" y="14015"/>
                </a:cubicBezTo>
                <a:cubicBezTo>
                  <a:pt x="9580" y="13947"/>
                  <a:pt x="9595" y="13878"/>
                  <a:pt x="9624" y="13816"/>
                </a:cubicBezTo>
                <a:cubicBezTo>
                  <a:pt x="9667" y="13725"/>
                  <a:pt x="9690" y="13668"/>
                  <a:pt x="9773" y="13618"/>
                </a:cubicBezTo>
                <a:cubicBezTo>
                  <a:pt x="9844" y="13575"/>
                  <a:pt x="9886" y="13597"/>
                  <a:pt x="9947" y="13643"/>
                </a:cubicBezTo>
                <a:cubicBezTo>
                  <a:pt x="9992" y="13677"/>
                  <a:pt x="10026" y="13765"/>
                  <a:pt x="10046" y="13816"/>
                </a:cubicBezTo>
                <a:cubicBezTo>
                  <a:pt x="10079" y="13899"/>
                  <a:pt x="10071" y="13977"/>
                  <a:pt x="10071" y="14064"/>
                </a:cubicBezTo>
                <a:cubicBezTo>
                  <a:pt x="10071" y="14101"/>
                  <a:pt x="10071" y="14285"/>
                  <a:pt x="10071" y="14238"/>
                </a:cubicBezTo>
                <a:cubicBezTo>
                  <a:pt x="10071" y="14230"/>
                  <a:pt x="10071" y="14221"/>
                  <a:pt x="10071" y="14213"/>
                </a:cubicBezTo>
              </a:path>
              <a:path w="3623" h="1192">
                <a:moveTo>
                  <a:pt x="10195" y="13072"/>
                </a:moveTo>
                <a:cubicBezTo>
                  <a:pt x="10269" y="13091"/>
                  <a:pt x="10276" y="13099"/>
                  <a:pt x="10319" y="13097"/>
                </a:cubicBezTo>
                <a:cubicBezTo>
                  <a:pt x="10319" y="13164"/>
                  <a:pt x="10316" y="13194"/>
                  <a:pt x="10269" y="13246"/>
                </a:cubicBezTo>
                <a:cubicBezTo>
                  <a:pt x="10246" y="13271"/>
                  <a:pt x="10197" y="13303"/>
                  <a:pt x="10220" y="13345"/>
                </a:cubicBezTo>
                <a:cubicBezTo>
                  <a:pt x="10244" y="13390"/>
                  <a:pt x="10349" y="13413"/>
                  <a:pt x="10393" y="13419"/>
                </a:cubicBezTo>
                <a:cubicBezTo>
                  <a:pt x="10461" y="13419"/>
                  <a:pt x="10480" y="13416"/>
                  <a:pt x="10517" y="13444"/>
                </a:cubicBezTo>
              </a:path>
              <a:path w="3623" h="1192">
                <a:moveTo>
                  <a:pt x="10691" y="13643"/>
                </a:moveTo>
                <a:cubicBezTo>
                  <a:pt x="10750" y="13783"/>
                  <a:pt x="10793" y="13915"/>
                  <a:pt x="10914" y="14015"/>
                </a:cubicBezTo>
                <a:cubicBezTo>
                  <a:pt x="10978" y="14068"/>
                  <a:pt x="11100" y="14179"/>
                  <a:pt x="11187" y="14188"/>
                </a:cubicBezTo>
                <a:cubicBezTo>
                  <a:pt x="11217" y="14158"/>
                  <a:pt x="11231" y="14147"/>
                  <a:pt x="11261" y="14139"/>
                </a:cubicBezTo>
              </a:path>
              <a:path w="3623" h="1192">
                <a:moveTo>
                  <a:pt x="11137" y="13618"/>
                </a:moveTo>
                <a:cubicBezTo>
                  <a:pt x="11017" y="13738"/>
                  <a:pt x="10888" y="13852"/>
                  <a:pt x="10790" y="13990"/>
                </a:cubicBezTo>
                <a:cubicBezTo>
                  <a:pt x="10749" y="14048"/>
                  <a:pt x="10625" y="14165"/>
                  <a:pt x="10616" y="14238"/>
                </a:cubicBezTo>
                <a:cubicBezTo>
                  <a:pt x="10641" y="14263"/>
                  <a:pt x="10649" y="14271"/>
                  <a:pt x="10666" y="14238"/>
                </a:cubicBezTo>
              </a:path>
              <a:path w="3623" h="1192">
                <a:moveTo>
                  <a:pt x="11683" y="13767"/>
                </a:moveTo>
                <a:cubicBezTo>
                  <a:pt x="11839" y="13728"/>
                  <a:pt x="11862" y="13711"/>
                  <a:pt x="11956" y="13717"/>
                </a:cubicBezTo>
              </a:path>
              <a:path w="3623" h="1192">
                <a:moveTo>
                  <a:pt x="11708" y="13841"/>
                </a:moveTo>
                <a:cubicBezTo>
                  <a:pt x="11865" y="13861"/>
                  <a:pt x="11889" y="13869"/>
                  <a:pt x="11981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545000" y="4697280"/>
            <a:ext cx="992160" cy="473040"/>
          </a:xfrm>
          <a:custGeom>
            <a:avLst/>
            <a:gdLst/>
            <a:ahLst/>
            <a:rect l="l" t="t" r="r" b="b"/>
            <a:pathLst>
              <a:path w="2754" h="1316">
                <a:moveTo>
                  <a:pt x="12973" y="13444"/>
                </a:moveTo>
                <a:cubicBezTo>
                  <a:pt x="12920" y="13392"/>
                  <a:pt x="12899" y="13395"/>
                  <a:pt x="12824" y="13395"/>
                </a:cubicBezTo>
                <a:cubicBezTo>
                  <a:pt x="12767" y="13395"/>
                  <a:pt x="12692" y="13410"/>
                  <a:pt x="12650" y="13444"/>
                </a:cubicBezTo>
                <a:cubicBezTo>
                  <a:pt x="12589" y="13494"/>
                  <a:pt x="12646" y="13524"/>
                  <a:pt x="12675" y="13568"/>
                </a:cubicBezTo>
                <a:cubicBezTo>
                  <a:pt x="12726" y="13648"/>
                  <a:pt x="12792" y="13715"/>
                  <a:pt x="12849" y="13791"/>
                </a:cubicBezTo>
                <a:cubicBezTo>
                  <a:pt x="12910" y="13873"/>
                  <a:pt x="12923" y="13917"/>
                  <a:pt x="12923" y="14015"/>
                </a:cubicBezTo>
                <a:cubicBezTo>
                  <a:pt x="12923" y="14081"/>
                  <a:pt x="12821" y="14064"/>
                  <a:pt x="12774" y="14064"/>
                </a:cubicBezTo>
                <a:cubicBezTo>
                  <a:pt x="12698" y="14064"/>
                  <a:pt x="12642" y="14007"/>
                  <a:pt x="12626" y="13940"/>
                </a:cubicBezTo>
              </a:path>
              <a:path w="2754" h="1316">
                <a:moveTo>
                  <a:pt x="13320" y="13667"/>
                </a:moveTo>
                <a:cubicBezTo>
                  <a:pt x="13320" y="13699"/>
                  <a:pt x="13354" y="14045"/>
                  <a:pt x="13345" y="14064"/>
                </a:cubicBezTo>
                <a:cubicBezTo>
                  <a:pt x="13337" y="14064"/>
                  <a:pt x="13328" y="14064"/>
                  <a:pt x="13320" y="14064"/>
                </a:cubicBezTo>
                <a:cubicBezTo>
                  <a:pt x="13320" y="13967"/>
                  <a:pt x="13319" y="13885"/>
                  <a:pt x="13295" y="13791"/>
                </a:cubicBezTo>
              </a:path>
              <a:path w="2754" h="1316">
                <a:moveTo>
                  <a:pt x="13370" y="13271"/>
                </a:moveTo>
                <a:cubicBezTo>
                  <a:pt x="13386" y="13263"/>
                  <a:pt x="13403" y="13254"/>
                  <a:pt x="13419" y="13246"/>
                </a:cubicBezTo>
              </a:path>
              <a:path w="2754" h="1316">
                <a:moveTo>
                  <a:pt x="13519" y="13742"/>
                </a:moveTo>
                <a:cubicBezTo>
                  <a:pt x="13529" y="13857"/>
                  <a:pt x="13521" y="14004"/>
                  <a:pt x="13568" y="14114"/>
                </a:cubicBezTo>
                <a:cubicBezTo>
                  <a:pt x="13578" y="14037"/>
                  <a:pt x="13607" y="13969"/>
                  <a:pt x="13618" y="13891"/>
                </a:cubicBezTo>
                <a:cubicBezTo>
                  <a:pt x="13630" y="13810"/>
                  <a:pt x="13648" y="13739"/>
                  <a:pt x="13692" y="13667"/>
                </a:cubicBezTo>
                <a:cubicBezTo>
                  <a:pt x="13733" y="13600"/>
                  <a:pt x="13784" y="13569"/>
                  <a:pt x="13866" y="13593"/>
                </a:cubicBezTo>
                <a:cubicBezTo>
                  <a:pt x="13949" y="13618"/>
                  <a:pt x="14002" y="13710"/>
                  <a:pt x="14015" y="13791"/>
                </a:cubicBezTo>
                <a:cubicBezTo>
                  <a:pt x="14029" y="13884"/>
                  <a:pt x="14039" y="13967"/>
                  <a:pt x="14039" y="14064"/>
                </a:cubicBezTo>
                <a:cubicBezTo>
                  <a:pt x="14039" y="14112"/>
                  <a:pt x="14061" y="14250"/>
                  <a:pt x="14089" y="14288"/>
                </a:cubicBezTo>
                <a:cubicBezTo>
                  <a:pt x="14119" y="14328"/>
                  <a:pt x="14114" y="14213"/>
                  <a:pt x="14114" y="14163"/>
                </a:cubicBezTo>
              </a:path>
              <a:path w="2754" h="1316">
                <a:moveTo>
                  <a:pt x="14163" y="13047"/>
                </a:moveTo>
                <a:cubicBezTo>
                  <a:pt x="14218" y="13050"/>
                  <a:pt x="14405" y="13035"/>
                  <a:pt x="14436" y="13122"/>
                </a:cubicBezTo>
                <a:cubicBezTo>
                  <a:pt x="14453" y="13171"/>
                  <a:pt x="14427" y="13220"/>
                  <a:pt x="14387" y="13246"/>
                </a:cubicBezTo>
                <a:cubicBezTo>
                  <a:pt x="14340" y="13276"/>
                  <a:pt x="14281" y="13297"/>
                  <a:pt x="14312" y="13370"/>
                </a:cubicBezTo>
                <a:cubicBezTo>
                  <a:pt x="14327" y="13405"/>
                  <a:pt x="14374" y="13459"/>
                  <a:pt x="14412" y="13469"/>
                </a:cubicBezTo>
                <a:cubicBezTo>
                  <a:pt x="14493" y="13491"/>
                  <a:pt x="14579" y="13498"/>
                  <a:pt x="14660" y="13469"/>
                </a:cubicBezTo>
                <a:cubicBezTo>
                  <a:pt x="14676" y="13461"/>
                  <a:pt x="14693" y="13452"/>
                  <a:pt x="14709" y="13444"/>
                </a:cubicBezTo>
              </a:path>
              <a:path w="2754" h="1316">
                <a:moveTo>
                  <a:pt x="14833" y="13568"/>
                </a:moveTo>
                <a:cubicBezTo>
                  <a:pt x="14904" y="13728"/>
                  <a:pt x="14965" y="13882"/>
                  <a:pt x="15081" y="14015"/>
                </a:cubicBezTo>
                <a:cubicBezTo>
                  <a:pt x="15180" y="14129"/>
                  <a:pt x="15258" y="14233"/>
                  <a:pt x="15379" y="14312"/>
                </a:cubicBezTo>
              </a:path>
              <a:path w="2754" h="1316">
                <a:moveTo>
                  <a:pt x="15180" y="13593"/>
                </a:moveTo>
                <a:cubicBezTo>
                  <a:pt x="15037" y="13724"/>
                  <a:pt x="14859" y="13869"/>
                  <a:pt x="14759" y="14039"/>
                </a:cubicBezTo>
                <a:cubicBezTo>
                  <a:pt x="14718" y="14108"/>
                  <a:pt x="14660" y="14208"/>
                  <a:pt x="14635" y="14288"/>
                </a:cubicBezTo>
                <a:cubicBezTo>
                  <a:pt x="14624" y="14324"/>
                  <a:pt x="14641" y="14337"/>
                  <a:pt x="14660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742000" y="4537080"/>
            <a:ext cx="349200" cy="660240"/>
          </a:xfrm>
          <a:custGeom>
            <a:avLst/>
            <a:gdLst/>
            <a:ahLst/>
            <a:rect l="l" t="t" r="r" b="b"/>
            <a:pathLst>
              <a:path w="969" h="1836">
                <a:moveTo>
                  <a:pt x="15949" y="13915"/>
                </a:moveTo>
                <a:cubicBezTo>
                  <a:pt x="16017" y="14042"/>
                  <a:pt x="16081" y="14200"/>
                  <a:pt x="16173" y="14312"/>
                </a:cubicBezTo>
                <a:cubicBezTo>
                  <a:pt x="16208" y="14354"/>
                  <a:pt x="16240" y="14393"/>
                  <a:pt x="16272" y="14436"/>
                </a:cubicBezTo>
                <a:cubicBezTo>
                  <a:pt x="16312" y="14406"/>
                  <a:pt x="16352" y="14404"/>
                  <a:pt x="16371" y="14337"/>
                </a:cubicBezTo>
                <a:cubicBezTo>
                  <a:pt x="16399" y="14236"/>
                  <a:pt x="16435" y="14140"/>
                  <a:pt x="16470" y="14039"/>
                </a:cubicBezTo>
                <a:cubicBezTo>
                  <a:pt x="16518" y="13899"/>
                  <a:pt x="16569" y="13758"/>
                  <a:pt x="16619" y="13618"/>
                </a:cubicBezTo>
                <a:cubicBezTo>
                  <a:pt x="16698" y="13398"/>
                  <a:pt x="16814" y="13194"/>
                  <a:pt x="16892" y="12973"/>
                </a:cubicBezTo>
                <a:cubicBezTo>
                  <a:pt x="16920" y="12894"/>
                  <a:pt x="16917" y="12832"/>
                  <a:pt x="16917" y="12750"/>
                </a:cubicBezTo>
                <a:cubicBezTo>
                  <a:pt x="16917" y="12683"/>
                  <a:pt x="16866" y="12670"/>
                  <a:pt x="16818" y="12626"/>
                </a:cubicBezTo>
                <a:cubicBezTo>
                  <a:pt x="16810" y="12618"/>
                  <a:pt x="16801" y="12609"/>
                  <a:pt x="16793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465200" y="3295800"/>
            <a:ext cx="106560" cy="544320"/>
          </a:xfrm>
          <a:custGeom>
            <a:avLst/>
            <a:gdLst/>
            <a:ahLst/>
            <a:rect l="l" t="t" r="r" b="b"/>
            <a:pathLst>
              <a:path w="299" h="1514">
                <a:moveTo>
                  <a:pt x="4291" y="9153"/>
                </a:moveTo>
                <a:cubicBezTo>
                  <a:pt x="4258" y="9203"/>
                  <a:pt x="4235" y="9264"/>
                  <a:pt x="4217" y="9327"/>
                </a:cubicBezTo>
                <a:cubicBezTo>
                  <a:pt x="4179" y="9457"/>
                  <a:pt x="4109" y="9554"/>
                  <a:pt x="4093" y="9699"/>
                </a:cubicBezTo>
                <a:cubicBezTo>
                  <a:pt x="4078" y="9839"/>
                  <a:pt x="4068" y="9978"/>
                  <a:pt x="4068" y="10120"/>
                </a:cubicBezTo>
                <a:cubicBezTo>
                  <a:pt x="4068" y="10315"/>
                  <a:pt x="4116" y="10411"/>
                  <a:pt x="4242" y="10567"/>
                </a:cubicBezTo>
                <a:cubicBezTo>
                  <a:pt x="4296" y="10621"/>
                  <a:pt x="4318" y="10641"/>
                  <a:pt x="4366" y="106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509920" y="3214800"/>
            <a:ext cx="455400" cy="590400"/>
          </a:xfrm>
          <a:custGeom>
            <a:avLst/>
            <a:gdLst/>
            <a:ahLst/>
            <a:rect l="l" t="t" r="r" b="b"/>
            <a:pathLst>
              <a:path w="1266" h="1638">
                <a:moveTo>
                  <a:pt x="6970" y="8930"/>
                </a:moveTo>
                <a:cubicBezTo>
                  <a:pt x="7103" y="8963"/>
                  <a:pt x="7060" y="8970"/>
                  <a:pt x="7144" y="9079"/>
                </a:cubicBezTo>
                <a:cubicBezTo>
                  <a:pt x="7241" y="9206"/>
                  <a:pt x="7296" y="9329"/>
                  <a:pt x="7367" y="9475"/>
                </a:cubicBezTo>
                <a:cubicBezTo>
                  <a:pt x="7450" y="9646"/>
                  <a:pt x="7476" y="9821"/>
                  <a:pt x="7541" y="9996"/>
                </a:cubicBezTo>
                <a:cubicBezTo>
                  <a:pt x="7592" y="10134"/>
                  <a:pt x="7615" y="10219"/>
                  <a:pt x="7615" y="10368"/>
                </a:cubicBezTo>
                <a:cubicBezTo>
                  <a:pt x="7615" y="10468"/>
                  <a:pt x="7558" y="10492"/>
                  <a:pt x="7491" y="10542"/>
                </a:cubicBezTo>
                <a:cubicBezTo>
                  <a:pt x="7452" y="10571"/>
                  <a:pt x="7394" y="10580"/>
                  <a:pt x="7342" y="10567"/>
                </a:cubicBezTo>
                <a:cubicBezTo>
                  <a:pt x="7314" y="10567"/>
                  <a:pt x="7303" y="10565"/>
                  <a:pt x="7293" y="10542"/>
                </a:cubicBezTo>
              </a:path>
              <a:path w="1266" h="1638">
                <a:moveTo>
                  <a:pt x="8012" y="9227"/>
                </a:moveTo>
                <a:cubicBezTo>
                  <a:pt x="7928" y="9355"/>
                  <a:pt x="7893" y="9439"/>
                  <a:pt x="7838" y="9575"/>
                </a:cubicBezTo>
                <a:cubicBezTo>
                  <a:pt x="7783" y="9712"/>
                  <a:pt x="7743" y="9822"/>
                  <a:pt x="7739" y="9971"/>
                </a:cubicBezTo>
                <a:cubicBezTo>
                  <a:pt x="7736" y="10085"/>
                  <a:pt x="7768" y="10200"/>
                  <a:pt x="7838" y="10294"/>
                </a:cubicBezTo>
                <a:cubicBezTo>
                  <a:pt x="7968" y="10468"/>
                  <a:pt x="8038" y="10492"/>
                  <a:pt x="8235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938760" y="3276720"/>
            <a:ext cx="79200" cy="420480"/>
          </a:xfrm>
          <a:custGeom>
            <a:avLst/>
            <a:gdLst/>
            <a:ahLst/>
            <a:rect l="l" t="t" r="r" b="b"/>
            <a:pathLst>
              <a:path w="224" h="1167">
                <a:moveTo>
                  <a:pt x="10939" y="9103"/>
                </a:moveTo>
                <a:cubicBezTo>
                  <a:pt x="11073" y="9259"/>
                  <a:pt x="11098" y="9373"/>
                  <a:pt x="11137" y="9575"/>
                </a:cubicBezTo>
                <a:cubicBezTo>
                  <a:pt x="11165" y="9720"/>
                  <a:pt x="11142" y="9828"/>
                  <a:pt x="11137" y="9971"/>
                </a:cubicBezTo>
                <a:cubicBezTo>
                  <a:pt x="11134" y="10053"/>
                  <a:pt x="11111" y="10125"/>
                  <a:pt x="11063" y="10195"/>
                </a:cubicBezTo>
                <a:cubicBezTo>
                  <a:pt x="11036" y="10233"/>
                  <a:pt x="10979" y="10249"/>
                  <a:pt x="10939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3848040"/>
            <a:ext cx="2322360" cy="46080"/>
          </a:xfrm>
          <a:custGeom>
            <a:avLst/>
            <a:gdLst/>
            <a:ahLst/>
            <a:rect l="l" t="t" r="r" b="b"/>
            <a:pathLst>
              <a:path w="6450" h="125">
                <a:moveTo>
                  <a:pt x="4564" y="10691"/>
                </a:moveTo>
                <a:cubicBezTo>
                  <a:pt x="5377" y="10691"/>
                  <a:pt x="6184" y="10716"/>
                  <a:pt x="6995" y="10716"/>
                </a:cubicBezTo>
                <a:cubicBezTo>
                  <a:pt x="7211" y="10716"/>
                  <a:pt x="7424" y="10740"/>
                  <a:pt x="7640" y="10740"/>
                </a:cubicBezTo>
                <a:cubicBezTo>
                  <a:pt x="7824" y="10740"/>
                  <a:pt x="8001" y="10765"/>
                  <a:pt x="8186" y="10765"/>
                </a:cubicBezTo>
                <a:cubicBezTo>
                  <a:pt x="8609" y="10765"/>
                  <a:pt x="9031" y="10766"/>
                  <a:pt x="9451" y="10790"/>
                </a:cubicBezTo>
                <a:cubicBezTo>
                  <a:pt x="9715" y="10805"/>
                  <a:pt x="9981" y="10797"/>
                  <a:pt x="10244" y="10815"/>
                </a:cubicBezTo>
                <a:cubicBezTo>
                  <a:pt x="10483" y="10831"/>
                  <a:pt x="10734" y="10813"/>
                  <a:pt x="10964" y="10790"/>
                </a:cubicBezTo>
                <a:cubicBezTo>
                  <a:pt x="10988" y="10790"/>
                  <a:pt x="10997" y="10790"/>
                  <a:pt x="11013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esting solutions to trigonometric equations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2sinx –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2160720"/>
            <a:ext cx="1285920" cy="804600"/>
          </a:xfrm>
          <a:custGeom>
            <a:avLst/>
            <a:gdLst/>
            <a:ahLst/>
            <a:rect l="l" t="t" r="r" b="b"/>
            <a:pathLst>
              <a:path w="3573" h="2233">
                <a:moveTo>
                  <a:pt x="1687" y="8210"/>
                </a:moveTo>
                <a:cubicBezTo>
                  <a:pt x="1735" y="8162"/>
                  <a:pt x="1789" y="8100"/>
                  <a:pt x="1836" y="8062"/>
                </a:cubicBezTo>
                <a:cubicBezTo>
                  <a:pt x="1965" y="7957"/>
                  <a:pt x="2107" y="7871"/>
                  <a:pt x="2232" y="7764"/>
                </a:cubicBezTo>
                <a:cubicBezTo>
                  <a:pt x="2389" y="7630"/>
                  <a:pt x="2559" y="7512"/>
                  <a:pt x="2729" y="7392"/>
                </a:cubicBezTo>
                <a:cubicBezTo>
                  <a:pt x="2988" y="7210"/>
                  <a:pt x="3251" y="7033"/>
                  <a:pt x="3522" y="6871"/>
                </a:cubicBezTo>
                <a:cubicBezTo>
                  <a:pt x="3720" y="6753"/>
                  <a:pt x="3915" y="6632"/>
                  <a:pt x="4118" y="6524"/>
                </a:cubicBezTo>
                <a:cubicBezTo>
                  <a:pt x="4256" y="6451"/>
                  <a:pt x="4395" y="6375"/>
                  <a:pt x="4514" y="6276"/>
                </a:cubicBezTo>
                <a:cubicBezTo>
                  <a:pt x="4564" y="6234"/>
                  <a:pt x="4672" y="6139"/>
                  <a:pt x="4688" y="6077"/>
                </a:cubicBezTo>
                <a:cubicBezTo>
                  <a:pt x="4704" y="6014"/>
                  <a:pt x="4665" y="6007"/>
                  <a:pt x="4614" y="6003"/>
                </a:cubicBezTo>
                <a:cubicBezTo>
                  <a:pt x="4606" y="6011"/>
                  <a:pt x="4597" y="6020"/>
                  <a:pt x="4589" y="6028"/>
                </a:cubicBezTo>
              </a:path>
              <a:path w="3573" h="2233">
                <a:moveTo>
                  <a:pt x="2232" y="6350"/>
                </a:moveTo>
                <a:cubicBezTo>
                  <a:pt x="2300" y="6394"/>
                  <a:pt x="2362" y="6434"/>
                  <a:pt x="2431" y="6474"/>
                </a:cubicBezTo>
                <a:cubicBezTo>
                  <a:pt x="2551" y="6543"/>
                  <a:pt x="2698" y="6642"/>
                  <a:pt x="2803" y="6722"/>
                </a:cubicBezTo>
                <a:cubicBezTo>
                  <a:pt x="2958" y="6840"/>
                  <a:pt x="3101" y="6972"/>
                  <a:pt x="3274" y="7069"/>
                </a:cubicBezTo>
                <a:cubicBezTo>
                  <a:pt x="3479" y="7184"/>
                  <a:pt x="3674" y="7309"/>
                  <a:pt x="3870" y="7441"/>
                </a:cubicBezTo>
                <a:cubicBezTo>
                  <a:pt x="4058" y="7567"/>
                  <a:pt x="4248" y="7693"/>
                  <a:pt x="4440" y="7813"/>
                </a:cubicBezTo>
                <a:cubicBezTo>
                  <a:pt x="4591" y="7908"/>
                  <a:pt x="4757" y="7971"/>
                  <a:pt x="4911" y="8062"/>
                </a:cubicBezTo>
                <a:cubicBezTo>
                  <a:pt x="4995" y="8112"/>
                  <a:pt x="5073" y="8167"/>
                  <a:pt x="5159" y="8210"/>
                </a:cubicBezTo>
                <a:cubicBezTo>
                  <a:pt x="5243" y="8252"/>
                  <a:pt x="5294" y="8228"/>
                  <a:pt x="5184" y="8235"/>
                </a:cubicBezTo>
                <a:cubicBezTo>
                  <a:pt x="5168" y="8235"/>
                  <a:pt x="5151" y="8235"/>
                  <a:pt x="5135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33240" y="4205160"/>
            <a:ext cx="1393920" cy="617760"/>
          </a:xfrm>
          <a:custGeom>
            <a:avLst/>
            <a:gdLst/>
            <a:ahLst/>
            <a:rect l="l" t="t" r="r" b="b"/>
            <a:pathLst>
              <a:path w="3871" h="1713">
                <a:moveTo>
                  <a:pt x="1761" y="13221"/>
                </a:moveTo>
                <a:cubicBezTo>
                  <a:pt x="1840" y="13195"/>
                  <a:pt x="1926" y="13167"/>
                  <a:pt x="2009" y="13146"/>
                </a:cubicBezTo>
                <a:cubicBezTo>
                  <a:pt x="2227" y="13091"/>
                  <a:pt x="2444" y="13005"/>
                  <a:pt x="2654" y="12923"/>
                </a:cubicBezTo>
                <a:cubicBezTo>
                  <a:pt x="2895" y="12829"/>
                  <a:pt x="3149" y="12748"/>
                  <a:pt x="3398" y="12675"/>
                </a:cubicBezTo>
                <a:cubicBezTo>
                  <a:pt x="3657" y="12599"/>
                  <a:pt x="3910" y="12509"/>
                  <a:pt x="4167" y="12427"/>
                </a:cubicBezTo>
                <a:cubicBezTo>
                  <a:pt x="4374" y="12361"/>
                  <a:pt x="4582" y="12296"/>
                  <a:pt x="4787" y="12229"/>
                </a:cubicBezTo>
                <a:cubicBezTo>
                  <a:pt x="4918" y="12186"/>
                  <a:pt x="5040" y="12119"/>
                  <a:pt x="5159" y="12055"/>
                </a:cubicBezTo>
                <a:cubicBezTo>
                  <a:pt x="5255" y="12004"/>
                  <a:pt x="5299" y="12025"/>
                  <a:pt x="5283" y="11956"/>
                </a:cubicBezTo>
                <a:cubicBezTo>
                  <a:pt x="5267" y="11948"/>
                  <a:pt x="5250" y="11939"/>
                  <a:pt x="5234" y="11931"/>
                </a:cubicBezTo>
              </a:path>
              <a:path w="3871" h="1713">
                <a:moveTo>
                  <a:pt x="1984" y="11683"/>
                </a:moveTo>
                <a:cubicBezTo>
                  <a:pt x="2214" y="11798"/>
                  <a:pt x="2439" y="11913"/>
                  <a:pt x="2679" y="12005"/>
                </a:cubicBezTo>
                <a:cubicBezTo>
                  <a:pt x="2880" y="12082"/>
                  <a:pt x="3077" y="12169"/>
                  <a:pt x="3274" y="12254"/>
                </a:cubicBezTo>
                <a:cubicBezTo>
                  <a:pt x="3536" y="12367"/>
                  <a:pt x="3784" y="12506"/>
                  <a:pt x="4043" y="12626"/>
                </a:cubicBezTo>
                <a:cubicBezTo>
                  <a:pt x="4284" y="12738"/>
                  <a:pt x="4527" y="12850"/>
                  <a:pt x="4762" y="12973"/>
                </a:cubicBezTo>
                <a:cubicBezTo>
                  <a:pt x="4945" y="13069"/>
                  <a:pt x="5127" y="13173"/>
                  <a:pt x="5308" y="13271"/>
                </a:cubicBezTo>
                <a:cubicBezTo>
                  <a:pt x="5356" y="13297"/>
                  <a:pt x="5550" y="13423"/>
                  <a:pt x="5606" y="13395"/>
                </a:cubicBezTo>
                <a:cubicBezTo>
                  <a:pt x="5659" y="13369"/>
                  <a:pt x="5581" y="13361"/>
                  <a:pt x="5556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4cos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009960" y="2062080"/>
            <a:ext cx="295200" cy="509760"/>
          </a:xfrm>
          <a:custGeom>
            <a:avLst/>
            <a:gdLst/>
            <a:ahLst/>
            <a:rect l="l" t="t" r="r" b="b"/>
            <a:pathLst>
              <a:path w="820" h="1415">
                <a:moveTo>
                  <a:pt x="8533" y="5829"/>
                </a:moveTo>
                <a:cubicBezTo>
                  <a:pt x="8533" y="5911"/>
                  <a:pt x="8526" y="5974"/>
                  <a:pt x="8508" y="6052"/>
                </a:cubicBezTo>
                <a:cubicBezTo>
                  <a:pt x="8494" y="6110"/>
                  <a:pt x="8471" y="6168"/>
                  <a:pt x="8458" y="6226"/>
                </a:cubicBezTo>
                <a:cubicBezTo>
                  <a:pt x="8446" y="6278"/>
                  <a:pt x="8430" y="6323"/>
                  <a:pt x="8409" y="6375"/>
                </a:cubicBezTo>
                <a:cubicBezTo>
                  <a:pt x="8389" y="6425"/>
                  <a:pt x="8413" y="6524"/>
                  <a:pt x="8359" y="6524"/>
                </a:cubicBezTo>
                <a:cubicBezTo>
                  <a:pt x="8326" y="6524"/>
                  <a:pt x="8376" y="6478"/>
                  <a:pt x="8409" y="6474"/>
                </a:cubicBezTo>
                <a:cubicBezTo>
                  <a:pt x="8445" y="6470"/>
                  <a:pt x="8465" y="6499"/>
                  <a:pt x="8508" y="6499"/>
                </a:cubicBezTo>
                <a:cubicBezTo>
                  <a:pt x="8571" y="6499"/>
                  <a:pt x="8598" y="6520"/>
                  <a:pt x="8657" y="6524"/>
                </a:cubicBezTo>
                <a:cubicBezTo>
                  <a:pt x="8760" y="6530"/>
                  <a:pt x="8866" y="6517"/>
                  <a:pt x="8954" y="6499"/>
                </a:cubicBezTo>
                <a:cubicBezTo>
                  <a:pt x="9020" y="6486"/>
                  <a:pt x="9071" y="6493"/>
                  <a:pt x="9128" y="6474"/>
                </a:cubicBezTo>
                <a:cubicBezTo>
                  <a:pt x="9163" y="6474"/>
                  <a:pt x="9176" y="6465"/>
                  <a:pt x="9178" y="6424"/>
                </a:cubicBezTo>
              </a:path>
              <a:path w="820" h="1415">
                <a:moveTo>
                  <a:pt x="9128" y="5730"/>
                </a:moveTo>
                <a:cubicBezTo>
                  <a:pt x="9128" y="5786"/>
                  <a:pt x="9110" y="5828"/>
                  <a:pt x="9103" y="5879"/>
                </a:cubicBezTo>
                <a:cubicBezTo>
                  <a:pt x="9085" y="6015"/>
                  <a:pt x="9091" y="6166"/>
                  <a:pt x="9079" y="6300"/>
                </a:cubicBezTo>
                <a:cubicBezTo>
                  <a:pt x="9068" y="6424"/>
                  <a:pt x="9058" y="6549"/>
                  <a:pt x="9054" y="6672"/>
                </a:cubicBezTo>
                <a:cubicBezTo>
                  <a:pt x="9051" y="6774"/>
                  <a:pt x="9029" y="6865"/>
                  <a:pt x="9029" y="6970"/>
                </a:cubicBezTo>
                <a:cubicBezTo>
                  <a:pt x="9029" y="6979"/>
                  <a:pt x="9029" y="7177"/>
                  <a:pt x="9054" y="7144"/>
                </a:cubicBezTo>
                <a:cubicBezTo>
                  <a:pt x="9054" y="7136"/>
                  <a:pt x="9054" y="7127"/>
                  <a:pt x="9054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839960"/>
            <a:ext cx="3946680" cy="822240"/>
          </a:xfrm>
          <a:custGeom>
            <a:avLst/>
            <a:gdLst/>
            <a:ahLst/>
            <a:rect l="l" t="t" r="r" b="b"/>
            <a:pathLst>
              <a:path w="10964" h="2283">
                <a:moveTo>
                  <a:pt x="10368" y="6499"/>
                </a:moveTo>
                <a:cubicBezTo>
                  <a:pt x="10368" y="6507"/>
                  <a:pt x="10368" y="6516"/>
                  <a:pt x="10368" y="6524"/>
                </a:cubicBezTo>
                <a:cubicBezTo>
                  <a:pt x="10394" y="6511"/>
                  <a:pt x="10362" y="6468"/>
                  <a:pt x="10319" y="6449"/>
                </a:cubicBezTo>
                <a:cubicBezTo>
                  <a:pt x="10256" y="6421"/>
                  <a:pt x="10266" y="6431"/>
                  <a:pt x="10195" y="6449"/>
                </a:cubicBezTo>
                <a:cubicBezTo>
                  <a:pt x="10150" y="6460"/>
                  <a:pt x="10130" y="6490"/>
                  <a:pt x="10096" y="6524"/>
                </a:cubicBezTo>
                <a:cubicBezTo>
                  <a:pt x="10054" y="6566"/>
                  <a:pt x="10015" y="6640"/>
                  <a:pt x="9996" y="6697"/>
                </a:cubicBezTo>
                <a:cubicBezTo>
                  <a:pt x="9960" y="6808"/>
                  <a:pt x="9948" y="6842"/>
                  <a:pt x="9971" y="6945"/>
                </a:cubicBezTo>
                <a:cubicBezTo>
                  <a:pt x="9982" y="6994"/>
                  <a:pt x="9999" y="7039"/>
                  <a:pt x="10046" y="7069"/>
                </a:cubicBezTo>
                <a:cubicBezTo>
                  <a:pt x="10076" y="7088"/>
                  <a:pt x="10187" y="7128"/>
                  <a:pt x="10220" y="7119"/>
                </a:cubicBezTo>
                <a:cubicBezTo>
                  <a:pt x="10282" y="7102"/>
                  <a:pt x="10343" y="7090"/>
                  <a:pt x="10393" y="7045"/>
                </a:cubicBezTo>
                <a:cubicBezTo>
                  <a:pt x="10401" y="7037"/>
                  <a:pt x="10410" y="7028"/>
                  <a:pt x="10418" y="7020"/>
                </a:cubicBezTo>
              </a:path>
              <a:path w="10964" h="2283">
                <a:moveTo>
                  <a:pt x="10740" y="6598"/>
                </a:moveTo>
                <a:cubicBezTo>
                  <a:pt x="10732" y="6655"/>
                  <a:pt x="10710" y="6716"/>
                  <a:pt x="10691" y="6772"/>
                </a:cubicBezTo>
                <a:cubicBezTo>
                  <a:pt x="10668" y="6841"/>
                  <a:pt x="10619" y="6891"/>
                  <a:pt x="10641" y="6970"/>
                </a:cubicBezTo>
                <a:cubicBezTo>
                  <a:pt x="10658" y="7030"/>
                  <a:pt x="10676" y="7073"/>
                  <a:pt x="10740" y="7094"/>
                </a:cubicBezTo>
                <a:cubicBezTo>
                  <a:pt x="10785" y="7109"/>
                  <a:pt x="10878" y="7099"/>
                  <a:pt x="10914" y="7069"/>
                </a:cubicBezTo>
                <a:cubicBezTo>
                  <a:pt x="11019" y="6980"/>
                  <a:pt x="11123" y="6887"/>
                  <a:pt x="11137" y="6747"/>
                </a:cubicBezTo>
                <a:cubicBezTo>
                  <a:pt x="11144" y="6675"/>
                  <a:pt x="11130" y="6630"/>
                  <a:pt x="11088" y="6573"/>
                </a:cubicBezTo>
                <a:cubicBezTo>
                  <a:pt x="11052" y="6524"/>
                  <a:pt x="11021" y="6504"/>
                  <a:pt x="10964" y="6499"/>
                </a:cubicBezTo>
                <a:cubicBezTo>
                  <a:pt x="10912" y="6495"/>
                  <a:pt x="10881" y="6512"/>
                  <a:pt x="10840" y="6524"/>
                </a:cubicBezTo>
                <a:cubicBezTo>
                  <a:pt x="10818" y="6531"/>
                  <a:pt x="10795" y="6563"/>
                  <a:pt x="10815" y="6598"/>
                </a:cubicBezTo>
                <a:cubicBezTo>
                  <a:pt x="10823" y="6606"/>
                  <a:pt x="10832" y="6615"/>
                  <a:pt x="10840" y="6623"/>
                </a:cubicBezTo>
              </a:path>
              <a:path w="10964" h="2283">
                <a:moveTo>
                  <a:pt x="11757" y="6424"/>
                </a:moveTo>
                <a:cubicBezTo>
                  <a:pt x="11700" y="6424"/>
                  <a:pt x="11631" y="6425"/>
                  <a:pt x="11584" y="6449"/>
                </a:cubicBezTo>
                <a:cubicBezTo>
                  <a:pt x="11562" y="6460"/>
                  <a:pt x="11470" y="6488"/>
                  <a:pt x="11460" y="6499"/>
                </a:cubicBezTo>
                <a:cubicBezTo>
                  <a:pt x="11408" y="6556"/>
                  <a:pt x="11470" y="6584"/>
                  <a:pt x="11509" y="6623"/>
                </a:cubicBezTo>
                <a:cubicBezTo>
                  <a:pt x="11558" y="6672"/>
                  <a:pt x="11612" y="6657"/>
                  <a:pt x="11658" y="6697"/>
                </a:cubicBezTo>
                <a:cubicBezTo>
                  <a:pt x="11702" y="6735"/>
                  <a:pt x="11791" y="6787"/>
                  <a:pt x="11807" y="6846"/>
                </a:cubicBezTo>
                <a:cubicBezTo>
                  <a:pt x="11818" y="6887"/>
                  <a:pt x="11815" y="6969"/>
                  <a:pt x="11782" y="6995"/>
                </a:cubicBezTo>
                <a:cubicBezTo>
                  <a:pt x="11707" y="7054"/>
                  <a:pt x="11620" y="7040"/>
                  <a:pt x="11534" y="7069"/>
                </a:cubicBezTo>
                <a:cubicBezTo>
                  <a:pt x="11487" y="7085"/>
                  <a:pt x="11399" y="7129"/>
                  <a:pt x="11361" y="7069"/>
                </a:cubicBezTo>
                <a:cubicBezTo>
                  <a:pt x="11361" y="7061"/>
                  <a:pt x="11361" y="7053"/>
                  <a:pt x="11361" y="7045"/>
                </a:cubicBezTo>
              </a:path>
              <a:path w="10964" h="2283">
                <a:moveTo>
                  <a:pt x="12551" y="5779"/>
                </a:moveTo>
                <a:cubicBezTo>
                  <a:pt x="12492" y="5856"/>
                  <a:pt x="12420" y="5944"/>
                  <a:pt x="12378" y="6028"/>
                </a:cubicBezTo>
                <a:cubicBezTo>
                  <a:pt x="12326" y="6132"/>
                  <a:pt x="12286" y="6264"/>
                  <a:pt x="12254" y="6375"/>
                </a:cubicBezTo>
                <a:cubicBezTo>
                  <a:pt x="12219" y="6497"/>
                  <a:pt x="12183" y="6621"/>
                  <a:pt x="12179" y="6747"/>
                </a:cubicBezTo>
                <a:cubicBezTo>
                  <a:pt x="12175" y="6865"/>
                  <a:pt x="12150" y="7045"/>
                  <a:pt x="12204" y="7144"/>
                </a:cubicBezTo>
                <a:cubicBezTo>
                  <a:pt x="12230" y="7192"/>
                  <a:pt x="12255" y="7220"/>
                  <a:pt x="12278" y="7243"/>
                </a:cubicBezTo>
                <a:cubicBezTo>
                  <a:pt x="12317" y="7283"/>
                  <a:pt x="12293" y="7257"/>
                  <a:pt x="12328" y="7218"/>
                </a:cubicBezTo>
                <a:cubicBezTo>
                  <a:pt x="12336" y="7210"/>
                  <a:pt x="12345" y="7201"/>
                  <a:pt x="12353" y="7193"/>
                </a:cubicBezTo>
              </a:path>
              <a:path w="10964" h="2283">
                <a:moveTo>
                  <a:pt x="12824" y="6226"/>
                </a:moveTo>
                <a:cubicBezTo>
                  <a:pt x="12859" y="6165"/>
                  <a:pt x="12875" y="6159"/>
                  <a:pt x="12923" y="6127"/>
                </a:cubicBezTo>
                <a:cubicBezTo>
                  <a:pt x="12968" y="6097"/>
                  <a:pt x="13016" y="6064"/>
                  <a:pt x="13072" y="6052"/>
                </a:cubicBezTo>
                <a:cubicBezTo>
                  <a:pt x="13163" y="6033"/>
                  <a:pt x="13261" y="6058"/>
                  <a:pt x="13345" y="6077"/>
                </a:cubicBezTo>
                <a:cubicBezTo>
                  <a:pt x="13412" y="6092"/>
                  <a:pt x="13405" y="6109"/>
                  <a:pt x="13444" y="6152"/>
                </a:cubicBezTo>
                <a:cubicBezTo>
                  <a:pt x="13479" y="6190"/>
                  <a:pt x="13444" y="6323"/>
                  <a:pt x="13419" y="6375"/>
                </a:cubicBezTo>
                <a:cubicBezTo>
                  <a:pt x="13382" y="6451"/>
                  <a:pt x="13319" y="6505"/>
                  <a:pt x="13271" y="6573"/>
                </a:cubicBezTo>
                <a:cubicBezTo>
                  <a:pt x="13225" y="6638"/>
                  <a:pt x="13167" y="6691"/>
                  <a:pt x="13122" y="6747"/>
                </a:cubicBezTo>
                <a:cubicBezTo>
                  <a:pt x="13081" y="6798"/>
                  <a:pt x="13045" y="6848"/>
                  <a:pt x="12998" y="6896"/>
                </a:cubicBezTo>
                <a:cubicBezTo>
                  <a:pt x="12980" y="6915"/>
                  <a:pt x="12932" y="6989"/>
                  <a:pt x="12923" y="6995"/>
                </a:cubicBezTo>
                <a:cubicBezTo>
                  <a:pt x="12915" y="6995"/>
                  <a:pt x="12906" y="6995"/>
                  <a:pt x="12898" y="6995"/>
                </a:cubicBezTo>
                <a:cubicBezTo>
                  <a:pt x="12906" y="7018"/>
                  <a:pt x="12941" y="7034"/>
                  <a:pt x="12973" y="7045"/>
                </a:cubicBezTo>
                <a:cubicBezTo>
                  <a:pt x="12997" y="7053"/>
                  <a:pt x="13080" y="7038"/>
                  <a:pt x="13122" y="7045"/>
                </a:cubicBezTo>
                <a:cubicBezTo>
                  <a:pt x="13192" y="7057"/>
                  <a:pt x="13477" y="7070"/>
                  <a:pt x="13494" y="7020"/>
                </a:cubicBezTo>
              </a:path>
              <a:path w="10964" h="2283">
                <a:moveTo>
                  <a:pt x="13841" y="6524"/>
                </a:moveTo>
                <a:cubicBezTo>
                  <a:pt x="13909" y="6592"/>
                  <a:pt x="13969" y="6662"/>
                  <a:pt x="14039" y="6722"/>
                </a:cubicBezTo>
                <a:cubicBezTo>
                  <a:pt x="14073" y="6751"/>
                  <a:pt x="14124" y="6783"/>
                  <a:pt x="14163" y="6796"/>
                </a:cubicBezTo>
                <a:cubicBezTo>
                  <a:pt x="14237" y="6820"/>
                  <a:pt x="14197" y="6775"/>
                  <a:pt x="14188" y="6747"/>
                </a:cubicBezTo>
                <a:cubicBezTo>
                  <a:pt x="14188" y="6739"/>
                  <a:pt x="14188" y="6730"/>
                  <a:pt x="14188" y="6722"/>
                </a:cubicBezTo>
              </a:path>
              <a:path w="10964" h="2283">
                <a:moveTo>
                  <a:pt x="14163" y="6499"/>
                </a:moveTo>
                <a:cubicBezTo>
                  <a:pt x="14109" y="6513"/>
                  <a:pt x="14102" y="6556"/>
                  <a:pt x="14064" y="6598"/>
                </a:cubicBezTo>
                <a:cubicBezTo>
                  <a:pt x="14021" y="6645"/>
                  <a:pt x="13967" y="6712"/>
                  <a:pt x="13915" y="6747"/>
                </a:cubicBezTo>
                <a:cubicBezTo>
                  <a:pt x="13877" y="6773"/>
                  <a:pt x="13824" y="6799"/>
                  <a:pt x="13791" y="6821"/>
                </a:cubicBezTo>
                <a:cubicBezTo>
                  <a:pt x="13783" y="6829"/>
                  <a:pt x="13775" y="6838"/>
                  <a:pt x="13767" y="6846"/>
                </a:cubicBezTo>
              </a:path>
              <a:path w="10964" h="2283">
                <a:moveTo>
                  <a:pt x="13717" y="6722"/>
                </a:moveTo>
                <a:cubicBezTo>
                  <a:pt x="13791" y="6722"/>
                  <a:pt x="13848" y="6706"/>
                  <a:pt x="13915" y="6697"/>
                </a:cubicBezTo>
                <a:cubicBezTo>
                  <a:pt x="14018" y="6683"/>
                  <a:pt x="14120" y="6697"/>
                  <a:pt x="14213" y="6672"/>
                </a:cubicBezTo>
                <a:cubicBezTo>
                  <a:pt x="14221" y="6672"/>
                  <a:pt x="14230" y="6672"/>
                  <a:pt x="14238" y="6672"/>
                </a:cubicBezTo>
              </a:path>
              <a:path w="10964" h="2283">
                <a:moveTo>
                  <a:pt x="14064" y="6400"/>
                </a:moveTo>
                <a:cubicBezTo>
                  <a:pt x="14046" y="6499"/>
                  <a:pt x="14029" y="6602"/>
                  <a:pt x="14015" y="6697"/>
                </a:cubicBezTo>
                <a:cubicBezTo>
                  <a:pt x="14004" y="6767"/>
                  <a:pt x="13995" y="6831"/>
                  <a:pt x="13990" y="6896"/>
                </a:cubicBezTo>
                <a:cubicBezTo>
                  <a:pt x="13986" y="6947"/>
                  <a:pt x="13970" y="6977"/>
                  <a:pt x="13965" y="7020"/>
                </a:cubicBezTo>
                <a:cubicBezTo>
                  <a:pt x="13965" y="7045"/>
                  <a:pt x="13965" y="7053"/>
                  <a:pt x="13965" y="7069"/>
                </a:cubicBezTo>
              </a:path>
              <a:path w="10964" h="2283">
                <a:moveTo>
                  <a:pt x="15205" y="5779"/>
                </a:moveTo>
                <a:cubicBezTo>
                  <a:pt x="15161" y="5889"/>
                  <a:pt x="15079" y="5966"/>
                  <a:pt x="15032" y="6077"/>
                </a:cubicBezTo>
                <a:cubicBezTo>
                  <a:pt x="14960" y="6247"/>
                  <a:pt x="14882" y="6420"/>
                  <a:pt x="14833" y="6598"/>
                </a:cubicBezTo>
                <a:cubicBezTo>
                  <a:pt x="14799" y="6724"/>
                  <a:pt x="14751" y="6866"/>
                  <a:pt x="14734" y="6995"/>
                </a:cubicBezTo>
                <a:cubicBezTo>
                  <a:pt x="14726" y="7057"/>
                  <a:pt x="14734" y="7163"/>
                  <a:pt x="14759" y="7218"/>
                </a:cubicBezTo>
                <a:cubicBezTo>
                  <a:pt x="14776" y="7254"/>
                  <a:pt x="14874" y="7252"/>
                  <a:pt x="14908" y="7243"/>
                </a:cubicBezTo>
                <a:cubicBezTo>
                  <a:pt x="14951" y="7221"/>
                  <a:pt x="14963" y="7217"/>
                  <a:pt x="14982" y="7193"/>
                </a:cubicBezTo>
              </a:path>
              <a:path w="10964" h="2283">
                <a:moveTo>
                  <a:pt x="15304" y="6028"/>
                </a:moveTo>
                <a:cubicBezTo>
                  <a:pt x="15412" y="6009"/>
                  <a:pt x="15494" y="6003"/>
                  <a:pt x="15602" y="6003"/>
                </a:cubicBezTo>
                <a:cubicBezTo>
                  <a:pt x="15668" y="6003"/>
                  <a:pt x="15735" y="6003"/>
                  <a:pt x="15801" y="6003"/>
                </a:cubicBezTo>
              </a:path>
              <a:path w="10964" h="2283">
                <a:moveTo>
                  <a:pt x="15478" y="6077"/>
                </a:moveTo>
                <a:cubicBezTo>
                  <a:pt x="15449" y="6190"/>
                  <a:pt x="15410" y="6308"/>
                  <a:pt x="15404" y="6424"/>
                </a:cubicBezTo>
                <a:cubicBezTo>
                  <a:pt x="15404" y="6426"/>
                  <a:pt x="15399" y="6587"/>
                  <a:pt x="15429" y="6548"/>
                </a:cubicBezTo>
                <a:cubicBezTo>
                  <a:pt x="15429" y="6520"/>
                  <a:pt x="15431" y="6510"/>
                  <a:pt x="15453" y="6499"/>
                </a:cubicBezTo>
              </a:path>
              <a:path w="10964" h="2283">
                <a:moveTo>
                  <a:pt x="15627" y="6102"/>
                </a:moveTo>
                <a:cubicBezTo>
                  <a:pt x="15645" y="6201"/>
                  <a:pt x="15652" y="6277"/>
                  <a:pt x="15652" y="6375"/>
                </a:cubicBezTo>
                <a:cubicBezTo>
                  <a:pt x="15652" y="6455"/>
                  <a:pt x="15646" y="6462"/>
                  <a:pt x="15726" y="6474"/>
                </a:cubicBezTo>
              </a:path>
              <a:path w="10964" h="2283">
                <a:moveTo>
                  <a:pt x="16247" y="5953"/>
                </a:moveTo>
                <a:cubicBezTo>
                  <a:pt x="16166" y="6056"/>
                  <a:pt x="16111" y="6140"/>
                  <a:pt x="16049" y="6251"/>
                </a:cubicBezTo>
                <a:cubicBezTo>
                  <a:pt x="15989" y="6359"/>
                  <a:pt x="15937" y="6463"/>
                  <a:pt x="15875" y="6573"/>
                </a:cubicBezTo>
                <a:cubicBezTo>
                  <a:pt x="15820" y="6671"/>
                  <a:pt x="15748" y="6776"/>
                  <a:pt x="15701" y="6871"/>
                </a:cubicBezTo>
                <a:cubicBezTo>
                  <a:pt x="15664" y="6945"/>
                  <a:pt x="15618" y="6999"/>
                  <a:pt x="15577" y="7069"/>
                </a:cubicBezTo>
                <a:cubicBezTo>
                  <a:pt x="15526" y="7155"/>
                  <a:pt x="15591" y="7103"/>
                  <a:pt x="15652" y="7069"/>
                </a:cubicBezTo>
              </a:path>
              <a:path w="10964" h="2283">
                <a:moveTo>
                  <a:pt x="16247" y="6672"/>
                </a:moveTo>
                <a:cubicBezTo>
                  <a:pt x="16255" y="6656"/>
                  <a:pt x="16264" y="6639"/>
                  <a:pt x="16272" y="6623"/>
                </a:cubicBezTo>
                <a:cubicBezTo>
                  <a:pt x="16228" y="6590"/>
                  <a:pt x="16206" y="6598"/>
                  <a:pt x="16148" y="6598"/>
                </a:cubicBezTo>
                <a:cubicBezTo>
                  <a:pt x="16115" y="6598"/>
                  <a:pt x="16032" y="6632"/>
                  <a:pt x="16024" y="6672"/>
                </a:cubicBezTo>
                <a:cubicBezTo>
                  <a:pt x="16006" y="6758"/>
                  <a:pt x="16059" y="6806"/>
                  <a:pt x="16098" y="6871"/>
                </a:cubicBezTo>
                <a:cubicBezTo>
                  <a:pt x="16141" y="6943"/>
                  <a:pt x="16179" y="6987"/>
                  <a:pt x="16197" y="7069"/>
                </a:cubicBezTo>
                <a:cubicBezTo>
                  <a:pt x="16202" y="7091"/>
                  <a:pt x="16197" y="7121"/>
                  <a:pt x="16197" y="7144"/>
                </a:cubicBezTo>
                <a:cubicBezTo>
                  <a:pt x="16138" y="7144"/>
                  <a:pt x="16160" y="7135"/>
                  <a:pt x="16123" y="7094"/>
                </a:cubicBezTo>
                <a:cubicBezTo>
                  <a:pt x="16079" y="7044"/>
                  <a:pt x="16052" y="6995"/>
                  <a:pt x="16098" y="6945"/>
                </a:cubicBezTo>
                <a:cubicBezTo>
                  <a:pt x="16137" y="6902"/>
                  <a:pt x="16163" y="6866"/>
                  <a:pt x="16197" y="6821"/>
                </a:cubicBezTo>
                <a:cubicBezTo>
                  <a:pt x="16239" y="6765"/>
                  <a:pt x="16291" y="6713"/>
                  <a:pt x="16321" y="6648"/>
                </a:cubicBezTo>
                <a:cubicBezTo>
                  <a:pt x="16338" y="6607"/>
                  <a:pt x="16354" y="6565"/>
                  <a:pt x="16371" y="6524"/>
                </a:cubicBezTo>
              </a:path>
              <a:path w="10964" h="2283">
                <a:moveTo>
                  <a:pt x="16619" y="5655"/>
                </a:moveTo>
                <a:cubicBezTo>
                  <a:pt x="16674" y="5765"/>
                  <a:pt x="16698" y="5866"/>
                  <a:pt x="16743" y="5978"/>
                </a:cubicBezTo>
                <a:cubicBezTo>
                  <a:pt x="16798" y="6115"/>
                  <a:pt x="16814" y="6248"/>
                  <a:pt x="16818" y="6400"/>
                </a:cubicBezTo>
                <a:cubicBezTo>
                  <a:pt x="16822" y="6535"/>
                  <a:pt x="16810" y="6643"/>
                  <a:pt x="16768" y="6772"/>
                </a:cubicBezTo>
                <a:cubicBezTo>
                  <a:pt x="16738" y="6866"/>
                  <a:pt x="16706" y="6967"/>
                  <a:pt x="16644" y="7045"/>
                </a:cubicBezTo>
                <a:cubicBezTo>
                  <a:pt x="16598" y="7103"/>
                  <a:pt x="16547" y="7150"/>
                  <a:pt x="16495" y="7193"/>
                </a:cubicBezTo>
                <a:cubicBezTo>
                  <a:pt x="16476" y="7209"/>
                  <a:pt x="16467" y="7204"/>
                  <a:pt x="16446" y="7218"/>
                </a:cubicBezTo>
                <a:cubicBezTo>
                  <a:pt x="16487" y="7176"/>
                  <a:pt x="16516" y="7145"/>
                  <a:pt x="16545" y="7094"/>
                </a:cubicBezTo>
              </a:path>
              <a:path w="10964" h="2283">
                <a:moveTo>
                  <a:pt x="17066" y="5407"/>
                </a:moveTo>
                <a:cubicBezTo>
                  <a:pt x="17104" y="5446"/>
                  <a:pt x="17190" y="5494"/>
                  <a:pt x="17214" y="5531"/>
                </a:cubicBezTo>
                <a:cubicBezTo>
                  <a:pt x="17277" y="5628"/>
                  <a:pt x="17348" y="5769"/>
                  <a:pt x="17388" y="5879"/>
                </a:cubicBezTo>
                <a:cubicBezTo>
                  <a:pt x="17443" y="6030"/>
                  <a:pt x="17465" y="6169"/>
                  <a:pt x="17487" y="6325"/>
                </a:cubicBezTo>
                <a:cubicBezTo>
                  <a:pt x="17511" y="6494"/>
                  <a:pt x="17502" y="6604"/>
                  <a:pt x="17462" y="6772"/>
                </a:cubicBezTo>
                <a:cubicBezTo>
                  <a:pt x="17427" y="6919"/>
                  <a:pt x="17394" y="6992"/>
                  <a:pt x="17289" y="7094"/>
                </a:cubicBezTo>
                <a:cubicBezTo>
                  <a:pt x="17187" y="7193"/>
                  <a:pt x="17115" y="7276"/>
                  <a:pt x="16991" y="7342"/>
                </a:cubicBezTo>
                <a:cubicBezTo>
                  <a:pt x="16961" y="7358"/>
                  <a:pt x="16946" y="7375"/>
                  <a:pt x="16917" y="7392"/>
                </a:cubicBezTo>
                <a:cubicBezTo>
                  <a:pt x="16938" y="7354"/>
                  <a:pt x="16965" y="7310"/>
                  <a:pt x="16991" y="7268"/>
                </a:cubicBezTo>
              </a:path>
              <a:path w="10964" h="2283">
                <a:moveTo>
                  <a:pt x="17810" y="5135"/>
                </a:moveTo>
                <a:cubicBezTo>
                  <a:pt x="17870" y="5109"/>
                  <a:pt x="17893" y="5110"/>
                  <a:pt x="17959" y="5110"/>
                </a:cubicBezTo>
                <a:cubicBezTo>
                  <a:pt x="18020" y="5110"/>
                  <a:pt x="18058" y="5119"/>
                  <a:pt x="18107" y="5159"/>
                </a:cubicBezTo>
                <a:cubicBezTo>
                  <a:pt x="18165" y="5207"/>
                  <a:pt x="18175" y="5244"/>
                  <a:pt x="18132" y="5308"/>
                </a:cubicBezTo>
                <a:cubicBezTo>
                  <a:pt x="18088" y="5373"/>
                  <a:pt x="18016" y="5410"/>
                  <a:pt x="17959" y="5457"/>
                </a:cubicBezTo>
                <a:cubicBezTo>
                  <a:pt x="17895" y="5510"/>
                  <a:pt x="17842" y="5524"/>
                  <a:pt x="17835" y="5606"/>
                </a:cubicBezTo>
                <a:cubicBezTo>
                  <a:pt x="17831" y="5662"/>
                  <a:pt x="17916" y="5688"/>
                  <a:pt x="17959" y="5705"/>
                </a:cubicBezTo>
                <a:cubicBezTo>
                  <a:pt x="18058" y="5744"/>
                  <a:pt x="18158" y="5752"/>
                  <a:pt x="18256" y="5779"/>
                </a:cubicBezTo>
                <a:cubicBezTo>
                  <a:pt x="18289" y="5788"/>
                  <a:pt x="18407" y="5863"/>
                  <a:pt x="18430" y="5854"/>
                </a:cubicBezTo>
                <a:cubicBezTo>
                  <a:pt x="18430" y="5846"/>
                  <a:pt x="18430" y="5837"/>
                  <a:pt x="18430" y="5829"/>
                </a:cubicBezTo>
              </a:path>
              <a:path w="10964" h="2283">
                <a:moveTo>
                  <a:pt x="18752" y="6598"/>
                </a:moveTo>
                <a:cubicBezTo>
                  <a:pt x="18845" y="6598"/>
                  <a:pt x="18932" y="6620"/>
                  <a:pt x="19025" y="6623"/>
                </a:cubicBezTo>
                <a:cubicBezTo>
                  <a:pt x="19121" y="6626"/>
                  <a:pt x="19203" y="6648"/>
                  <a:pt x="19298" y="6648"/>
                </a:cubicBezTo>
                <a:cubicBezTo>
                  <a:pt x="19359" y="6648"/>
                  <a:pt x="19382" y="6659"/>
                  <a:pt x="19397" y="6598"/>
                </a:cubicBezTo>
              </a:path>
              <a:path w="10964" h="2283">
                <a:moveTo>
                  <a:pt x="19819" y="5978"/>
                </a:moveTo>
                <a:cubicBezTo>
                  <a:pt x="19908" y="5921"/>
                  <a:pt x="19940" y="5904"/>
                  <a:pt x="20042" y="5904"/>
                </a:cubicBezTo>
                <a:cubicBezTo>
                  <a:pt x="20116" y="5904"/>
                  <a:pt x="20130" y="5917"/>
                  <a:pt x="20191" y="5953"/>
                </a:cubicBezTo>
                <a:cubicBezTo>
                  <a:pt x="20251" y="5989"/>
                  <a:pt x="20311" y="6038"/>
                  <a:pt x="20340" y="6102"/>
                </a:cubicBezTo>
                <a:cubicBezTo>
                  <a:pt x="20371" y="6169"/>
                  <a:pt x="20332" y="6366"/>
                  <a:pt x="20315" y="6424"/>
                </a:cubicBezTo>
                <a:cubicBezTo>
                  <a:pt x="20291" y="6505"/>
                  <a:pt x="20250" y="6594"/>
                  <a:pt x="20216" y="6672"/>
                </a:cubicBezTo>
                <a:cubicBezTo>
                  <a:pt x="20181" y="6754"/>
                  <a:pt x="20127" y="6833"/>
                  <a:pt x="20067" y="6896"/>
                </a:cubicBezTo>
                <a:cubicBezTo>
                  <a:pt x="20004" y="6962"/>
                  <a:pt x="19975" y="7023"/>
                  <a:pt x="19893" y="7069"/>
                </a:cubicBezTo>
                <a:cubicBezTo>
                  <a:pt x="19854" y="7091"/>
                  <a:pt x="19767" y="7153"/>
                  <a:pt x="19745" y="7193"/>
                </a:cubicBezTo>
                <a:cubicBezTo>
                  <a:pt x="19745" y="7218"/>
                  <a:pt x="19745" y="7226"/>
                  <a:pt x="19745" y="7243"/>
                </a:cubicBezTo>
                <a:cubicBezTo>
                  <a:pt x="19807" y="7262"/>
                  <a:pt x="19809" y="7268"/>
                  <a:pt x="19893" y="7268"/>
                </a:cubicBezTo>
                <a:cubicBezTo>
                  <a:pt x="20003" y="7268"/>
                  <a:pt x="20103" y="7293"/>
                  <a:pt x="20216" y="7293"/>
                </a:cubicBezTo>
                <a:cubicBezTo>
                  <a:pt x="20335" y="7293"/>
                  <a:pt x="20446" y="7313"/>
                  <a:pt x="20563" y="7317"/>
                </a:cubicBezTo>
                <a:cubicBezTo>
                  <a:pt x="20653" y="7320"/>
                  <a:pt x="20747" y="7357"/>
                  <a:pt x="20836" y="7342"/>
                </a:cubicBezTo>
                <a:cubicBezTo>
                  <a:pt x="20869" y="7337"/>
                  <a:pt x="20910" y="7324"/>
                  <a:pt x="20910" y="7293"/>
                </a:cubicBezTo>
                <a:cubicBezTo>
                  <a:pt x="20902" y="7285"/>
                  <a:pt x="20894" y="7276"/>
                  <a:pt x="20886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1880" y="4241880"/>
            <a:ext cx="1420920" cy="652320"/>
          </a:xfrm>
          <a:custGeom>
            <a:avLst/>
            <a:gdLst/>
            <a:ahLst/>
            <a:rect l="l" t="t" r="r" b="b"/>
            <a:pathLst>
              <a:path w="3945" h="1812">
                <a:moveTo>
                  <a:pt x="2084" y="11881"/>
                </a:moveTo>
                <a:cubicBezTo>
                  <a:pt x="2074" y="11857"/>
                  <a:pt x="2075" y="11835"/>
                  <a:pt x="2059" y="11807"/>
                </a:cubicBezTo>
                <a:cubicBezTo>
                  <a:pt x="2034" y="11807"/>
                  <a:pt x="2026" y="11807"/>
                  <a:pt x="2034" y="11782"/>
                </a:cubicBezTo>
                <a:cubicBezTo>
                  <a:pt x="2089" y="11842"/>
                  <a:pt x="2099" y="11871"/>
                  <a:pt x="2183" y="11906"/>
                </a:cubicBezTo>
                <a:cubicBezTo>
                  <a:pt x="2330" y="11967"/>
                  <a:pt x="2525" y="11997"/>
                  <a:pt x="2679" y="12030"/>
                </a:cubicBezTo>
                <a:cubicBezTo>
                  <a:pt x="3100" y="12119"/>
                  <a:pt x="3495" y="12236"/>
                  <a:pt x="3894" y="12402"/>
                </a:cubicBezTo>
                <a:cubicBezTo>
                  <a:pt x="4167" y="12516"/>
                  <a:pt x="4445" y="12624"/>
                  <a:pt x="4713" y="12750"/>
                </a:cubicBezTo>
                <a:cubicBezTo>
                  <a:pt x="4941" y="12857"/>
                  <a:pt x="5155" y="12992"/>
                  <a:pt x="5383" y="13097"/>
                </a:cubicBezTo>
                <a:cubicBezTo>
                  <a:pt x="5521" y="13160"/>
                  <a:pt x="5632" y="13230"/>
                  <a:pt x="5779" y="13271"/>
                </a:cubicBezTo>
                <a:cubicBezTo>
                  <a:pt x="5853" y="13291"/>
                  <a:pt x="5905" y="13288"/>
                  <a:pt x="5978" y="13295"/>
                </a:cubicBezTo>
                <a:cubicBezTo>
                  <a:pt x="5954" y="13231"/>
                  <a:pt x="5975" y="13211"/>
                  <a:pt x="5928" y="13146"/>
                </a:cubicBezTo>
                <a:cubicBezTo>
                  <a:pt x="5912" y="13130"/>
                  <a:pt x="5895" y="13113"/>
                  <a:pt x="5879" y="13097"/>
                </a:cubicBezTo>
              </a:path>
              <a:path w="3945" h="1812">
                <a:moveTo>
                  <a:pt x="5606" y="12179"/>
                </a:moveTo>
                <a:cubicBezTo>
                  <a:pt x="5492" y="12213"/>
                  <a:pt x="5393" y="12256"/>
                  <a:pt x="5283" y="12303"/>
                </a:cubicBezTo>
                <a:cubicBezTo>
                  <a:pt x="5075" y="12391"/>
                  <a:pt x="4871" y="12487"/>
                  <a:pt x="4663" y="12576"/>
                </a:cubicBezTo>
                <a:cubicBezTo>
                  <a:pt x="4347" y="12711"/>
                  <a:pt x="4006" y="12809"/>
                  <a:pt x="3696" y="12948"/>
                </a:cubicBezTo>
                <a:cubicBezTo>
                  <a:pt x="3441" y="13062"/>
                  <a:pt x="3190" y="13151"/>
                  <a:pt x="2927" y="13246"/>
                </a:cubicBezTo>
                <a:cubicBezTo>
                  <a:pt x="2736" y="13315"/>
                  <a:pt x="2550" y="13406"/>
                  <a:pt x="2356" y="13469"/>
                </a:cubicBezTo>
                <a:cubicBezTo>
                  <a:pt x="2309" y="13484"/>
                  <a:pt x="2131" y="13591"/>
                  <a:pt x="2084" y="13568"/>
                </a:cubicBezTo>
                <a:cubicBezTo>
                  <a:pt x="2046" y="13550"/>
                  <a:pt x="2094" y="13627"/>
                  <a:pt x="2108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sc x + 2 = 0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81040" y="2224080"/>
            <a:ext cx="1285920" cy="598320"/>
          </a:xfrm>
          <a:custGeom>
            <a:avLst/>
            <a:gdLst/>
            <a:ahLst/>
            <a:rect l="l" t="t" r="r" b="b"/>
            <a:pathLst>
              <a:path w="3573" h="1663">
                <a:moveTo>
                  <a:pt x="1612" y="6449"/>
                </a:moveTo>
                <a:cubicBezTo>
                  <a:pt x="1694" y="6381"/>
                  <a:pt x="1727" y="6335"/>
                  <a:pt x="1860" y="6350"/>
                </a:cubicBezTo>
                <a:cubicBezTo>
                  <a:pt x="2021" y="6369"/>
                  <a:pt x="2260" y="6458"/>
                  <a:pt x="2406" y="6524"/>
                </a:cubicBezTo>
                <a:cubicBezTo>
                  <a:pt x="2645" y="6632"/>
                  <a:pt x="2892" y="6751"/>
                  <a:pt x="3125" y="6871"/>
                </a:cubicBezTo>
                <a:cubicBezTo>
                  <a:pt x="3385" y="7005"/>
                  <a:pt x="3654" y="7116"/>
                  <a:pt x="3919" y="7243"/>
                </a:cubicBezTo>
                <a:cubicBezTo>
                  <a:pt x="4183" y="7369"/>
                  <a:pt x="4449" y="7490"/>
                  <a:pt x="4713" y="7615"/>
                </a:cubicBezTo>
                <a:cubicBezTo>
                  <a:pt x="4811" y="7661"/>
                  <a:pt x="5013" y="7801"/>
                  <a:pt x="5135" y="7764"/>
                </a:cubicBezTo>
                <a:cubicBezTo>
                  <a:pt x="5215" y="7740"/>
                  <a:pt x="5179" y="7669"/>
                  <a:pt x="5184" y="7590"/>
                </a:cubicBezTo>
              </a:path>
              <a:path w="3573" h="1663">
                <a:moveTo>
                  <a:pt x="5085" y="6970"/>
                </a:moveTo>
                <a:cubicBezTo>
                  <a:pt x="5062" y="6792"/>
                  <a:pt x="5057" y="6466"/>
                  <a:pt x="4961" y="6276"/>
                </a:cubicBezTo>
                <a:cubicBezTo>
                  <a:pt x="4908" y="6170"/>
                  <a:pt x="4890" y="6197"/>
                  <a:pt x="4787" y="6201"/>
                </a:cubicBezTo>
                <a:cubicBezTo>
                  <a:pt x="4617" y="6207"/>
                  <a:pt x="4486" y="6322"/>
                  <a:pt x="4341" y="6400"/>
                </a:cubicBezTo>
                <a:cubicBezTo>
                  <a:pt x="4063" y="6550"/>
                  <a:pt x="3778" y="6735"/>
                  <a:pt x="3522" y="6921"/>
                </a:cubicBezTo>
                <a:cubicBezTo>
                  <a:pt x="3277" y="7100"/>
                  <a:pt x="3044" y="7304"/>
                  <a:pt x="2828" y="7516"/>
                </a:cubicBezTo>
                <a:cubicBezTo>
                  <a:pt x="2718" y="7624"/>
                  <a:pt x="2654" y="7707"/>
                  <a:pt x="2580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803160" y="4098960"/>
            <a:ext cx="1001880" cy="696960"/>
          </a:xfrm>
          <a:custGeom>
            <a:avLst/>
            <a:gdLst/>
            <a:ahLst/>
            <a:rect l="l" t="t" r="r" b="b"/>
            <a:pathLst>
              <a:path w="2780" h="1936">
                <a:moveTo>
                  <a:pt x="2232" y="11385"/>
                </a:moveTo>
                <a:cubicBezTo>
                  <a:pt x="2358" y="11577"/>
                  <a:pt x="2500" y="11758"/>
                  <a:pt x="2679" y="11906"/>
                </a:cubicBezTo>
                <a:cubicBezTo>
                  <a:pt x="2914" y="12100"/>
                  <a:pt x="3187" y="12230"/>
                  <a:pt x="3448" y="12378"/>
                </a:cubicBezTo>
                <a:cubicBezTo>
                  <a:pt x="3727" y="12537"/>
                  <a:pt x="3998" y="12691"/>
                  <a:pt x="4291" y="12824"/>
                </a:cubicBezTo>
                <a:cubicBezTo>
                  <a:pt x="4445" y="12894"/>
                  <a:pt x="4633" y="13023"/>
                  <a:pt x="4812" y="12998"/>
                </a:cubicBezTo>
                <a:cubicBezTo>
                  <a:pt x="4944" y="12980"/>
                  <a:pt x="4961" y="12875"/>
                  <a:pt x="5011" y="12774"/>
                </a:cubicBezTo>
              </a:path>
              <a:path w="2780" h="1936">
                <a:moveTo>
                  <a:pt x="4390" y="11857"/>
                </a:moveTo>
                <a:cubicBezTo>
                  <a:pt x="3889" y="12131"/>
                  <a:pt x="3529" y="12365"/>
                  <a:pt x="3101" y="12725"/>
                </a:cubicBezTo>
                <a:cubicBezTo>
                  <a:pt x="2884" y="12908"/>
                  <a:pt x="2719" y="13092"/>
                  <a:pt x="2555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Tahoma"/>
              </a:rPr>
              <a:t>Solving Trigonometric Equations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o solve these equations, you will need the Unit Circle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standard algebraic techniques such as collecting like terms and factoring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0" y="28954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primary goal is to isolate the trigonometric function involved in the equation!!!!!!!!!!!!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of unit cir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762120" y="21337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Sin x + 1 =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606920" y="1847880"/>
            <a:ext cx="277920" cy="9360"/>
          </a:xfrm>
          <a:custGeom>
            <a:avLst/>
            <a:gdLst/>
            <a:ahLst/>
            <a:rect l="l" t="t" r="r" b="b"/>
            <a:pathLst>
              <a:path w="770" h="25">
                <a:moveTo>
                  <a:pt x="12799" y="5159"/>
                </a:moveTo>
                <a:cubicBezTo>
                  <a:pt x="13063" y="5159"/>
                  <a:pt x="13783" y="5289"/>
                  <a:pt x="13568" y="5135"/>
                </a:cubicBezTo>
                <a:cubicBezTo>
                  <a:pt x="13560" y="5135"/>
                  <a:pt x="13551" y="5135"/>
                  <a:pt x="13543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160960" y="1643040"/>
            <a:ext cx="1440" cy="339840"/>
          </a:xfrm>
          <a:custGeom>
            <a:avLst/>
            <a:gdLst/>
            <a:ahLst/>
            <a:rect l="l" t="t" r="r" b="b"/>
            <a:pathLst>
              <a:path w="1" h="944">
                <a:moveTo>
                  <a:pt x="14337" y="4564"/>
                </a:moveTo>
                <a:cubicBezTo>
                  <a:pt x="14337" y="4887"/>
                  <a:pt x="14337" y="5805"/>
                  <a:pt x="14337" y="5482"/>
                </a:cubicBezTo>
                <a:cubicBezTo>
                  <a:pt x="14337" y="5474"/>
                  <a:pt x="14337" y="5465"/>
                  <a:pt x="14337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91120" y="1554120"/>
            <a:ext cx="474840" cy="455760"/>
          </a:xfrm>
          <a:custGeom>
            <a:avLst/>
            <a:gdLst/>
            <a:ahLst/>
            <a:rect l="l" t="t" r="r" b="b"/>
            <a:pathLst>
              <a:path w="1316" h="1266">
                <a:moveTo>
                  <a:pt x="16644" y="4936"/>
                </a:moveTo>
                <a:cubicBezTo>
                  <a:pt x="16765" y="4936"/>
                  <a:pt x="16874" y="4924"/>
                  <a:pt x="16991" y="4911"/>
                </a:cubicBezTo>
                <a:cubicBezTo>
                  <a:pt x="17082" y="4901"/>
                  <a:pt x="17175" y="4897"/>
                  <a:pt x="17264" y="4887"/>
                </a:cubicBezTo>
                <a:cubicBezTo>
                  <a:pt x="17289" y="4887"/>
                  <a:pt x="17313" y="4887"/>
                  <a:pt x="17338" y="4887"/>
                </a:cubicBezTo>
              </a:path>
              <a:path w="1316" h="1266">
                <a:moveTo>
                  <a:pt x="17884" y="4316"/>
                </a:moveTo>
                <a:cubicBezTo>
                  <a:pt x="17884" y="4422"/>
                  <a:pt x="17897" y="4512"/>
                  <a:pt x="17909" y="4614"/>
                </a:cubicBezTo>
                <a:cubicBezTo>
                  <a:pt x="17929" y="4785"/>
                  <a:pt x="17917" y="4964"/>
                  <a:pt x="17934" y="5135"/>
                </a:cubicBezTo>
                <a:cubicBezTo>
                  <a:pt x="17948" y="5277"/>
                  <a:pt x="17916" y="5428"/>
                  <a:pt x="17959" y="5556"/>
                </a:cubicBezTo>
                <a:cubicBezTo>
                  <a:pt x="17972" y="5594"/>
                  <a:pt x="17942" y="5553"/>
                  <a:pt x="17909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6040" y="2517840"/>
            <a:ext cx="1036800" cy="366480"/>
          </a:xfrm>
          <a:custGeom>
            <a:avLst/>
            <a:gdLst/>
            <a:ahLst/>
            <a:rect l="l" t="t" r="r" b="b"/>
            <a:pathLst>
              <a:path w="2879" h="1018">
                <a:moveTo>
                  <a:pt x="11509" y="7169"/>
                </a:moveTo>
                <a:cubicBezTo>
                  <a:pt x="11537" y="7239"/>
                  <a:pt x="11536" y="7245"/>
                  <a:pt x="11584" y="7293"/>
                </a:cubicBezTo>
                <a:cubicBezTo>
                  <a:pt x="11579" y="7260"/>
                  <a:pt x="11573" y="7213"/>
                  <a:pt x="11534" y="7193"/>
                </a:cubicBezTo>
                <a:cubicBezTo>
                  <a:pt x="11490" y="7171"/>
                  <a:pt x="11435" y="7169"/>
                  <a:pt x="11385" y="7169"/>
                </a:cubicBezTo>
                <a:cubicBezTo>
                  <a:pt x="11319" y="7169"/>
                  <a:pt x="11248" y="7173"/>
                  <a:pt x="11187" y="7193"/>
                </a:cubicBezTo>
                <a:cubicBezTo>
                  <a:pt x="11119" y="7216"/>
                  <a:pt x="11079" y="7268"/>
                  <a:pt x="11038" y="7317"/>
                </a:cubicBezTo>
                <a:cubicBezTo>
                  <a:pt x="11012" y="7348"/>
                  <a:pt x="10971" y="7369"/>
                  <a:pt x="10988" y="7417"/>
                </a:cubicBezTo>
                <a:cubicBezTo>
                  <a:pt x="11011" y="7479"/>
                  <a:pt x="11100" y="7485"/>
                  <a:pt x="11162" y="7516"/>
                </a:cubicBezTo>
                <a:cubicBezTo>
                  <a:pt x="11265" y="7567"/>
                  <a:pt x="11384" y="7586"/>
                  <a:pt x="11485" y="7640"/>
                </a:cubicBezTo>
                <a:cubicBezTo>
                  <a:pt x="11527" y="7663"/>
                  <a:pt x="11654" y="7730"/>
                  <a:pt x="11633" y="7789"/>
                </a:cubicBezTo>
                <a:cubicBezTo>
                  <a:pt x="11604" y="7870"/>
                  <a:pt x="11489" y="7925"/>
                  <a:pt x="11410" y="7938"/>
                </a:cubicBezTo>
                <a:cubicBezTo>
                  <a:pt x="11352" y="7948"/>
                  <a:pt x="11217" y="7974"/>
                  <a:pt x="11162" y="7962"/>
                </a:cubicBezTo>
                <a:cubicBezTo>
                  <a:pt x="11123" y="7954"/>
                  <a:pt x="11009" y="7946"/>
                  <a:pt x="10988" y="7913"/>
                </a:cubicBezTo>
                <a:cubicBezTo>
                  <a:pt x="10962" y="7872"/>
                  <a:pt x="11015" y="7855"/>
                  <a:pt x="11038" y="7838"/>
                </a:cubicBezTo>
              </a:path>
              <a:path w="2879" h="1018">
                <a:moveTo>
                  <a:pt x="11981" y="7392"/>
                </a:moveTo>
                <a:cubicBezTo>
                  <a:pt x="12004" y="7480"/>
                  <a:pt x="12005" y="7548"/>
                  <a:pt x="12005" y="7640"/>
                </a:cubicBezTo>
                <a:cubicBezTo>
                  <a:pt x="12005" y="7709"/>
                  <a:pt x="12030" y="7765"/>
                  <a:pt x="12030" y="7838"/>
                </a:cubicBezTo>
                <a:cubicBezTo>
                  <a:pt x="12030" y="7925"/>
                  <a:pt x="11991" y="7863"/>
                  <a:pt x="11981" y="7813"/>
                </a:cubicBezTo>
              </a:path>
              <a:path w="2879" h="1018">
                <a:moveTo>
                  <a:pt x="11906" y="6995"/>
                </a:moveTo>
                <a:lnTo>
                  <a:pt x="11906" y="6995"/>
                </a:lnTo>
              </a:path>
              <a:path w="2879" h="1018">
                <a:moveTo>
                  <a:pt x="12278" y="7640"/>
                </a:moveTo>
                <a:cubicBezTo>
                  <a:pt x="12278" y="7723"/>
                  <a:pt x="12278" y="7739"/>
                  <a:pt x="12278" y="7789"/>
                </a:cubicBezTo>
                <a:cubicBezTo>
                  <a:pt x="12290" y="7727"/>
                  <a:pt x="12303" y="7682"/>
                  <a:pt x="12303" y="7615"/>
                </a:cubicBezTo>
                <a:cubicBezTo>
                  <a:pt x="12303" y="7541"/>
                  <a:pt x="12323" y="7459"/>
                  <a:pt x="12353" y="7392"/>
                </a:cubicBezTo>
                <a:cubicBezTo>
                  <a:pt x="12376" y="7340"/>
                  <a:pt x="12402" y="7275"/>
                  <a:pt x="12452" y="7243"/>
                </a:cubicBezTo>
                <a:cubicBezTo>
                  <a:pt x="12531" y="7192"/>
                  <a:pt x="12565" y="7254"/>
                  <a:pt x="12626" y="7293"/>
                </a:cubicBezTo>
                <a:cubicBezTo>
                  <a:pt x="12740" y="7367"/>
                  <a:pt x="12763" y="7416"/>
                  <a:pt x="12824" y="7541"/>
                </a:cubicBezTo>
                <a:cubicBezTo>
                  <a:pt x="12871" y="7637"/>
                  <a:pt x="12906" y="7748"/>
                  <a:pt x="12948" y="7838"/>
                </a:cubicBezTo>
                <a:cubicBezTo>
                  <a:pt x="12964" y="7872"/>
                  <a:pt x="12973" y="7880"/>
                  <a:pt x="12998" y="7888"/>
                </a:cubicBezTo>
              </a:path>
              <a:path w="2879" h="1018">
                <a:moveTo>
                  <a:pt x="13295" y="7342"/>
                </a:moveTo>
                <a:cubicBezTo>
                  <a:pt x="13408" y="7489"/>
                  <a:pt x="13501" y="7644"/>
                  <a:pt x="13618" y="7789"/>
                </a:cubicBezTo>
                <a:cubicBezTo>
                  <a:pt x="13672" y="7856"/>
                  <a:pt x="13783" y="7991"/>
                  <a:pt x="13866" y="8012"/>
                </a:cubicBezTo>
                <a:cubicBezTo>
                  <a:pt x="13866" y="7979"/>
                  <a:pt x="13866" y="7946"/>
                  <a:pt x="13866" y="7913"/>
                </a:cubicBezTo>
              </a:path>
              <a:path w="2879" h="1018">
                <a:moveTo>
                  <a:pt x="13816" y="7193"/>
                </a:moveTo>
                <a:cubicBezTo>
                  <a:pt x="13742" y="7308"/>
                  <a:pt x="13655" y="7436"/>
                  <a:pt x="13568" y="7541"/>
                </a:cubicBezTo>
                <a:cubicBezTo>
                  <a:pt x="13505" y="7617"/>
                  <a:pt x="13436" y="7692"/>
                  <a:pt x="13370" y="7764"/>
                </a:cubicBezTo>
                <a:cubicBezTo>
                  <a:pt x="13357" y="7778"/>
                  <a:pt x="13277" y="7870"/>
                  <a:pt x="13295" y="7888"/>
                </a:cubicBezTo>
                <a:cubicBezTo>
                  <a:pt x="13303" y="7888"/>
                  <a:pt x="13312" y="7888"/>
                  <a:pt x="13320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214960" y="2678040"/>
            <a:ext cx="187200" cy="81000"/>
          </a:xfrm>
          <a:custGeom>
            <a:avLst/>
            <a:gdLst/>
            <a:ahLst/>
            <a:rect l="l" t="t" r="r" b="b"/>
            <a:pathLst>
              <a:path w="522" h="225">
                <a:moveTo>
                  <a:pt x="14536" y="7441"/>
                </a:moveTo>
                <a:cubicBezTo>
                  <a:pt x="14640" y="7470"/>
                  <a:pt x="14664" y="7450"/>
                  <a:pt x="14759" y="7441"/>
                </a:cubicBezTo>
                <a:cubicBezTo>
                  <a:pt x="14769" y="7440"/>
                  <a:pt x="15033" y="7441"/>
                  <a:pt x="14982" y="7441"/>
                </a:cubicBezTo>
                <a:cubicBezTo>
                  <a:pt x="14949" y="7441"/>
                  <a:pt x="14933" y="7441"/>
                  <a:pt x="14908" y="7441"/>
                </a:cubicBezTo>
              </a:path>
              <a:path w="522" h="225">
                <a:moveTo>
                  <a:pt x="14486" y="7640"/>
                </a:moveTo>
                <a:cubicBezTo>
                  <a:pt x="14545" y="7640"/>
                  <a:pt x="14580" y="7661"/>
                  <a:pt x="14635" y="7665"/>
                </a:cubicBezTo>
                <a:cubicBezTo>
                  <a:pt x="14700" y="7669"/>
                  <a:pt x="14767" y="7665"/>
                  <a:pt x="14833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2536920"/>
            <a:ext cx="268200" cy="32076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16049" y="7045"/>
                </a:moveTo>
                <a:cubicBezTo>
                  <a:pt x="16023" y="7070"/>
                  <a:pt x="15981" y="7111"/>
                  <a:pt x="15974" y="7144"/>
                </a:cubicBezTo>
                <a:cubicBezTo>
                  <a:pt x="15956" y="7227"/>
                  <a:pt x="15914" y="7309"/>
                  <a:pt x="15900" y="7392"/>
                </a:cubicBezTo>
                <a:cubicBezTo>
                  <a:pt x="15883" y="7493"/>
                  <a:pt x="15880" y="7540"/>
                  <a:pt x="15900" y="7640"/>
                </a:cubicBezTo>
                <a:cubicBezTo>
                  <a:pt x="15928" y="7785"/>
                  <a:pt x="15923" y="7829"/>
                  <a:pt x="16024" y="7913"/>
                </a:cubicBezTo>
                <a:cubicBezTo>
                  <a:pt x="16076" y="7957"/>
                  <a:pt x="16153" y="7938"/>
                  <a:pt x="16222" y="7938"/>
                </a:cubicBezTo>
                <a:cubicBezTo>
                  <a:pt x="16313" y="7938"/>
                  <a:pt x="16379" y="7894"/>
                  <a:pt x="16446" y="7838"/>
                </a:cubicBezTo>
                <a:cubicBezTo>
                  <a:pt x="16530" y="7768"/>
                  <a:pt x="16601" y="7696"/>
                  <a:pt x="16619" y="7590"/>
                </a:cubicBezTo>
                <a:cubicBezTo>
                  <a:pt x="16634" y="7499"/>
                  <a:pt x="16601" y="7446"/>
                  <a:pt x="16570" y="7367"/>
                </a:cubicBezTo>
                <a:cubicBezTo>
                  <a:pt x="16532" y="7269"/>
                  <a:pt x="16475" y="7258"/>
                  <a:pt x="16396" y="7193"/>
                </a:cubicBezTo>
                <a:cubicBezTo>
                  <a:pt x="16339" y="7146"/>
                  <a:pt x="16294" y="7112"/>
                  <a:pt x="16222" y="7094"/>
                </a:cubicBezTo>
                <a:cubicBezTo>
                  <a:pt x="16197" y="7094"/>
                  <a:pt x="16189" y="7094"/>
                  <a:pt x="16197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776760" y="3544920"/>
            <a:ext cx="1724040" cy="492120"/>
          </a:xfrm>
          <a:custGeom>
            <a:avLst/>
            <a:gdLst/>
            <a:ahLst/>
            <a:rect l="l" t="t" r="r" b="b"/>
            <a:pathLst>
              <a:path w="4789" h="1366">
                <a:moveTo>
                  <a:pt x="10666" y="9897"/>
                </a:moveTo>
                <a:cubicBezTo>
                  <a:pt x="10666" y="9951"/>
                  <a:pt x="10674" y="9999"/>
                  <a:pt x="10691" y="10046"/>
                </a:cubicBezTo>
                <a:cubicBezTo>
                  <a:pt x="10721" y="10130"/>
                  <a:pt x="10766" y="10200"/>
                  <a:pt x="10815" y="10269"/>
                </a:cubicBezTo>
                <a:cubicBezTo>
                  <a:pt x="10881" y="10363"/>
                  <a:pt x="10926" y="10477"/>
                  <a:pt x="10988" y="10567"/>
                </a:cubicBezTo>
                <a:cubicBezTo>
                  <a:pt x="11009" y="10597"/>
                  <a:pt x="11169" y="10784"/>
                  <a:pt x="11212" y="10765"/>
                </a:cubicBezTo>
                <a:cubicBezTo>
                  <a:pt x="11234" y="10743"/>
                  <a:pt x="11243" y="10738"/>
                  <a:pt x="11237" y="10716"/>
                </a:cubicBezTo>
              </a:path>
              <a:path w="4789" h="1366">
                <a:moveTo>
                  <a:pt x="11137" y="9847"/>
                </a:moveTo>
                <a:cubicBezTo>
                  <a:pt x="11058" y="9949"/>
                  <a:pt x="10996" y="10073"/>
                  <a:pt x="10914" y="10170"/>
                </a:cubicBezTo>
                <a:cubicBezTo>
                  <a:pt x="10834" y="10264"/>
                  <a:pt x="10760" y="10339"/>
                  <a:pt x="10691" y="10443"/>
                </a:cubicBezTo>
                <a:cubicBezTo>
                  <a:pt x="10646" y="10511"/>
                  <a:pt x="10596" y="10582"/>
                  <a:pt x="10542" y="10641"/>
                </a:cubicBezTo>
                <a:cubicBezTo>
                  <a:pt x="10524" y="10661"/>
                  <a:pt x="10444" y="10740"/>
                  <a:pt x="10517" y="10691"/>
                </a:cubicBezTo>
              </a:path>
              <a:path w="4789" h="1366">
                <a:moveTo>
                  <a:pt x="11410" y="10244"/>
                </a:moveTo>
                <a:cubicBezTo>
                  <a:pt x="11463" y="10257"/>
                  <a:pt x="11495" y="10269"/>
                  <a:pt x="11559" y="10269"/>
                </a:cubicBezTo>
                <a:cubicBezTo>
                  <a:pt x="11650" y="10269"/>
                  <a:pt x="11701" y="10294"/>
                  <a:pt x="11782" y="10294"/>
                </a:cubicBezTo>
              </a:path>
              <a:path w="4789" h="1366">
                <a:moveTo>
                  <a:pt x="11410" y="10468"/>
                </a:moveTo>
                <a:cubicBezTo>
                  <a:pt x="11501" y="10468"/>
                  <a:pt x="11592" y="10468"/>
                  <a:pt x="11683" y="10468"/>
                </a:cubicBezTo>
              </a:path>
              <a:path w="4789" h="1366">
                <a:moveTo>
                  <a:pt x="12278" y="10046"/>
                </a:moveTo>
                <a:cubicBezTo>
                  <a:pt x="12340" y="9990"/>
                  <a:pt x="12368" y="9952"/>
                  <a:pt x="12452" y="9947"/>
                </a:cubicBezTo>
                <a:cubicBezTo>
                  <a:pt x="12520" y="9943"/>
                  <a:pt x="12617" y="9957"/>
                  <a:pt x="12675" y="9996"/>
                </a:cubicBezTo>
                <a:cubicBezTo>
                  <a:pt x="12708" y="10018"/>
                  <a:pt x="12747" y="10058"/>
                  <a:pt x="12750" y="10096"/>
                </a:cubicBezTo>
                <a:cubicBezTo>
                  <a:pt x="12755" y="10168"/>
                  <a:pt x="12735" y="10186"/>
                  <a:pt x="12700" y="10244"/>
                </a:cubicBezTo>
                <a:cubicBezTo>
                  <a:pt x="12653" y="10322"/>
                  <a:pt x="12611" y="10373"/>
                  <a:pt x="12551" y="10443"/>
                </a:cubicBezTo>
                <a:cubicBezTo>
                  <a:pt x="12485" y="10521"/>
                  <a:pt x="12425" y="10594"/>
                  <a:pt x="12353" y="10666"/>
                </a:cubicBezTo>
                <a:cubicBezTo>
                  <a:pt x="12320" y="10699"/>
                  <a:pt x="12287" y="10732"/>
                  <a:pt x="12254" y="10765"/>
                </a:cubicBezTo>
                <a:cubicBezTo>
                  <a:pt x="12390" y="10765"/>
                  <a:pt x="12518" y="10771"/>
                  <a:pt x="12650" y="10790"/>
                </a:cubicBezTo>
                <a:cubicBezTo>
                  <a:pt x="12741" y="10803"/>
                  <a:pt x="12901" y="10808"/>
                  <a:pt x="12973" y="10765"/>
                </a:cubicBezTo>
              </a:path>
              <a:path w="4789" h="1366">
                <a:moveTo>
                  <a:pt x="12998" y="10021"/>
                </a:moveTo>
                <a:cubicBezTo>
                  <a:pt x="13112" y="10021"/>
                  <a:pt x="13211" y="10030"/>
                  <a:pt x="13320" y="10046"/>
                </a:cubicBezTo>
                <a:cubicBezTo>
                  <a:pt x="13415" y="10060"/>
                  <a:pt x="13522" y="10046"/>
                  <a:pt x="13618" y="10046"/>
                </a:cubicBezTo>
              </a:path>
              <a:path w="4789" h="1366">
                <a:moveTo>
                  <a:pt x="13171" y="10071"/>
                </a:moveTo>
                <a:cubicBezTo>
                  <a:pt x="13155" y="10162"/>
                  <a:pt x="13136" y="10257"/>
                  <a:pt x="13122" y="10344"/>
                </a:cubicBezTo>
                <a:cubicBezTo>
                  <a:pt x="13110" y="10417"/>
                  <a:pt x="13101" y="10496"/>
                  <a:pt x="13097" y="10567"/>
                </a:cubicBezTo>
                <a:cubicBezTo>
                  <a:pt x="13094" y="10621"/>
                  <a:pt x="13058" y="10680"/>
                  <a:pt x="13097" y="10641"/>
                </a:cubicBezTo>
              </a:path>
              <a:path w="4789" h="1366">
                <a:moveTo>
                  <a:pt x="13395" y="9996"/>
                </a:moveTo>
                <a:cubicBezTo>
                  <a:pt x="13395" y="10061"/>
                  <a:pt x="13381" y="10117"/>
                  <a:pt x="13370" y="10170"/>
                </a:cubicBezTo>
                <a:cubicBezTo>
                  <a:pt x="13350" y="10270"/>
                  <a:pt x="13381" y="10373"/>
                  <a:pt x="13395" y="10468"/>
                </a:cubicBezTo>
                <a:cubicBezTo>
                  <a:pt x="13404" y="10532"/>
                  <a:pt x="13409" y="10609"/>
                  <a:pt x="13444" y="10666"/>
                </a:cubicBezTo>
                <a:cubicBezTo>
                  <a:pt x="13467" y="10703"/>
                  <a:pt x="13528" y="10761"/>
                  <a:pt x="13568" y="10765"/>
                </a:cubicBezTo>
                <a:cubicBezTo>
                  <a:pt x="13601" y="10765"/>
                  <a:pt x="13618" y="10765"/>
                  <a:pt x="13643" y="10765"/>
                </a:cubicBezTo>
              </a:path>
              <a:path w="4789" h="1366">
                <a:moveTo>
                  <a:pt x="13965" y="10641"/>
                </a:moveTo>
                <a:cubicBezTo>
                  <a:pt x="13927" y="10729"/>
                  <a:pt x="13909" y="10804"/>
                  <a:pt x="13866" y="10889"/>
                </a:cubicBezTo>
                <a:cubicBezTo>
                  <a:pt x="13834" y="10953"/>
                  <a:pt x="13812" y="11003"/>
                  <a:pt x="13791" y="11063"/>
                </a:cubicBezTo>
                <a:cubicBezTo>
                  <a:pt x="13765" y="11139"/>
                  <a:pt x="13734" y="11174"/>
                  <a:pt x="13667" y="11212"/>
                </a:cubicBezTo>
              </a:path>
              <a:path w="4789" h="1366">
                <a:moveTo>
                  <a:pt x="14362" y="10071"/>
                </a:moveTo>
                <a:cubicBezTo>
                  <a:pt x="14459" y="10071"/>
                  <a:pt x="14544" y="10081"/>
                  <a:pt x="14635" y="10096"/>
                </a:cubicBezTo>
                <a:cubicBezTo>
                  <a:pt x="14716" y="10109"/>
                  <a:pt x="14804" y="10108"/>
                  <a:pt x="14883" y="10120"/>
                </a:cubicBezTo>
                <a:cubicBezTo>
                  <a:pt x="14933" y="10128"/>
                  <a:pt x="15019" y="10135"/>
                  <a:pt x="15032" y="10096"/>
                </a:cubicBezTo>
              </a:path>
              <a:path w="4789" h="1366">
                <a:moveTo>
                  <a:pt x="14511" y="10145"/>
                </a:moveTo>
                <a:cubicBezTo>
                  <a:pt x="14484" y="10209"/>
                  <a:pt x="14486" y="10248"/>
                  <a:pt x="14486" y="10319"/>
                </a:cubicBezTo>
                <a:cubicBezTo>
                  <a:pt x="14486" y="10431"/>
                  <a:pt x="14483" y="10513"/>
                  <a:pt x="14461" y="10616"/>
                </a:cubicBezTo>
                <a:cubicBezTo>
                  <a:pt x="14457" y="10637"/>
                  <a:pt x="14461" y="10797"/>
                  <a:pt x="14461" y="10740"/>
                </a:cubicBezTo>
                <a:cubicBezTo>
                  <a:pt x="14461" y="10712"/>
                  <a:pt x="14464" y="10702"/>
                  <a:pt x="14486" y="10691"/>
                </a:cubicBezTo>
              </a:path>
              <a:path w="4789" h="1366">
                <a:moveTo>
                  <a:pt x="14759" y="10120"/>
                </a:moveTo>
                <a:cubicBezTo>
                  <a:pt x="14759" y="10223"/>
                  <a:pt x="14748" y="10295"/>
                  <a:pt x="14734" y="10393"/>
                </a:cubicBezTo>
                <a:cubicBezTo>
                  <a:pt x="14722" y="10475"/>
                  <a:pt x="14755" y="10539"/>
                  <a:pt x="14759" y="10616"/>
                </a:cubicBezTo>
                <a:cubicBezTo>
                  <a:pt x="14761" y="10658"/>
                  <a:pt x="14766" y="10753"/>
                  <a:pt x="14784" y="10790"/>
                </a:cubicBezTo>
                <a:cubicBezTo>
                  <a:pt x="14801" y="10825"/>
                  <a:pt x="14806" y="10831"/>
                  <a:pt x="14833" y="10840"/>
                </a:cubicBezTo>
              </a:path>
              <a:path w="4789" h="1366">
                <a:moveTo>
                  <a:pt x="15280" y="10716"/>
                </a:moveTo>
                <a:cubicBezTo>
                  <a:pt x="15235" y="10818"/>
                  <a:pt x="15239" y="10877"/>
                  <a:pt x="15205" y="10964"/>
                </a:cubicBezTo>
                <a:cubicBezTo>
                  <a:pt x="15188" y="11007"/>
                  <a:pt x="15180" y="11035"/>
                  <a:pt x="15180" y="11088"/>
                </a:cubicBezTo>
                <a:cubicBezTo>
                  <a:pt x="15180" y="11134"/>
                  <a:pt x="15197" y="11111"/>
                  <a:pt x="15205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705640" y="3625920"/>
            <a:ext cx="295200" cy="29520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15974" y="10195"/>
                </a:moveTo>
                <a:cubicBezTo>
                  <a:pt x="15950" y="10231"/>
                  <a:pt x="15918" y="10278"/>
                  <a:pt x="15900" y="10319"/>
                </a:cubicBezTo>
                <a:cubicBezTo>
                  <a:pt x="15867" y="10393"/>
                  <a:pt x="15854" y="10488"/>
                  <a:pt x="15850" y="10567"/>
                </a:cubicBezTo>
                <a:cubicBezTo>
                  <a:pt x="15846" y="10651"/>
                  <a:pt x="15869" y="10729"/>
                  <a:pt x="15925" y="10790"/>
                </a:cubicBezTo>
                <a:cubicBezTo>
                  <a:pt x="15985" y="10855"/>
                  <a:pt x="16060" y="10879"/>
                  <a:pt x="16148" y="10889"/>
                </a:cubicBezTo>
                <a:cubicBezTo>
                  <a:pt x="16217" y="10897"/>
                  <a:pt x="16364" y="10879"/>
                  <a:pt x="16421" y="10840"/>
                </a:cubicBezTo>
                <a:cubicBezTo>
                  <a:pt x="16518" y="10773"/>
                  <a:pt x="16567" y="10750"/>
                  <a:pt x="16619" y="10641"/>
                </a:cubicBezTo>
                <a:cubicBezTo>
                  <a:pt x="16659" y="10557"/>
                  <a:pt x="16691" y="10463"/>
                  <a:pt x="16669" y="10368"/>
                </a:cubicBezTo>
                <a:cubicBezTo>
                  <a:pt x="16653" y="10297"/>
                  <a:pt x="16646" y="10226"/>
                  <a:pt x="16594" y="10170"/>
                </a:cubicBezTo>
                <a:cubicBezTo>
                  <a:pt x="16522" y="10092"/>
                  <a:pt x="16380" y="10041"/>
                  <a:pt x="16272" y="10071"/>
                </a:cubicBezTo>
                <a:cubicBezTo>
                  <a:pt x="16227" y="10084"/>
                  <a:pt x="16160" y="10142"/>
                  <a:pt x="16123" y="10170"/>
                </a:cubicBezTo>
                <a:cubicBezTo>
                  <a:pt x="16115" y="10178"/>
                  <a:pt x="16106" y="10187"/>
                  <a:pt x="1609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38360" y="2205000"/>
            <a:ext cx="3106800" cy="162000"/>
          </a:xfrm>
          <a:custGeom>
            <a:avLst/>
            <a:gdLst/>
            <a:ahLst/>
            <a:rect l="l" t="t" r="r" b="b"/>
            <a:pathLst>
              <a:path w="8633" h="447">
                <a:moveTo>
                  <a:pt x="9550" y="6251"/>
                </a:moveTo>
                <a:cubicBezTo>
                  <a:pt x="9555" y="6250"/>
                  <a:pt x="9633" y="6233"/>
                  <a:pt x="9674" y="6226"/>
                </a:cubicBezTo>
                <a:cubicBezTo>
                  <a:pt x="9752" y="6212"/>
                  <a:pt x="9812" y="6202"/>
                  <a:pt x="9897" y="6201"/>
                </a:cubicBezTo>
                <a:cubicBezTo>
                  <a:pt x="10123" y="6198"/>
                  <a:pt x="10343" y="6192"/>
                  <a:pt x="10567" y="6176"/>
                </a:cubicBezTo>
                <a:cubicBezTo>
                  <a:pt x="10758" y="6162"/>
                  <a:pt x="10945" y="6152"/>
                  <a:pt x="11137" y="6152"/>
                </a:cubicBezTo>
                <a:cubicBezTo>
                  <a:pt x="11369" y="6152"/>
                  <a:pt x="11598" y="6127"/>
                  <a:pt x="11832" y="6127"/>
                </a:cubicBezTo>
                <a:cubicBezTo>
                  <a:pt x="12247" y="6127"/>
                  <a:pt x="12659" y="6137"/>
                  <a:pt x="13072" y="6152"/>
                </a:cubicBezTo>
                <a:cubicBezTo>
                  <a:pt x="13485" y="6167"/>
                  <a:pt x="13900" y="6191"/>
                  <a:pt x="14312" y="6226"/>
                </a:cubicBezTo>
                <a:cubicBezTo>
                  <a:pt x="14692" y="6258"/>
                  <a:pt x="15072" y="6266"/>
                  <a:pt x="15453" y="6300"/>
                </a:cubicBezTo>
                <a:cubicBezTo>
                  <a:pt x="15985" y="6347"/>
                  <a:pt x="16513" y="6398"/>
                  <a:pt x="17041" y="6474"/>
                </a:cubicBezTo>
                <a:cubicBezTo>
                  <a:pt x="17289" y="6510"/>
                  <a:pt x="17537" y="6527"/>
                  <a:pt x="17785" y="6548"/>
                </a:cubicBezTo>
                <a:cubicBezTo>
                  <a:pt x="17920" y="6560"/>
                  <a:pt x="18060" y="6573"/>
                  <a:pt x="18157" y="6548"/>
                </a:cubicBezTo>
                <a:cubicBezTo>
                  <a:pt x="18181" y="6542"/>
                  <a:pt x="18134" y="6534"/>
                  <a:pt x="18157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Tan x +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687840" y="1751040"/>
            <a:ext cx="992160" cy="436680"/>
          </a:xfrm>
          <a:custGeom>
            <a:avLst/>
            <a:gdLst/>
            <a:ahLst/>
            <a:rect l="l" t="t" r="r" b="b"/>
            <a:pathLst>
              <a:path w="2755" h="1216">
                <a:moveTo>
                  <a:pt x="10616" y="4862"/>
                </a:moveTo>
                <a:cubicBezTo>
                  <a:pt x="10591" y="4922"/>
                  <a:pt x="10592" y="4946"/>
                  <a:pt x="10592" y="5011"/>
                </a:cubicBezTo>
                <a:cubicBezTo>
                  <a:pt x="10592" y="5350"/>
                  <a:pt x="10592" y="6317"/>
                  <a:pt x="10592" y="5978"/>
                </a:cubicBezTo>
                <a:cubicBezTo>
                  <a:pt x="10592" y="5953"/>
                  <a:pt x="10592" y="5945"/>
                  <a:pt x="10592" y="5928"/>
                </a:cubicBezTo>
              </a:path>
              <a:path w="2755" h="1216">
                <a:moveTo>
                  <a:pt x="10244" y="5457"/>
                </a:moveTo>
                <a:cubicBezTo>
                  <a:pt x="10492" y="5457"/>
                  <a:pt x="10740" y="5457"/>
                  <a:pt x="10988" y="5457"/>
                </a:cubicBezTo>
              </a:path>
              <a:path w="2755" h="1216">
                <a:moveTo>
                  <a:pt x="11435" y="5531"/>
                </a:moveTo>
                <a:cubicBezTo>
                  <a:pt x="11452" y="5523"/>
                  <a:pt x="11468" y="5515"/>
                  <a:pt x="11485" y="5507"/>
                </a:cubicBezTo>
                <a:cubicBezTo>
                  <a:pt x="11434" y="5490"/>
                  <a:pt x="11490" y="5459"/>
                  <a:pt x="11435" y="5432"/>
                </a:cubicBezTo>
                <a:cubicBezTo>
                  <a:pt x="11403" y="5416"/>
                  <a:pt x="11397" y="5377"/>
                  <a:pt x="11361" y="5383"/>
                </a:cubicBezTo>
                <a:cubicBezTo>
                  <a:pt x="11274" y="5398"/>
                  <a:pt x="11202" y="5485"/>
                  <a:pt x="11162" y="5556"/>
                </a:cubicBezTo>
                <a:cubicBezTo>
                  <a:pt x="11114" y="5643"/>
                  <a:pt x="11068" y="5730"/>
                  <a:pt x="11063" y="5829"/>
                </a:cubicBezTo>
                <a:cubicBezTo>
                  <a:pt x="11059" y="5897"/>
                  <a:pt x="11066" y="5906"/>
                  <a:pt x="11112" y="5953"/>
                </a:cubicBezTo>
                <a:cubicBezTo>
                  <a:pt x="11160" y="6001"/>
                  <a:pt x="11165" y="5969"/>
                  <a:pt x="11212" y="5953"/>
                </a:cubicBezTo>
                <a:cubicBezTo>
                  <a:pt x="11266" y="5935"/>
                  <a:pt x="11282" y="5909"/>
                  <a:pt x="11311" y="5854"/>
                </a:cubicBezTo>
                <a:cubicBezTo>
                  <a:pt x="11345" y="5790"/>
                  <a:pt x="11355" y="5702"/>
                  <a:pt x="11361" y="5631"/>
                </a:cubicBezTo>
                <a:cubicBezTo>
                  <a:pt x="11361" y="5603"/>
                  <a:pt x="11359" y="5592"/>
                  <a:pt x="11336" y="5581"/>
                </a:cubicBezTo>
                <a:cubicBezTo>
                  <a:pt x="11336" y="5640"/>
                  <a:pt x="11357" y="5675"/>
                  <a:pt x="11361" y="5730"/>
                </a:cubicBezTo>
                <a:cubicBezTo>
                  <a:pt x="11365" y="5791"/>
                  <a:pt x="11392" y="5831"/>
                  <a:pt x="11435" y="5879"/>
                </a:cubicBezTo>
                <a:cubicBezTo>
                  <a:pt x="11461" y="5908"/>
                  <a:pt x="11522" y="5924"/>
                  <a:pt x="11559" y="5928"/>
                </a:cubicBezTo>
                <a:cubicBezTo>
                  <a:pt x="11594" y="5932"/>
                  <a:pt x="11632" y="5899"/>
                  <a:pt x="11658" y="5879"/>
                </a:cubicBezTo>
              </a:path>
              <a:path w="2755" h="1216">
                <a:moveTo>
                  <a:pt x="11757" y="5556"/>
                </a:moveTo>
                <a:cubicBezTo>
                  <a:pt x="11757" y="5619"/>
                  <a:pt x="11727" y="5727"/>
                  <a:pt x="11733" y="5779"/>
                </a:cubicBezTo>
                <a:cubicBezTo>
                  <a:pt x="11739" y="5832"/>
                  <a:pt x="11757" y="5869"/>
                  <a:pt x="11757" y="5928"/>
                </a:cubicBezTo>
                <a:cubicBezTo>
                  <a:pt x="11757" y="5956"/>
                  <a:pt x="11759" y="5967"/>
                  <a:pt x="11782" y="5978"/>
                </a:cubicBezTo>
                <a:cubicBezTo>
                  <a:pt x="11782" y="6045"/>
                  <a:pt x="11789" y="5918"/>
                  <a:pt x="11782" y="5904"/>
                </a:cubicBezTo>
                <a:cubicBezTo>
                  <a:pt x="11744" y="5830"/>
                  <a:pt x="11769" y="5809"/>
                  <a:pt x="11782" y="5730"/>
                </a:cubicBezTo>
                <a:cubicBezTo>
                  <a:pt x="11794" y="5661"/>
                  <a:pt x="11787" y="5620"/>
                  <a:pt x="11832" y="5556"/>
                </a:cubicBezTo>
                <a:cubicBezTo>
                  <a:pt x="11859" y="5517"/>
                  <a:pt x="11934" y="5488"/>
                  <a:pt x="11981" y="5507"/>
                </a:cubicBezTo>
                <a:cubicBezTo>
                  <a:pt x="12038" y="5530"/>
                  <a:pt x="12095" y="5604"/>
                  <a:pt x="12129" y="5655"/>
                </a:cubicBezTo>
                <a:cubicBezTo>
                  <a:pt x="12178" y="5728"/>
                  <a:pt x="12173" y="5800"/>
                  <a:pt x="12204" y="5879"/>
                </a:cubicBezTo>
                <a:cubicBezTo>
                  <a:pt x="12219" y="5918"/>
                  <a:pt x="12247" y="5964"/>
                  <a:pt x="12254" y="5978"/>
                </a:cubicBezTo>
                <a:cubicBezTo>
                  <a:pt x="12254" y="6003"/>
                  <a:pt x="12254" y="6011"/>
                  <a:pt x="12254" y="5978"/>
                </a:cubicBezTo>
              </a:path>
              <a:path w="2755" h="1216">
                <a:moveTo>
                  <a:pt x="12402" y="5531"/>
                </a:moveTo>
                <a:cubicBezTo>
                  <a:pt x="12449" y="5619"/>
                  <a:pt x="12498" y="5675"/>
                  <a:pt x="12551" y="5755"/>
                </a:cubicBezTo>
                <a:cubicBezTo>
                  <a:pt x="12603" y="5833"/>
                  <a:pt x="12628" y="5868"/>
                  <a:pt x="12700" y="5928"/>
                </a:cubicBezTo>
                <a:cubicBezTo>
                  <a:pt x="12753" y="5972"/>
                  <a:pt x="12803" y="6015"/>
                  <a:pt x="12874" y="6028"/>
                </a:cubicBezTo>
                <a:cubicBezTo>
                  <a:pt x="12948" y="6041"/>
                  <a:pt x="12944" y="6022"/>
                  <a:pt x="12973" y="5978"/>
                </a:cubicBezTo>
                <a:cubicBezTo>
                  <a:pt x="13001" y="5950"/>
                  <a:pt x="13010" y="5937"/>
                  <a:pt x="12998" y="5904"/>
                </a:cubicBezTo>
              </a:path>
              <a:path w="2755" h="1216">
                <a:moveTo>
                  <a:pt x="12849" y="5482"/>
                </a:moveTo>
                <a:cubicBezTo>
                  <a:pt x="12790" y="5592"/>
                  <a:pt x="12737" y="5668"/>
                  <a:pt x="12650" y="5755"/>
                </a:cubicBezTo>
                <a:cubicBezTo>
                  <a:pt x="12588" y="5817"/>
                  <a:pt x="12551" y="5900"/>
                  <a:pt x="12477" y="5953"/>
                </a:cubicBezTo>
                <a:cubicBezTo>
                  <a:pt x="12448" y="5974"/>
                  <a:pt x="12368" y="6030"/>
                  <a:pt x="12353" y="6052"/>
                </a:cubicBezTo>
                <a:cubicBezTo>
                  <a:pt x="12333" y="6081"/>
                  <a:pt x="12326" y="6107"/>
                  <a:pt x="12353" y="60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867200" y="2000160"/>
            <a:ext cx="16992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13519" y="5556"/>
                </a:moveTo>
                <a:cubicBezTo>
                  <a:pt x="13557" y="5556"/>
                  <a:pt x="13945" y="5540"/>
                  <a:pt x="13940" y="5581"/>
                </a:cubicBezTo>
                <a:cubicBezTo>
                  <a:pt x="13932" y="5589"/>
                  <a:pt x="13923" y="5598"/>
                  <a:pt x="13915" y="5606"/>
                </a:cubicBezTo>
              </a:path>
              <a:path w="472" h="249">
                <a:moveTo>
                  <a:pt x="13519" y="5804"/>
                </a:moveTo>
                <a:cubicBezTo>
                  <a:pt x="13676" y="5804"/>
                  <a:pt x="13833" y="5804"/>
                  <a:pt x="13990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295960" y="1714680"/>
            <a:ext cx="374760" cy="500040"/>
          </a:xfrm>
          <a:custGeom>
            <a:avLst/>
            <a:gdLst/>
            <a:ahLst/>
            <a:rect l="l" t="t" r="r" b="b"/>
            <a:pathLst>
              <a:path w="1043" h="1391">
                <a:moveTo>
                  <a:pt x="14709" y="5507"/>
                </a:moveTo>
                <a:cubicBezTo>
                  <a:pt x="14785" y="5484"/>
                  <a:pt x="14829" y="5482"/>
                  <a:pt x="14908" y="5482"/>
                </a:cubicBezTo>
                <a:cubicBezTo>
                  <a:pt x="14998" y="5482"/>
                  <a:pt x="15072" y="5471"/>
                  <a:pt x="15156" y="5457"/>
                </a:cubicBezTo>
                <a:cubicBezTo>
                  <a:pt x="15172" y="5457"/>
                  <a:pt x="15189" y="5457"/>
                  <a:pt x="15205" y="5457"/>
                </a:cubicBezTo>
              </a:path>
              <a:path w="1043" h="1391">
                <a:moveTo>
                  <a:pt x="15726" y="4762"/>
                </a:moveTo>
                <a:cubicBezTo>
                  <a:pt x="15779" y="4780"/>
                  <a:pt x="15729" y="4790"/>
                  <a:pt x="15726" y="4837"/>
                </a:cubicBezTo>
                <a:cubicBezTo>
                  <a:pt x="15719" y="4930"/>
                  <a:pt x="15704" y="5017"/>
                  <a:pt x="15701" y="5110"/>
                </a:cubicBezTo>
                <a:cubicBezTo>
                  <a:pt x="15695" y="5281"/>
                  <a:pt x="15711" y="5442"/>
                  <a:pt x="15726" y="5606"/>
                </a:cubicBezTo>
                <a:cubicBezTo>
                  <a:pt x="15743" y="5785"/>
                  <a:pt x="15726" y="5972"/>
                  <a:pt x="15726" y="6152"/>
                </a:cubicBezTo>
                <a:cubicBezTo>
                  <a:pt x="15671" y="6134"/>
                  <a:pt x="15734" y="6141"/>
                  <a:pt x="15652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33840" y="3125880"/>
            <a:ext cx="465120" cy="366480"/>
          </a:xfrm>
          <a:custGeom>
            <a:avLst/>
            <a:gdLst/>
            <a:ahLst/>
            <a:rect l="l" t="t" r="r" b="b"/>
            <a:pathLst>
              <a:path w="1290" h="1018">
                <a:moveTo>
                  <a:pt x="10096" y="8706"/>
                </a:moveTo>
                <a:lnTo>
                  <a:pt x="10096" y="8706"/>
                </a:lnTo>
              </a:path>
              <a:path w="1290" h="1018">
                <a:moveTo>
                  <a:pt x="10096" y="8706"/>
                </a:moveTo>
                <a:cubicBezTo>
                  <a:pt x="10096" y="8723"/>
                  <a:pt x="10096" y="8739"/>
                  <a:pt x="10096" y="8756"/>
                </a:cubicBezTo>
              </a:path>
              <a:path w="1290" h="1018">
                <a:moveTo>
                  <a:pt x="10096" y="8756"/>
                </a:moveTo>
                <a:cubicBezTo>
                  <a:pt x="10104" y="8834"/>
                  <a:pt x="10121" y="8904"/>
                  <a:pt x="10145" y="8979"/>
                </a:cubicBezTo>
                <a:cubicBezTo>
                  <a:pt x="10181" y="9090"/>
                  <a:pt x="10255" y="9180"/>
                  <a:pt x="10319" y="9277"/>
                </a:cubicBezTo>
                <a:cubicBezTo>
                  <a:pt x="10380" y="9368"/>
                  <a:pt x="10469" y="9440"/>
                  <a:pt x="10542" y="9525"/>
                </a:cubicBezTo>
                <a:cubicBezTo>
                  <a:pt x="10583" y="9572"/>
                  <a:pt x="10685" y="9653"/>
                  <a:pt x="10740" y="9674"/>
                </a:cubicBezTo>
                <a:cubicBezTo>
                  <a:pt x="10773" y="9682"/>
                  <a:pt x="10807" y="9691"/>
                  <a:pt x="10840" y="9699"/>
                </a:cubicBezTo>
                <a:cubicBezTo>
                  <a:pt x="10840" y="9666"/>
                  <a:pt x="10840" y="9632"/>
                  <a:pt x="10840" y="9599"/>
                </a:cubicBezTo>
              </a:path>
              <a:path w="1290" h="1018">
                <a:moveTo>
                  <a:pt x="10691" y="8682"/>
                </a:moveTo>
                <a:cubicBezTo>
                  <a:pt x="10636" y="8736"/>
                  <a:pt x="10575" y="8784"/>
                  <a:pt x="10542" y="8855"/>
                </a:cubicBezTo>
                <a:cubicBezTo>
                  <a:pt x="10495" y="8957"/>
                  <a:pt x="10453" y="9057"/>
                  <a:pt x="10393" y="9153"/>
                </a:cubicBezTo>
                <a:cubicBezTo>
                  <a:pt x="10343" y="9232"/>
                  <a:pt x="10301" y="9328"/>
                  <a:pt x="10244" y="9401"/>
                </a:cubicBezTo>
                <a:cubicBezTo>
                  <a:pt x="10189" y="9472"/>
                  <a:pt x="10189" y="9470"/>
                  <a:pt x="10145" y="9550"/>
                </a:cubicBezTo>
                <a:cubicBezTo>
                  <a:pt x="10117" y="9601"/>
                  <a:pt x="10120" y="9605"/>
                  <a:pt x="10120" y="9550"/>
                </a:cubicBezTo>
              </a:path>
              <a:path w="1290" h="1018">
                <a:moveTo>
                  <a:pt x="10939" y="9029"/>
                </a:moveTo>
                <a:cubicBezTo>
                  <a:pt x="10989" y="9042"/>
                  <a:pt x="11002" y="9054"/>
                  <a:pt x="11063" y="9054"/>
                </a:cubicBezTo>
                <a:cubicBezTo>
                  <a:pt x="11161" y="9054"/>
                  <a:pt x="11244" y="9052"/>
                  <a:pt x="11336" y="9029"/>
                </a:cubicBezTo>
                <a:cubicBezTo>
                  <a:pt x="11423" y="9007"/>
                  <a:pt x="11339" y="9026"/>
                  <a:pt x="11336" y="9029"/>
                </a:cubicBezTo>
                <a:cubicBezTo>
                  <a:pt x="11336" y="9037"/>
                  <a:pt x="11336" y="9046"/>
                  <a:pt x="11336" y="9054"/>
                </a:cubicBezTo>
              </a:path>
              <a:path w="1290" h="1018">
                <a:moveTo>
                  <a:pt x="10988" y="9252"/>
                </a:moveTo>
                <a:cubicBezTo>
                  <a:pt x="11030" y="9284"/>
                  <a:pt x="11056" y="9277"/>
                  <a:pt x="11112" y="9277"/>
                </a:cubicBezTo>
                <a:cubicBezTo>
                  <a:pt x="11178" y="9277"/>
                  <a:pt x="11226" y="9298"/>
                  <a:pt x="11286" y="9302"/>
                </a:cubicBezTo>
                <a:cubicBezTo>
                  <a:pt x="11327" y="9305"/>
                  <a:pt x="11402" y="9302"/>
                  <a:pt x="11361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2857680"/>
            <a:ext cx="500040" cy="928440"/>
          </a:xfrm>
          <a:custGeom>
            <a:avLst/>
            <a:gdLst/>
            <a:ahLst/>
            <a:rect l="l" t="t" r="r" b="b"/>
            <a:pathLst>
              <a:path w="1390" h="2580">
                <a:moveTo>
                  <a:pt x="12055" y="7987"/>
                </a:moveTo>
                <a:cubicBezTo>
                  <a:pt x="12080" y="7981"/>
                  <a:pt x="12132" y="7974"/>
                  <a:pt x="12154" y="7962"/>
                </a:cubicBezTo>
                <a:cubicBezTo>
                  <a:pt x="12205" y="7935"/>
                  <a:pt x="12242" y="7938"/>
                  <a:pt x="12303" y="7938"/>
                </a:cubicBezTo>
                <a:cubicBezTo>
                  <a:pt x="12369" y="7938"/>
                  <a:pt x="12401" y="7940"/>
                  <a:pt x="12452" y="7987"/>
                </a:cubicBezTo>
                <a:cubicBezTo>
                  <a:pt x="12510" y="8041"/>
                  <a:pt x="12510" y="8095"/>
                  <a:pt x="12477" y="8161"/>
                </a:cubicBezTo>
                <a:cubicBezTo>
                  <a:pt x="12469" y="8177"/>
                  <a:pt x="12373" y="8254"/>
                  <a:pt x="12353" y="8260"/>
                </a:cubicBezTo>
                <a:cubicBezTo>
                  <a:pt x="12306" y="8273"/>
                  <a:pt x="12248" y="8284"/>
                  <a:pt x="12204" y="8310"/>
                </a:cubicBezTo>
                <a:cubicBezTo>
                  <a:pt x="12196" y="8318"/>
                  <a:pt x="12187" y="8326"/>
                  <a:pt x="12179" y="8334"/>
                </a:cubicBezTo>
                <a:cubicBezTo>
                  <a:pt x="12112" y="8334"/>
                  <a:pt x="12218" y="8334"/>
                  <a:pt x="12229" y="8334"/>
                </a:cubicBezTo>
                <a:cubicBezTo>
                  <a:pt x="12293" y="8334"/>
                  <a:pt x="12326" y="8344"/>
                  <a:pt x="12378" y="8384"/>
                </a:cubicBezTo>
                <a:cubicBezTo>
                  <a:pt x="12424" y="8419"/>
                  <a:pt x="12480" y="8528"/>
                  <a:pt x="12477" y="8582"/>
                </a:cubicBezTo>
                <a:cubicBezTo>
                  <a:pt x="12474" y="8636"/>
                  <a:pt x="12389" y="8679"/>
                  <a:pt x="12353" y="8706"/>
                </a:cubicBezTo>
                <a:cubicBezTo>
                  <a:pt x="12290" y="8753"/>
                  <a:pt x="12258" y="8756"/>
                  <a:pt x="12179" y="8756"/>
                </a:cubicBezTo>
                <a:cubicBezTo>
                  <a:pt x="12125" y="8756"/>
                  <a:pt x="12100" y="8742"/>
                  <a:pt x="12055" y="8731"/>
                </a:cubicBezTo>
                <a:cubicBezTo>
                  <a:pt x="12055" y="8665"/>
                  <a:pt x="12088" y="8641"/>
                  <a:pt x="12129" y="8582"/>
                </a:cubicBezTo>
              </a:path>
              <a:path w="1390" h="2580">
                <a:moveTo>
                  <a:pt x="12750" y="8111"/>
                </a:moveTo>
                <a:cubicBezTo>
                  <a:pt x="12863" y="8111"/>
                  <a:pt x="12974" y="8101"/>
                  <a:pt x="13072" y="8086"/>
                </a:cubicBezTo>
                <a:cubicBezTo>
                  <a:pt x="13129" y="8086"/>
                  <a:pt x="13154" y="8103"/>
                  <a:pt x="13146" y="8062"/>
                </a:cubicBezTo>
              </a:path>
              <a:path w="1390" h="2580">
                <a:moveTo>
                  <a:pt x="12849" y="8111"/>
                </a:moveTo>
                <a:cubicBezTo>
                  <a:pt x="12849" y="8242"/>
                  <a:pt x="12831" y="8360"/>
                  <a:pt x="12824" y="8483"/>
                </a:cubicBezTo>
                <a:cubicBezTo>
                  <a:pt x="12820" y="8557"/>
                  <a:pt x="12821" y="8683"/>
                  <a:pt x="12824" y="8682"/>
                </a:cubicBezTo>
                <a:cubicBezTo>
                  <a:pt x="12849" y="8682"/>
                  <a:pt x="12857" y="8682"/>
                  <a:pt x="12849" y="8657"/>
                </a:cubicBezTo>
              </a:path>
              <a:path w="1390" h="2580">
                <a:moveTo>
                  <a:pt x="13047" y="8161"/>
                </a:moveTo>
                <a:cubicBezTo>
                  <a:pt x="13075" y="8224"/>
                  <a:pt x="13072" y="8263"/>
                  <a:pt x="13072" y="8334"/>
                </a:cubicBezTo>
                <a:cubicBezTo>
                  <a:pt x="13072" y="8427"/>
                  <a:pt x="13068" y="8521"/>
                  <a:pt x="13097" y="8607"/>
                </a:cubicBezTo>
                <a:cubicBezTo>
                  <a:pt x="13117" y="8667"/>
                  <a:pt x="13152" y="8712"/>
                  <a:pt x="13196" y="8756"/>
                </a:cubicBezTo>
                <a:cubicBezTo>
                  <a:pt x="13221" y="8781"/>
                  <a:pt x="13229" y="8789"/>
                  <a:pt x="13246" y="8806"/>
                </a:cubicBezTo>
              </a:path>
              <a:path w="1390" h="2580">
                <a:moveTo>
                  <a:pt x="12129" y="8979"/>
                </a:moveTo>
                <a:cubicBezTo>
                  <a:pt x="12225" y="8998"/>
                  <a:pt x="12331" y="9020"/>
                  <a:pt x="12427" y="9029"/>
                </a:cubicBezTo>
                <a:cubicBezTo>
                  <a:pt x="12569" y="9043"/>
                  <a:pt x="12709" y="9035"/>
                  <a:pt x="12849" y="9054"/>
                </a:cubicBezTo>
                <a:cubicBezTo>
                  <a:pt x="12865" y="9054"/>
                  <a:pt x="12882" y="9054"/>
                  <a:pt x="12898" y="9054"/>
                </a:cubicBezTo>
              </a:path>
              <a:path w="1390" h="2580">
                <a:moveTo>
                  <a:pt x="12526" y="9302"/>
                </a:moveTo>
                <a:cubicBezTo>
                  <a:pt x="12497" y="9356"/>
                  <a:pt x="12445" y="9419"/>
                  <a:pt x="12427" y="9451"/>
                </a:cubicBezTo>
                <a:cubicBezTo>
                  <a:pt x="12413" y="9476"/>
                  <a:pt x="12381" y="9569"/>
                  <a:pt x="12378" y="9599"/>
                </a:cubicBezTo>
                <a:cubicBezTo>
                  <a:pt x="12370" y="9673"/>
                  <a:pt x="12456" y="9672"/>
                  <a:pt x="12502" y="9674"/>
                </a:cubicBezTo>
                <a:cubicBezTo>
                  <a:pt x="12572" y="9678"/>
                  <a:pt x="12626" y="9699"/>
                  <a:pt x="12700" y="9699"/>
                </a:cubicBezTo>
                <a:cubicBezTo>
                  <a:pt x="12771" y="9699"/>
                  <a:pt x="12810" y="9701"/>
                  <a:pt x="12874" y="9674"/>
                </a:cubicBezTo>
              </a:path>
              <a:path w="1390" h="2580">
                <a:moveTo>
                  <a:pt x="12874" y="9376"/>
                </a:moveTo>
                <a:cubicBezTo>
                  <a:pt x="12851" y="9496"/>
                  <a:pt x="12851" y="9632"/>
                  <a:pt x="12824" y="9748"/>
                </a:cubicBezTo>
                <a:cubicBezTo>
                  <a:pt x="12805" y="9832"/>
                  <a:pt x="12799" y="9905"/>
                  <a:pt x="12799" y="9996"/>
                </a:cubicBezTo>
                <a:cubicBezTo>
                  <a:pt x="12799" y="10038"/>
                  <a:pt x="12799" y="10236"/>
                  <a:pt x="12799" y="10195"/>
                </a:cubicBezTo>
              </a:path>
              <a:path w="1390" h="2580">
                <a:moveTo>
                  <a:pt x="13444" y="10071"/>
                </a:moveTo>
                <a:cubicBezTo>
                  <a:pt x="13414" y="10177"/>
                  <a:pt x="13395" y="10239"/>
                  <a:pt x="13320" y="10319"/>
                </a:cubicBezTo>
                <a:cubicBezTo>
                  <a:pt x="13241" y="10403"/>
                  <a:pt x="13197" y="10446"/>
                  <a:pt x="13097" y="105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072040" y="2847960"/>
            <a:ext cx="473040" cy="911160"/>
          </a:xfrm>
          <a:custGeom>
            <a:avLst/>
            <a:gdLst/>
            <a:ahLst/>
            <a:rect l="l" t="t" r="r" b="b"/>
            <a:pathLst>
              <a:path w="1316" h="2531">
                <a:moveTo>
                  <a:pt x="14089" y="7962"/>
                </a:moveTo>
                <a:cubicBezTo>
                  <a:pt x="14149" y="7962"/>
                  <a:pt x="14182" y="7947"/>
                  <a:pt x="14238" y="7938"/>
                </a:cubicBezTo>
                <a:cubicBezTo>
                  <a:pt x="14299" y="7928"/>
                  <a:pt x="14349" y="7913"/>
                  <a:pt x="14412" y="7913"/>
                </a:cubicBezTo>
                <a:cubicBezTo>
                  <a:pt x="14453" y="7913"/>
                  <a:pt x="14495" y="7913"/>
                  <a:pt x="14536" y="7913"/>
                </a:cubicBezTo>
                <a:cubicBezTo>
                  <a:pt x="14536" y="7973"/>
                  <a:pt x="14521" y="8006"/>
                  <a:pt x="14511" y="8062"/>
                </a:cubicBezTo>
                <a:cubicBezTo>
                  <a:pt x="14495" y="8152"/>
                  <a:pt x="14463" y="8243"/>
                  <a:pt x="14436" y="8334"/>
                </a:cubicBezTo>
                <a:cubicBezTo>
                  <a:pt x="14415" y="8405"/>
                  <a:pt x="14399" y="8487"/>
                  <a:pt x="14387" y="8558"/>
                </a:cubicBezTo>
                <a:cubicBezTo>
                  <a:pt x="14377" y="8618"/>
                  <a:pt x="14379" y="8656"/>
                  <a:pt x="14362" y="8706"/>
                </a:cubicBezTo>
                <a:cubicBezTo>
                  <a:pt x="14362" y="8741"/>
                  <a:pt x="14367" y="8740"/>
                  <a:pt x="14387" y="8682"/>
                </a:cubicBezTo>
              </a:path>
              <a:path w="1316" h="2531">
                <a:moveTo>
                  <a:pt x="14858" y="7987"/>
                </a:moveTo>
                <a:cubicBezTo>
                  <a:pt x="15040" y="7987"/>
                  <a:pt x="15222" y="7987"/>
                  <a:pt x="15404" y="7987"/>
                </a:cubicBezTo>
              </a:path>
              <a:path w="1316" h="2531">
                <a:moveTo>
                  <a:pt x="14982" y="8012"/>
                </a:moveTo>
                <a:cubicBezTo>
                  <a:pt x="14939" y="8134"/>
                  <a:pt x="14932" y="8185"/>
                  <a:pt x="14932" y="8310"/>
                </a:cubicBezTo>
                <a:cubicBezTo>
                  <a:pt x="14932" y="8402"/>
                  <a:pt x="14920" y="8470"/>
                  <a:pt x="14908" y="8558"/>
                </a:cubicBezTo>
                <a:cubicBezTo>
                  <a:pt x="14900" y="8613"/>
                  <a:pt x="14895" y="8634"/>
                  <a:pt x="14883" y="8682"/>
                </a:cubicBezTo>
                <a:cubicBezTo>
                  <a:pt x="14914" y="8630"/>
                  <a:pt x="14924" y="8572"/>
                  <a:pt x="14932" y="8508"/>
                </a:cubicBezTo>
              </a:path>
              <a:path w="1316" h="2531">
                <a:moveTo>
                  <a:pt x="15180" y="8111"/>
                </a:moveTo>
                <a:cubicBezTo>
                  <a:pt x="15180" y="8202"/>
                  <a:pt x="15159" y="8271"/>
                  <a:pt x="15156" y="8359"/>
                </a:cubicBezTo>
                <a:cubicBezTo>
                  <a:pt x="15152" y="8460"/>
                  <a:pt x="15135" y="8597"/>
                  <a:pt x="15180" y="8682"/>
                </a:cubicBezTo>
                <a:cubicBezTo>
                  <a:pt x="15194" y="8709"/>
                  <a:pt x="15228" y="8792"/>
                  <a:pt x="15255" y="8806"/>
                </a:cubicBezTo>
                <a:cubicBezTo>
                  <a:pt x="15263" y="8806"/>
                  <a:pt x="15272" y="8806"/>
                  <a:pt x="15280" y="8806"/>
                </a:cubicBezTo>
              </a:path>
              <a:path w="1316" h="2531">
                <a:moveTo>
                  <a:pt x="14263" y="8954"/>
                </a:moveTo>
                <a:cubicBezTo>
                  <a:pt x="14366" y="8980"/>
                  <a:pt x="14453" y="8979"/>
                  <a:pt x="14560" y="8979"/>
                </a:cubicBezTo>
                <a:cubicBezTo>
                  <a:pt x="14693" y="8979"/>
                  <a:pt x="14822" y="9004"/>
                  <a:pt x="14957" y="9004"/>
                </a:cubicBezTo>
                <a:cubicBezTo>
                  <a:pt x="15002" y="9004"/>
                  <a:pt x="15015" y="9001"/>
                  <a:pt x="15032" y="9029"/>
                </a:cubicBezTo>
              </a:path>
              <a:path w="1316" h="2531">
                <a:moveTo>
                  <a:pt x="14560" y="9327"/>
                </a:moveTo>
                <a:cubicBezTo>
                  <a:pt x="14522" y="9415"/>
                  <a:pt x="14452" y="9522"/>
                  <a:pt x="14486" y="9624"/>
                </a:cubicBezTo>
                <a:cubicBezTo>
                  <a:pt x="14498" y="9661"/>
                  <a:pt x="14528" y="9681"/>
                  <a:pt x="14560" y="9699"/>
                </a:cubicBezTo>
                <a:cubicBezTo>
                  <a:pt x="14623" y="9734"/>
                  <a:pt x="14688" y="9745"/>
                  <a:pt x="14759" y="9748"/>
                </a:cubicBezTo>
                <a:cubicBezTo>
                  <a:pt x="14810" y="9750"/>
                  <a:pt x="14888" y="9728"/>
                  <a:pt x="14932" y="9699"/>
                </a:cubicBezTo>
                <a:cubicBezTo>
                  <a:pt x="14940" y="9691"/>
                  <a:pt x="14949" y="9682"/>
                  <a:pt x="14957" y="9674"/>
                </a:cubicBezTo>
              </a:path>
              <a:path w="1316" h="2531">
                <a:moveTo>
                  <a:pt x="14883" y="9376"/>
                </a:moveTo>
                <a:cubicBezTo>
                  <a:pt x="14883" y="9643"/>
                  <a:pt x="14880" y="9909"/>
                  <a:pt x="14908" y="10170"/>
                </a:cubicBezTo>
                <a:cubicBezTo>
                  <a:pt x="14918" y="10263"/>
                  <a:pt x="14932" y="10348"/>
                  <a:pt x="14932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457200"/>
          <a:ext cx="8839080" cy="10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88390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677960" y="1785960"/>
            <a:ext cx="3529080" cy="1241280"/>
          </a:xfrm>
          <a:custGeom>
            <a:avLst/>
            <a:gdLst/>
            <a:ahLst/>
            <a:rect l="l" t="t" r="r" b="b"/>
            <a:pathLst>
              <a:path w="9799" h="3449">
                <a:moveTo>
                  <a:pt x="5829" y="5383"/>
                </a:moveTo>
                <a:cubicBezTo>
                  <a:pt x="5783" y="5366"/>
                  <a:pt x="5755" y="5350"/>
                  <a:pt x="5705" y="5358"/>
                </a:cubicBezTo>
                <a:cubicBezTo>
                  <a:pt x="5645" y="5368"/>
                  <a:pt x="5589" y="5387"/>
                  <a:pt x="5531" y="5407"/>
                </a:cubicBezTo>
                <a:cubicBezTo>
                  <a:pt x="5404" y="5451"/>
                  <a:pt x="5300" y="5538"/>
                  <a:pt x="5184" y="5606"/>
                </a:cubicBezTo>
                <a:cubicBezTo>
                  <a:pt x="5120" y="5644"/>
                  <a:pt x="5056" y="5694"/>
                  <a:pt x="5011" y="5755"/>
                </a:cubicBezTo>
                <a:cubicBezTo>
                  <a:pt x="4990" y="5784"/>
                  <a:pt x="4973" y="5813"/>
                  <a:pt x="4986" y="5854"/>
                </a:cubicBezTo>
                <a:cubicBezTo>
                  <a:pt x="4989" y="5863"/>
                  <a:pt x="5041" y="5894"/>
                  <a:pt x="5060" y="5904"/>
                </a:cubicBezTo>
                <a:cubicBezTo>
                  <a:pt x="5130" y="5941"/>
                  <a:pt x="5211" y="5929"/>
                  <a:pt x="5283" y="5953"/>
                </a:cubicBezTo>
                <a:cubicBezTo>
                  <a:pt x="5394" y="5990"/>
                  <a:pt x="5488" y="6065"/>
                  <a:pt x="5581" y="6127"/>
                </a:cubicBezTo>
                <a:cubicBezTo>
                  <a:pt x="5629" y="6159"/>
                  <a:pt x="5715" y="6208"/>
                  <a:pt x="5755" y="6251"/>
                </a:cubicBezTo>
                <a:cubicBezTo>
                  <a:pt x="5788" y="6286"/>
                  <a:pt x="5844" y="6377"/>
                  <a:pt x="5854" y="6424"/>
                </a:cubicBezTo>
                <a:cubicBezTo>
                  <a:pt x="5869" y="6490"/>
                  <a:pt x="5848" y="6540"/>
                  <a:pt x="5829" y="6598"/>
                </a:cubicBezTo>
                <a:cubicBezTo>
                  <a:pt x="5809" y="6656"/>
                  <a:pt x="5784" y="6711"/>
                  <a:pt x="5730" y="6747"/>
                </a:cubicBezTo>
                <a:cubicBezTo>
                  <a:pt x="5689" y="6774"/>
                  <a:pt x="5607" y="6793"/>
                  <a:pt x="5556" y="6796"/>
                </a:cubicBezTo>
                <a:cubicBezTo>
                  <a:pt x="5479" y="6800"/>
                  <a:pt x="5414" y="6821"/>
                  <a:pt x="5333" y="6821"/>
                </a:cubicBezTo>
                <a:cubicBezTo>
                  <a:pt x="5248" y="6821"/>
                  <a:pt x="5173" y="6796"/>
                  <a:pt x="5085" y="6796"/>
                </a:cubicBezTo>
                <a:cubicBezTo>
                  <a:pt x="5031" y="6796"/>
                  <a:pt x="4940" y="6787"/>
                  <a:pt x="4887" y="6772"/>
                </a:cubicBezTo>
                <a:cubicBezTo>
                  <a:pt x="4808" y="6750"/>
                  <a:pt x="4806" y="6766"/>
                  <a:pt x="4738" y="6772"/>
                </a:cubicBezTo>
                <a:cubicBezTo>
                  <a:pt x="4725" y="6773"/>
                  <a:pt x="4625" y="6814"/>
                  <a:pt x="4663" y="6821"/>
                </a:cubicBezTo>
                <a:cubicBezTo>
                  <a:pt x="4691" y="6821"/>
                  <a:pt x="4702" y="6819"/>
                  <a:pt x="4713" y="6796"/>
                </a:cubicBezTo>
              </a:path>
              <a:path w="9799" h="3449">
                <a:moveTo>
                  <a:pt x="6226" y="6375"/>
                </a:moveTo>
                <a:cubicBezTo>
                  <a:pt x="6226" y="6438"/>
                  <a:pt x="6211" y="6467"/>
                  <a:pt x="6201" y="6524"/>
                </a:cubicBezTo>
                <a:cubicBezTo>
                  <a:pt x="6188" y="6595"/>
                  <a:pt x="6240" y="6875"/>
                  <a:pt x="6176" y="6896"/>
                </a:cubicBezTo>
              </a:path>
              <a:path w="9799" h="3449">
                <a:moveTo>
                  <a:pt x="6176" y="5928"/>
                </a:moveTo>
                <a:cubicBezTo>
                  <a:pt x="6176" y="5936"/>
                  <a:pt x="6176" y="5945"/>
                  <a:pt x="6176" y="5953"/>
                </a:cubicBezTo>
              </a:path>
              <a:path w="9799" h="3449">
                <a:moveTo>
                  <a:pt x="6548" y="6796"/>
                </a:moveTo>
                <a:cubicBezTo>
                  <a:pt x="6524" y="6739"/>
                  <a:pt x="6524" y="6711"/>
                  <a:pt x="6524" y="6648"/>
                </a:cubicBezTo>
                <a:cubicBezTo>
                  <a:pt x="6524" y="6600"/>
                  <a:pt x="6533" y="6519"/>
                  <a:pt x="6548" y="6474"/>
                </a:cubicBezTo>
                <a:cubicBezTo>
                  <a:pt x="6569" y="6410"/>
                  <a:pt x="6575" y="6352"/>
                  <a:pt x="6623" y="6300"/>
                </a:cubicBezTo>
                <a:cubicBezTo>
                  <a:pt x="6647" y="6274"/>
                  <a:pt x="6711" y="6218"/>
                  <a:pt x="6722" y="6201"/>
                </a:cubicBezTo>
                <a:cubicBezTo>
                  <a:pt x="6744" y="6167"/>
                  <a:pt x="6770" y="6176"/>
                  <a:pt x="6821" y="6176"/>
                </a:cubicBezTo>
                <a:cubicBezTo>
                  <a:pt x="6890" y="6176"/>
                  <a:pt x="6945" y="6205"/>
                  <a:pt x="6995" y="6251"/>
                </a:cubicBezTo>
                <a:cubicBezTo>
                  <a:pt x="7066" y="6317"/>
                  <a:pt x="7066" y="6340"/>
                  <a:pt x="7094" y="6424"/>
                </a:cubicBezTo>
                <a:cubicBezTo>
                  <a:pt x="7121" y="6503"/>
                  <a:pt x="7144" y="6536"/>
                  <a:pt x="7144" y="6623"/>
                </a:cubicBezTo>
                <a:cubicBezTo>
                  <a:pt x="7144" y="6693"/>
                  <a:pt x="7161" y="6729"/>
                  <a:pt x="7169" y="6796"/>
                </a:cubicBezTo>
                <a:cubicBezTo>
                  <a:pt x="7175" y="6852"/>
                  <a:pt x="7144" y="6867"/>
                  <a:pt x="7144" y="6921"/>
                </a:cubicBezTo>
                <a:cubicBezTo>
                  <a:pt x="7144" y="6945"/>
                  <a:pt x="7144" y="6953"/>
                  <a:pt x="7144" y="6921"/>
                </a:cubicBezTo>
              </a:path>
              <a:path w="9799" h="3449">
                <a:moveTo>
                  <a:pt x="7491" y="4961"/>
                </a:moveTo>
                <a:cubicBezTo>
                  <a:pt x="7491" y="5119"/>
                  <a:pt x="7504" y="5282"/>
                  <a:pt x="7466" y="5432"/>
                </a:cubicBezTo>
                <a:cubicBezTo>
                  <a:pt x="7453" y="5484"/>
                  <a:pt x="7457" y="5534"/>
                  <a:pt x="7441" y="5581"/>
                </a:cubicBezTo>
                <a:cubicBezTo>
                  <a:pt x="7425" y="5629"/>
                  <a:pt x="7406" y="5687"/>
                  <a:pt x="7392" y="5730"/>
                </a:cubicBezTo>
                <a:cubicBezTo>
                  <a:pt x="7392" y="5738"/>
                  <a:pt x="7392" y="5747"/>
                  <a:pt x="7392" y="5755"/>
                </a:cubicBezTo>
              </a:path>
              <a:path w="9799" h="3449">
                <a:moveTo>
                  <a:pt x="7020" y="5879"/>
                </a:moveTo>
                <a:cubicBezTo>
                  <a:pt x="7111" y="5879"/>
                  <a:pt x="7184" y="5890"/>
                  <a:pt x="7268" y="5904"/>
                </a:cubicBezTo>
                <a:cubicBezTo>
                  <a:pt x="7390" y="5925"/>
                  <a:pt x="7558" y="5912"/>
                  <a:pt x="7665" y="5879"/>
                </a:cubicBezTo>
                <a:cubicBezTo>
                  <a:pt x="7713" y="5864"/>
                  <a:pt x="7724" y="5897"/>
                  <a:pt x="7739" y="5904"/>
                </a:cubicBezTo>
                <a:cubicBezTo>
                  <a:pt x="7779" y="5924"/>
                  <a:pt x="7748" y="5920"/>
                  <a:pt x="7714" y="5928"/>
                </a:cubicBezTo>
              </a:path>
              <a:path w="9799" h="3449">
                <a:moveTo>
                  <a:pt x="7342" y="6201"/>
                </a:moveTo>
                <a:cubicBezTo>
                  <a:pt x="7350" y="6178"/>
                  <a:pt x="7393" y="6154"/>
                  <a:pt x="7417" y="6152"/>
                </a:cubicBezTo>
                <a:cubicBezTo>
                  <a:pt x="7482" y="6147"/>
                  <a:pt x="7511" y="6161"/>
                  <a:pt x="7541" y="6176"/>
                </a:cubicBezTo>
                <a:cubicBezTo>
                  <a:pt x="7566" y="6188"/>
                  <a:pt x="7629" y="6203"/>
                  <a:pt x="7615" y="6251"/>
                </a:cubicBezTo>
                <a:cubicBezTo>
                  <a:pt x="7598" y="6310"/>
                  <a:pt x="7530" y="6371"/>
                  <a:pt x="7516" y="6424"/>
                </a:cubicBezTo>
                <a:cubicBezTo>
                  <a:pt x="7503" y="6471"/>
                  <a:pt x="7492" y="6509"/>
                  <a:pt x="7466" y="6548"/>
                </a:cubicBezTo>
                <a:cubicBezTo>
                  <a:pt x="7441" y="6585"/>
                  <a:pt x="7441" y="6578"/>
                  <a:pt x="7441" y="6623"/>
                </a:cubicBezTo>
                <a:cubicBezTo>
                  <a:pt x="7518" y="6623"/>
                  <a:pt x="7575" y="6626"/>
                  <a:pt x="7640" y="6648"/>
                </a:cubicBezTo>
                <a:cubicBezTo>
                  <a:pt x="7673" y="6659"/>
                  <a:pt x="7707" y="6664"/>
                  <a:pt x="7739" y="6672"/>
                </a:cubicBezTo>
              </a:path>
              <a:path w="9799" h="3449">
                <a:moveTo>
                  <a:pt x="8210" y="6226"/>
                </a:moveTo>
                <a:cubicBezTo>
                  <a:pt x="8221" y="6272"/>
                  <a:pt x="8261" y="6304"/>
                  <a:pt x="8285" y="6350"/>
                </a:cubicBezTo>
                <a:cubicBezTo>
                  <a:pt x="8330" y="6434"/>
                  <a:pt x="8392" y="6518"/>
                  <a:pt x="8434" y="6598"/>
                </a:cubicBezTo>
                <a:cubicBezTo>
                  <a:pt x="8474" y="6675"/>
                  <a:pt x="8519" y="6741"/>
                  <a:pt x="8558" y="6821"/>
                </a:cubicBezTo>
                <a:cubicBezTo>
                  <a:pt x="8594" y="6893"/>
                  <a:pt x="8625" y="6982"/>
                  <a:pt x="8657" y="7045"/>
                </a:cubicBezTo>
                <a:cubicBezTo>
                  <a:pt x="8678" y="7087"/>
                  <a:pt x="8716" y="7113"/>
                  <a:pt x="8731" y="7069"/>
                </a:cubicBezTo>
              </a:path>
              <a:path w="9799" h="3449">
                <a:moveTo>
                  <a:pt x="8731" y="6375"/>
                </a:moveTo>
                <a:cubicBezTo>
                  <a:pt x="8690" y="6416"/>
                  <a:pt x="8660" y="6447"/>
                  <a:pt x="8632" y="6499"/>
                </a:cubicBezTo>
                <a:cubicBezTo>
                  <a:pt x="8590" y="6578"/>
                  <a:pt x="8529" y="6643"/>
                  <a:pt x="8483" y="6722"/>
                </a:cubicBezTo>
                <a:cubicBezTo>
                  <a:pt x="8441" y="6796"/>
                  <a:pt x="8380" y="6851"/>
                  <a:pt x="8334" y="6921"/>
                </a:cubicBezTo>
                <a:cubicBezTo>
                  <a:pt x="8308" y="6960"/>
                  <a:pt x="8273" y="7029"/>
                  <a:pt x="8260" y="7069"/>
                </a:cubicBezTo>
                <a:cubicBezTo>
                  <a:pt x="8240" y="7127"/>
                  <a:pt x="8272" y="7120"/>
                  <a:pt x="8285" y="7069"/>
                </a:cubicBezTo>
              </a:path>
              <a:path w="9799" h="3449">
                <a:moveTo>
                  <a:pt x="9748" y="6152"/>
                </a:moveTo>
                <a:cubicBezTo>
                  <a:pt x="9686" y="6144"/>
                  <a:pt x="9657" y="6146"/>
                  <a:pt x="9599" y="6152"/>
                </a:cubicBezTo>
                <a:cubicBezTo>
                  <a:pt x="9551" y="6157"/>
                  <a:pt x="9496" y="6161"/>
                  <a:pt x="9451" y="6176"/>
                </a:cubicBezTo>
                <a:cubicBezTo>
                  <a:pt x="9390" y="6196"/>
                  <a:pt x="9346" y="6256"/>
                  <a:pt x="9302" y="6300"/>
                </a:cubicBezTo>
                <a:cubicBezTo>
                  <a:pt x="9219" y="6383"/>
                  <a:pt x="9161" y="6485"/>
                  <a:pt x="9128" y="6598"/>
                </a:cubicBezTo>
                <a:cubicBezTo>
                  <a:pt x="9107" y="6668"/>
                  <a:pt x="9058" y="6769"/>
                  <a:pt x="9079" y="6846"/>
                </a:cubicBezTo>
                <a:cubicBezTo>
                  <a:pt x="9097" y="6912"/>
                  <a:pt x="9137" y="6958"/>
                  <a:pt x="9178" y="6995"/>
                </a:cubicBezTo>
                <a:cubicBezTo>
                  <a:pt x="9229" y="7041"/>
                  <a:pt x="9287" y="7051"/>
                  <a:pt x="9351" y="7069"/>
                </a:cubicBezTo>
                <a:cubicBezTo>
                  <a:pt x="9425" y="7090"/>
                  <a:pt x="9503" y="7077"/>
                  <a:pt x="9575" y="7094"/>
                </a:cubicBezTo>
                <a:cubicBezTo>
                  <a:pt x="9639" y="7109"/>
                  <a:pt x="9738" y="7096"/>
                  <a:pt x="9798" y="7119"/>
                </a:cubicBezTo>
                <a:cubicBezTo>
                  <a:pt x="9840" y="7135"/>
                  <a:pt x="9881" y="7148"/>
                  <a:pt x="9922" y="7169"/>
                </a:cubicBezTo>
              </a:path>
              <a:path w="9799" h="3449">
                <a:moveTo>
                  <a:pt x="10790" y="6499"/>
                </a:moveTo>
                <a:cubicBezTo>
                  <a:pt x="10777" y="6461"/>
                  <a:pt x="10761" y="6474"/>
                  <a:pt x="10716" y="6474"/>
                </a:cubicBezTo>
                <a:cubicBezTo>
                  <a:pt x="10642" y="6474"/>
                  <a:pt x="10609" y="6491"/>
                  <a:pt x="10542" y="6524"/>
                </a:cubicBezTo>
                <a:cubicBezTo>
                  <a:pt x="10436" y="6576"/>
                  <a:pt x="10391" y="6622"/>
                  <a:pt x="10319" y="6722"/>
                </a:cubicBezTo>
                <a:cubicBezTo>
                  <a:pt x="10266" y="6795"/>
                  <a:pt x="10212" y="6905"/>
                  <a:pt x="10195" y="6995"/>
                </a:cubicBezTo>
                <a:cubicBezTo>
                  <a:pt x="10183" y="7056"/>
                  <a:pt x="10210" y="7120"/>
                  <a:pt x="10244" y="7169"/>
                </a:cubicBezTo>
                <a:cubicBezTo>
                  <a:pt x="10287" y="7231"/>
                  <a:pt x="10309" y="7263"/>
                  <a:pt x="10393" y="7268"/>
                </a:cubicBezTo>
                <a:cubicBezTo>
                  <a:pt x="10456" y="7272"/>
                  <a:pt x="10535" y="7244"/>
                  <a:pt x="10592" y="7218"/>
                </a:cubicBezTo>
                <a:cubicBezTo>
                  <a:pt x="10672" y="7182"/>
                  <a:pt x="10730" y="7139"/>
                  <a:pt x="10790" y="7094"/>
                </a:cubicBezTo>
                <a:cubicBezTo>
                  <a:pt x="10861" y="7041"/>
                  <a:pt x="10919" y="7003"/>
                  <a:pt x="10964" y="6921"/>
                </a:cubicBezTo>
                <a:cubicBezTo>
                  <a:pt x="10997" y="6861"/>
                  <a:pt x="11009" y="6762"/>
                  <a:pt x="10988" y="6697"/>
                </a:cubicBezTo>
                <a:cubicBezTo>
                  <a:pt x="10974" y="6652"/>
                  <a:pt x="10878" y="6610"/>
                  <a:pt x="10840" y="6598"/>
                </a:cubicBezTo>
                <a:cubicBezTo>
                  <a:pt x="10811" y="6589"/>
                  <a:pt x="10771" y="6598"/>
                  <a:pt x="10740" y="6598"/>
                </a:cubicBezTo>
              </a:path>
              <a:path w="9799" h="3449">
                <a:moveTo>
                  <a:pt x="11857" y="6375"/>
                </a:moveTo>
                <a:cubicBezTo>
                  <a:pt x="11813" y="6342"/>
                  <a:pt x="11791" y="6350"/>
                  <a:pt x="11733" y="6350"/>
                </a:cubicBezTo>
                <a:cubicBezTo>
                  <a:pt x="11649" y="6350"/>
                  <a:pt x="11562" y="6391"/>
                  <a:pt x="11485" y="6424"/>
                </a:cubicBezTo>
                <a:cubicBezTo>
                  <a:pt x="11438" y="6444"/>
                  <a:pt x="11391" y="6473"/>
                  <a:pt x="11385" y="6524"/>
                </a:cubicBezTo>
                <a:cubicBezTo>
                  <a:pt x="11380" y="6568"/>
                  <a:pt x="11371" y="6646"/>
                  <a:pt x="11410" y="6672"/>
                </a:cubicBezTo>
                <a:cubicBezTo>
                  <a:pt x="11479" y="6717"/>
                  <a:pt x="11586" y="6784"/>
                  <a:pt x="11658" y="6821"/>
                </a:cubicBezTo>
                <a:cubicBezTo>
                  <a:pt x="11738" y="6862"/>
                  <a:pt x="11811" y="6887"/>
                  <a:pt x="11881" y="6945"/>
                </a:cubicBezTo>
                <a:cubicBezTo>
                  <a:pt x="11940" y="6994"/>
                  <a:pt x="12005" y="7040"/>
                  <a:pt x="12005" y="7119"/>
                </a:cubicBezTo>
                <a:cubicBezTo>
                  <a:pt x="12005" y="7155"/>
                  <a:pt x="12000" y="7205"/>
                  <a:pt x="11956" y="7218"/>
                </a:cubicBezTo>
                <a:cubicBezTo>
                  <a:pt x="11788" y="7266"/>
                  <a:pt x="11525" y="7220"/>
                  <a:pt x="11361" y="7193"/>
                </a:cubicBezTo>
                <a:cubicBezTo>
                  <a:pt x="11319" y="7193"/>
                  <a:pt x="11311" y="7193"/>
                  <a:pt x="11286" y="7193"/>
                </a:cubicBezTo>
              </a:path>
              <a:path w="9799" h="3449">
                <a:moveTo>
                  <a:pt x="12278" y="6424"/>
                </a:moveTo>
                <a:cubicBezTo>
                  <a:pt x="12324" y="6458"/>
                  <a:pt x="12336" y="6457"/>
                  <a:pt x="12353" y="6524"/>
                </a:cubicBezTo>
                <a:cubicBezTo>
                  <a:pt x="12369" y="6587"/>
                  <a:pt x="12361" y="6659"/>
                  <a:pt x="12378" y="6722"/>
                </a:cubicBezTo>
                <a:cubicBezTo>
                  <a:pt x="12401" y="6806"/>
                  <a:pt x="12448" y="6887"/>
                  <a:pt x="12477" y="6970"/>
                </a:cubicBezTo>
                <a:cubicBezTo>
                  <a:pt x="12507" y="7056"/>
                  <a:pt x="12545" y="7146"/>
                  <a:pt x="12601" y="7218"/>
                </a:cubicBezTo>
                <a:cubicBezTo>
                  <a:pt x="12654" y="7286"/>
                  <a:pt x="12725" y="7346"/>
                  <a:pt x="12774" y="7417"/>
                </a:cubicBezTo>
                <a:cubicBezTo>
                  <a:pt x="12794" y="7457"/>
                  <a:pt x="12803" y="7463"/>
                  <a:pt x="12799" y="7491"/>
                </a:cubicBezTo>
              </a:path>
              <a:path w="9799" h="3449">
                <a:moveTo>
                  <a:pt x="12849" y="6672"/>
                </a:moveTo>
                <a:cubicBezTo>
                  <a:pt x="12801" y="6720"/>
                  <a:pt x="12771" y="6771"/>
                  <a:pt x="12725" y="6821"/>
                </a:cubicBezTo>
                <a:cubicBezTo>
                  <a:pt x="12664" y="6887"/>
                  <a:pt x="12591" y="6933"/>
                  <a:pt x="12526" y="6995"/>
                </a:cubicBezTo>
                <a:cubicBezTo>
                  <a:pt x="12459" y="7059"/>
                  <a:pt x="12394" y="7127"/>
                  <a:pt x="12328" y="7193"/>
                </a:cubicBezTo>
                <a:cubicBezTo>
                  <a:pt x="12272" y="7249"/>
                  <a:pt x="12231" y="7310"/>
                  <a:pt x="12179" y="7367"/>
                </a:cubicBezTo>
                <a:cubicBezTo>
                  <a:pt x="12167" y="7380"/>
                  <a:pt x="12103" y="7463"/>
                  <a:pt x="12080" y="7441"/>
                </a:cubicBezTo>
                <a:cubicBezTo>
                  <a:pt x="12080" y="7433"/>
                  <a:pt x="12080" y="7425"/>
                  <a:pt x="12080" y="7417"/>
                </a:cubicBezTo>
              </a:path>
              <a:path w="9799" h="3449">
                <a:moveTo>
                  <a:pt x="14263" y="5680"/>
                </a:moveTo>
                <a:cubicBezTo>
                  <a:pt x="14224" y="5733"/>
                  <a:pt x="14186" y="5780"/>
                  <a:pt x="14139" y="5829"/>
                </a:cubicBezTo>
                <a:cubicBezTo>
                  <a:pt x="14078" y="5893"/>
                  <a:pt x="14004" y="5939"/>
                  <a:pt x="13940" y="6003"/>
                </a:cubicBezTo>
                <a:cubicBezTo>
                  <a:pt x="13870" y="6073"/>
                  <a:pt x="13817" y="6164"/>
                  <a:pt x="13742" y="6226"/>
                </a:cubicBezTo>
                <a:cubicBezTo>
                  <a:pt x="13643" y="6308"/>
                  <a:pt x="13515" y="6442"/>
                  <a:pt x="13444" y="6548"/>
                </a:cubicBezTo>
                <a:cubicBezTo>
                  <a:pt x="13390" y="6629"/>
                  <a:pt x="13335" y="6756"/>
                  <a:pt x="13295" y="6846"/>
                </a:cubicBezTo>
                <a:cubicBezTo>
                  <a:pt x="13249" y="6950"/>
                  <a:pt x="13215" y="7004"/>
                  <a:pt x="13196" y="7119"/>
                </a:cubicBezTo>
                <a:cubicBezTo>
                  <a:pt x="13179" y="7221"/>
                  <a:pt x="13165" y="7289"/>
                  <a:pt x="13171" y="7392"/>
                </a:cubicBezTo>
                <a:cubicBezTo>
                  <a:pt x="13176" y="7482"/>
                  <a:pt x="13163" y="7554"/>
                  <a:pt x="13196" y="7640"/>
                </a:cubicBezTo>
                <a:cubicBezTo>
                  <a:pt x="13223" y="7711"/>
                  <a:pt x="13256" y="7799"/>
                  <a:pt x="13295" y="7863"/>
                </a:cubicBezTo>
                <a:cubicBezTo>
                  <a:pt x="13346" y="7946"/>
                  <a:pt x="13450" y="8002"/>
                  <a:pt x="13519" y="8062"/>
                </a:cubicBezTo>
                <a:cubicBezTo>
                  <a:pt x="13599" y="8132"/>
                  <a:pt x="13648" y="8175"/>
                  <a:pt x="13742" y="8235"/>
                </a:cubicBezTo>
                <a:cubicBezTo>
                  <a:pt x="13802" y="8274"/>
                  <a:pt x="13848" y="8288"/>
                  <a:pt x="13915" y="8310"/>
                </a:cubicBezTo>
                <a:cubicBezTo>
                  <a:pt x="13965" y="8326"/>
                  <a:pt x="14012" y="8320"/>
                  <a:pt x="14064" y="8334"/>
                </a:cubicBezTo>
                <a:cubicBezTo>
                  <a:pt x="14091" y="8341"/>
                  <a:pt x="14131" y="8350"/>
                  <a:pt x="14163" y="8359"/>
                </a:cubicBezTo>
                <a:cubicBezTo>
                  <a:pt x="14229" y="8378"/>
                  <a:pt x="14207" y="8397"/>
                  <a:pt x="14213" y="8409"/>
                </a:cubicBezTo>
              </a:path>
              <a:path w="9799" h="3449">
                <a:moveTo>
                  <a:pt x="14461" y="6697"/>
                </a:moveTo>
                <a:cubicBezTo>
                  <a:pt x="14461" y="6766"/>
                  <a:pt x="14452" y="6806"/>
                  <a:pt x="14436" y="6871"/>
                </a:cubicBezTo>
                <a:cubicBezTo>
                  <a:pt x="14390" y="7053"/>
                  <a:pt x="14468" y="7267"/>
                  <a:pt x="14412" y="7441"/>
                </a:cubicBezTo>
                <a:cubicBezTo>
                  <a:pt x="14393" y="7501"/>
                  <a:pt x="14412" y="7601"/>
                  <a:pt x="14412" y="7665"/>
                </a:cubicBezTo>
                <a:cubicBezTo>
                  <a:pt x="14374" y="7677"/>
                  <a:pt x="14387" y="7694"/>
                  <a:pt x="14387" y="7739"/>
                </a:cubicBezTo>
                <a:cubicBezTo>
                  <a:pt x="14387" y="7787"/>
                  <a:pt x="14370" y="7764"/>
                  <a:pt x="14362" y="77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401920"/>
            <a:ext cx="2162160" cy="635040"/>
          </a:xfrm>
          <a:custGeom>
            <a:avLst/>
            <a:gdLst/>
            <a:ahLst/>
            <a:rect l="l" t="t" r="r" b="b"/>
            <a:pathLst>
              <a:path w="6004" h="1763">
                <a:moveTo>
                  <a:pt x="15453" y="7317"/>
                </a:moveTo>
                <a:cubicBezTo>
                  <a:pt x="15601" y="7317"/>
                  <a:pt x="15768" y="7335"/>
                  <a:pt x="15900" y="7293"/>
                </a:cubicBezTo>
                <a:cubicBezTo>
                  <a:pt x="15949" y="7277"/>
                  <a:pt x="15987" y="7305"/>
                  <a:pt x="16024" y="7317"/>
                </a:cubicBezTo>
                <a:cubicBezTo>
                  <a:pt x="16062" y="7329"/>
                  <a:pt x="16065" y="7317"/>
                  <a:pt x="16073" y="7293"/>
                </a:cubicBezTo>
                <a:cubicBezTo>
                  <a:pt x="16081" y="7315"/>
                  <a:pt x="16113" y="7336"/>
                  <a:pt x="16148" y="7317"/>
                </a:cubicBezTo>
                <a:cubicBezTo>
                  <a:pt x="16200" y="7289"/>
                  <a:pt x="16197" y="7315"/>
                  <a:pt x="16197" y="7293"/>
                </a:cubicBezTo>
              </a:path>
              <a:path w="6004" h="1763">
                <a:moveTo>
                  <a:pt x="17587" y="6896"/>
                </a:moveTo>
                <a:cubicBezTo>
                  <a:pt x="17557" y="6878"/>
                  <a:pt x="17560" y="6873"/>
                  <a:pt x="17512" y="6871"/>
                </a:cubicBezTo>
                <a:cubicBezTo>
                  <a:pt x="17449" y="6868"/>
                  <a:pt x="17420" y="6872"/>
                  <a:pt x="17363" y="6896"/>
                </a:cubicBezTo>
                <a:cubicBezTo>
                  <a:pt x="17290" y="6927"/>
                  <a:pt x="17234" y="6931"/>
                  <a:pt x="17165" y="6970"/>
                </a:cubicBezTo>
                <a:cubicBezTo>
                  <a:pt x="17105" y="7004"/>
                  <a:pt x="17022" y="7008"/>
                  <a:pt x="16991" y="7069"/>
                </a:cubicBezTo>
                <a:cubicBezTo>
                  <a:pt x="16969" y="7113"/>
                  <a:pt x="17011" y="7134"/>
                  <a:pt x="17016" y="7144"/>
                </a:cubicBezTo>
                <a:cubicBezTo>
                  <a:pt x="17046" y="7199"/>
                  <a:pt x="17071" y="7194"/>
                  <a:pt x="17140" y="7218"/>
                </a:cubicBezTo>
                <a:cubicBezTo>
                  <a:pt x="17203" y="7240"/>
                  <a:pt x="17273" y="7252"/>
                  <a:pt x="17338" y="7268"/>
                </a:cubicBezTo>
                <a:cubicBezTo>
                  <a:pt x="17417" y="7288"/>
                  <a:pt x="17490" y="7330"/>
                  <a:pt x="17562" y="7367"/>
                </a:cubicBezTo>
                <a:cubicBezTo>
                  <a:pt x="17616" y="7394"/>
                  <a:pt x="17664" y="7399"/>
                  <a:pt x="17711" y="7441"/>
                </a:cubicBezTo>
                <a:cubicBezTo>
                  <a:pt x="17738" y="7465"/>
                  <a:pt x="17776" y="7509"/>
                  <a:pt x="17785" y="7541"/>
                </a:cubicBezTo>
                <a:cubicBezTo>
                  <a:pt x="17798" y="7590"/>
                  <a:pt x="17774" y="7597"/>
                  <a:pt x="17760" y="7615"/>
                </a:cubicBezTo>
                <a:cubicBezTo>
                  <a:pt x="17727" y="7656"/>
                  <a:pt x="17711" y="7684"/>
                  <a:pt x="17661" y="7714"/>
                </a:cubicBezTo>
                <a:cubicBezTo>
                  <a:pt x="17634" y="7730"/>
                  <a:pt x="17593" y="7775"/>
                  <a:pt x="17562" y="7789"/>
                </a:cubicBezTo>
                <a:cubicBezTo>
                  <a:pt x="17526" y="7806"/>
                  <a:pt x="17447" y="7831"/>
                  <a:pt x="17413" y="7838"/>
                </a:cubicBezTo>
                <a:cubicBezTo>
                  <a:pt x="17357" y="7849"/>
                  <a:pt x="17295" y="7860"/>
                  <a:pt x="17239" y="7863"/>
                </a:cubicBezTo>
                <a:cubicBezTo>
                  <a:pt x="17129" y="7869"/>
                  <a:pt x="17013" y="7874"/>
                  <a:pt x="16917" y="7888"/>
                </a:cubicBezTo>
                <a:cubicBezTo>
                  <a:pt x="16884" y="7888"/>
                  <a:pt x="16867" y="7888"/>
                  <a:pt x="16842" y="7888"/>
                </a:cubicBezTo>
              </a:path>
              <a:path w="6004" h="1763">
                <a:moveTo>
                  <a:pt x="18182" y="7516"/>
                </a:moveTo>
                <a:cubicBezTo>
                  <a:pt x="18182" y="7563"/>
                  <a:pt x="18162" y="7595"/>
                  <a:pt x="18157" y="7640"/>
                </a:cubicBezTo>
                <a:cubicBezTo>
                  <a:pt x="18155" y="7662"/>
                  <a:pt x="18157" y="7798"/>
                  <a:pt x="18157" y="7739"/>
                </a:cubicBezTo>
              </a:path>
              <a:path w="6004" h="1763">
                <a:moveTo>
                  <a:pt x="18281" y="7020"/>
                </a:moveTo>
                <a:cubicBezTo>
                  <a:pt x="18239" y="7020"/>
                  <a:pt x="18256" y="7055"/>
                  <a:pt x="18256" y="7094"/>
                </a:cubicBezTo>
              </a:path>
              <a:path w="6004" h="1763">
                <a:moveTo>
                  <a:pt x="18529" y="7863"/>
                </a:moveTo>
                <a:cubicBezTo>
                  <a:pt x="18501" y="7779"/>
                  <a:pt x="18502" y="7701"/>
                  <a:pt x="18529" y="7615"/>
                </a:cubicBezTo>
                <a:cubicBezTo>
                  <a:pt x="18550" y="7548"/>
                  <a:pt x="18568" y="7501"/>
                  <a:pt x="18604" y="7441"/>
                </a:cubicBezTo>
                <a:cubicBezTo>
                  <a:pt x="18646" y="7371"/>
                  <a:pt x="18656" y="7371"/>
                  <a:pt x="18728" y="7342"/>
                </a:cubicBezTo>
                <a:cubicBezTo>
                  <a:pt x="18797" y="7314"/>
                  <a:pt x="18813" y="7308"/>
                  <a:pt x="18876" y="7342"/>
                </a:cubicBezTo>
                <a:cubicBezTo>
                  <a:pt x="18920" y="7366"/>
                  <a:pt x="19008" y="7416"/>
                  <a:pt x="19025" y="7466"/>
                </a:cubicBezTo>
                <a:cubicBezTo>
                  <a:pt x="19052" y="7546"/>
                  <a:pt x="19075" y="7626"/>
                  <a:pt x="19075" y="7714"/>
                </a:cubicBezTo>
                <a:cubicBezTo>
                  <a:pt x="19075" y="7789"/>
                  <a:pt x="19050" y="7838"/>
                  <a:pt x="19050" y="7913"/>
                </a:cubicBezTo>
                <a:cubicBezTo>
                  <a:pt x="19050" y="7972"/>
                  <a:pt x="19051" y="8060"/>
                  <a:pt x="19075" y="7962"/>
                </a:cubicBezTo>
              </a:path>
              <a:path w="6004" h="1763">
                <a:moveTo>
                  <a:pt x="19025" y="6747"/>
                </a:moveTo>
                <a:cubicBezTo>
                  <a:pt x="19113" y="6699"/>
                  <a:pt x="19171" y="6676"/>
                  <a:pt x="19273" y="6672"/>
                </a:cubicBezTo>
                <a:cubicBezTo>
                  <a:pt x="19353" y="6669"/>
                  <a:pt x="19447" y="6676"/>
                  <a:pt x="19521" y="6697"/>
                </a:cubicBezTo>
                <a:cubicBezTo>
                  <a:pt x="19625" y="6727"/>
                  <a:pt x="19670" y="6806"/>
                  <a:pt x="19645" y="6896"/>
                </a:cubicBezTo>
                <a:cubicBezTo>
                  <a:pt x="19623" y="6975"/>
                  <a:pt x="19513" y="7014"/>
                  <a:pt x="19447" y="7045"/>
                </a:cubicBezTo>
                <a:cubicBezTo>
                  <a:pt x="19386" y="7073"/>
                  <a:pt x="19370" y="7123"/>
                  <a:pt x="19323" y="7169"/>
                </a:cubicBezTo>
                <a:cubicBezTo>
                  <a:pt x="19300" y="7191"/>
                  <a:pt x="19292" y="7196"/>
                  <a:pt x="19298" y="7218"/>
                </a:cubicBezTo>
                <a:cubicBezTo>
                  <a:pt x="19338" y="7251"/>
                  <a:pt x="19395" y="7284"/>
                  <a:pt x="19447" y="7293"/>
                </a:cubicBezTo>
                <a:cubicBezTo>
                  <a:pt x="19506" y="7304"/>
                  <a:pt x="19549" y="7307"/>
                  <a:pt x="19596" y="7342"/>
                </a:cubicBezTo>
              </a:path>
              <a:path w="6004" h="1763">
                <a:moveTo>
                  <a:pt x="19943" y="7466"/>
                </a:moveTo>
                <a:cubicBezTo>
                  <a:pt x="19988" y="7522"/>
                  <a:pt x="20024" y="7584"/>
                  <a:pt x="20067" y="7640"/>
                </a:cubicBezTo>
                <a:cubicBezTo>
                  <a:pt x="20111" y="7697"/>
                  <a:pt x="20133" y="7772"/>
                  <a:pt x="20166" y="7838"/>
                </a:cubicBezTo>
                <a:cubicBezTo>
                  <a:pt x="20196" y="7897"/>
                  <a:pt x="20220" y="7963"/>
                  <a:pt x="20265" y="8012"/>
                </a:cubicBezTo>
                <a:cubicBezTo>
                  <a:pt x="20323" y="8074"/>
                  <a:pt x="20321" y="8130"/>
                  <a:pt x="20365" y="8186"/>
                </a:cubicBezTo>
                <a:cubicBezTo>
                  <a:pt x="20389" y="8217"/>
                  <a:pt x="20390" y="8228"/>
                  <a:pt x="20414" y="8260"/>
                </a:cubicBezTo>
              </a:path>
              <a:path w="6004" h="1763">
                <a:moveTo>
                  <a:pt x="20563" y="7516"/>
                </a:moveTo>
                <a:cubicBezTo>
                  <a:pt x="20510" y="7516"/>
                  <a:pt x="20480" y="7527"/>
                  <a:pt x="20439" y="7565"/>
                </a:cubicBezTo>
                <a:cubicBezTo>
                  <a:pt x="20358" y="7640"/>
                  <a:pt x="20276" y="7695"/>
                  <a:pt x="20191" y="7764"/>
                </a:cubicBezTo>
                <a:cubicBezTo>
                  <a:pt x="20100" y="7838"/>
                  <a:pt x="20060" y="7922"/>
                  <a:pt x="19993" y="8012"/>
                </a:cubicBezTo>
                <a:cubicBezTo>
                  <a:pt x="19948" y="8072"/>
                  <a:pt x="19886" y="8124"/>
                  <a:pt x="19844" y="8186"/>
                </a:cubicBezTo>
                <a:cubicBezTo>
                  <a:pt x="19806" y="8242"/>
                  <a:pt x="19813" y="8260"/>
                  <a:pt x="19745" y="8260"/>
                </a:cubicBezTo>
              </a:path>
              <a:path w="6004" h="1763">
                <a:moveTo>
                  <a:pt x="20960" y="6821"/>
                </a:moveTo>
                <a:cubicBezTo>
                  <a:pt x="20983" y="6809"/>
                  <a:pt x="20982" y="6791"/>
                  <a:pt x="21034" y="6821"/>
                </a:cubicBezTo>
                <a:cubicBezTo>
                  <a:pt x="21071" y="6843"/>
                  <a:pt x="21155" y="6889"/>
                  <a:pt x="21183" y="6921"/>
                </a:cubicBezTo>
                <a:cubicBezTo>
                  <a:pt x="21226" y="6971"/>
                  <a:pt x="21242" y="7043"/>
                  <a:pt x="21282" y="7094"/>
                </a:cubicBezTo>
                <a:cubicBezTo>
                  <a:pt x="21346" y="7177"/>
                  <a:pt x="21350" y="7220"/>
                  <a:pt x="21382" y="7317"/>
                </a:cubicBezTo>
                <a:cubicBezTo>
                  <a:pt x="21421" y="7437"/>
                  <a:pt x="21445" y="7534"/>
                  <a:pt x="21456" y="7665"/>
                </a:cubicBezTo>
                <a:cubicBezTo>
                  <a:pt x="21464" y="7763"/>
                  <a:pt x="21435" y="7844"/>
                  <a:pt x="21431" y="7938"/>
                </a:cubicBezTo>
                <a:cubicBezTo>
                  <a:pt x="21427" y="8028"/>
                  <a:pt x="21398" y="8081"/>
                  <a:pt x="21357" y="8161"/>
                </a:cubicBezTo>
                <a:cubicBezTo>
                  <a:pt x="21323" y="8228"/>
                  <a:pt x="21286" y="8238"/>
                  <a:pt x="21233" y="8285"/>
                </a:cubicBezTo>
                <a:cubicBezTo>
                  <a:pt x="21195" y="8319"/>
                  <a:pt x="21143" y="8335"/>
                  <a:pt x="21109" y="8359"/>
                </a:cubicBezTo>
                <a:cubicBezTo>
                  <a:pt x="21075" y="8383"/>
                  <a:pt x="21054" y="8391"/>
                  <a:pt x="21034" y="8409"/>
                </a:cubicBezTo>
                <a:cubicBezTo>
                  <a:pt x="21012" y="8432"/>
                  <a:pt x="21007" y="8440"/>
                  <a:pt x="20985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071880" y="2830680"/>
            <a:ext cx="500040" cy="785520"/>
          </a:xfrm>
          <a:custGeom>
            <a:avLst/>
            <a:gdLst/>
            <a:ahLst/>
            <a:rect l="l" t="t" r="r" b="b"/>
            <a:pathLst>
              <a:path w="1390" h="2184">
                <a:moveTo>
                  <a:pt x="9178" y="7888"/>
                </a:moveTo>
                <a:cubicBezTo>
                  <a:pt x="9161" y="7880"/>
                  <a:pt x="9145" y="7871"/>
                  <a:pt x="9128" y="7863"/>
                </a:cubicBezTo>
                <a:cubicBezTo>
                  <a:pt x="9140" y="7913"/>
                  <a:pt x="9159" y="7958"/>
                  <a:pt x="9178" y="8012"/>
                </a:cubicBezTo>
                <a:cubicBezTo>
                  <a:pt x="9212" y="8109"/>
                  <a:pt x="9203" y="8212"/>
                  <a:pt x="9227" y="8310"/>
                </a:cubicBezTo>
                <a:cubicBezTo>
                  <a:pt x="9255" y="8425"/>
                  <a:pt x="9265" y="8514"/>
                  <a:pt x="9277" y="8632"/>
                </a:cubicBezTo>
                <a:cubicBezTo>
                  <a:pt x="9289" y="8750"/>
                  <a:pt x="9309" y="8868"/>
                  <a:pt x="9327" y="8979"/>
                </a:cubicBezTo>
                <a:cubicBezTo>
                  <a:pt x="9336" y="9036"/>
                  <a:pt x="9346" y="9098"/>
                  <a:pt x="9351" y="9153"/>
                </a:cubicBezTo>
                <a:cubicBezTo>
                  <a:pt x="9355" y="9194"/>
                  <a:pt x="9358" y="9192"/>
                  <a:pt x="9327" y="9203"/>
                </a:cubicBezTo>
              </a:path>
              <a:path w="1390" h="2184">
                <a:moveTo>
                  <a:pt x="8582" y="9203"/>
                </a:moveTo>
                <a:cubicBezTo>
                  <a:pt x="8542" y="9283"/>
                  <a:pt x="8512" y="9356"/>
                  <a:pt x="8533" y="9451"/>
                </a:cubicBezTo>
                <a:cubicBezTo>
                  <a:pt x="8551" y="9534"/>
                  <a:pt x="8596" y="9623"/>
                  <a:pt x="8632" y="9699"/>
                </a:cubicBezTo>
                <a:cubicBezTo>
                  <a:pt x="8666" y="9769"/>
                  <a:pt x="8707" y="9839"/>
                  <a:pt x="8756" y="9897"/>
                </a:cubicBezTo>
                <a:cubicBezTo>
                  <a:pt x="8789" y="9937"/>
                  <a:pt x="8857" y="10004"/>
                  <a:pt x="8905" y="10021"/>
                </a:cubicBezTo>
                <a:cubicBezTo>
                  <a:pt x="9009" y="10059"/>
                  <a:pt x="9044" y="10038"/>
                  <a:pt x="9128" y="10021"/>
                </a:cubicBezTo>
                <a:cubicBezTo>
                  <a:pt x="9237" y="9999"/>
                  <a:pt x="9243" y="9951"/>
                  <a:pt x="9302" y="9872"/>
                </a:cubicBezTo>
                <a:cubicBezTo>
                  <a:pt x="9375" y="9775"/>
                  <a:pt x="9462" y="9680"/>
                  <a:pt x="9525" y="9575"/>
                </a:cubicBezTo>
                <a:cubicBezTo>
                  <a:pt x="9593" y="9461"/>
                  <a:pt x="9678" y="9397"/>
                  <a:pt x="9773" y="9302"/>
                </a:cubicBezTo>
                <a:cubicBezTo>
                  <a:pt x="9823" y="9252"/>
                  <a:pt x="9869" y="9237"/>
                  <a:pt x="9922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5384880" y="3214800"/>
            <a:ext cx="2116080" cy="803160"/>
          </a:xfrm>
          <a:custGeom>
            <a:avLst/>
            <a:gdLst/>
            <a:ahLst/>
            <a:rect l="l" t="t" r="r" b="b"/>
            <a:pathLst>
              <a:path w="5880" h="2233">
                <a:moveTo>
                  <a:pt x="15801" y="8979"/>
                </a:moveTo>
                <a:cubicBezTo>
                  <a:pt x="15801" y="8963"/>
                  <a:pt x="15801" y="8946"/>
                  <a:pt x="15801" y="8930"/>
                </a:cubicBezTo>
                <a:cubicBezTo>
                  <a:pt x="15759" y="8936"/>
                  <a:pt x="15714" y="8938"/>
                  <a:pt x="15677" y="8954"/>
                </a:cubicBezTo>
                <a:cubicBezTo>
                  <a:pt x="15573" y="8999"/>
                  <a:pt x="15462" y="9050"/>
                  <a:pt x="15379" y="9128"/>
                </a:cubicBezTo>
                <a:cubicBezTo>
                  <a:pt x="15291" y="9211"/>
                  <a:pt x="15207" y="9286"/>
                  <a:pt x="15131" y="9376"/>
                </a:cubicBezTo>
                <a:cubicBezTo>
                  <a:pt x="15071" y="9447"/>
                  <a:pt x="15048" y="9489"/>
                  <a:pt x="15007" y="9575"/>
                </a:cubicBezTo>
                <a:cubicBezTo>
                  <a:pt x="14972" y="9649"/>
                  <a:pt x="14957" y="9662"/>
                  <a:pt x="14957" y="9748"/>
                </a:cubicBezTo>
                <a:cubicBezTo>
                  <a:pt x="14957" y="9804"/>
                  <a:pt x="14995" y="9827"/>
                  <a:pt x="15007" y="9872"/>
                </a:cubicBezTo>
                <a:cubicBezTo>
                  <a:pt x="15022" y="9927"/>
                  <a:pt x="15050" y="9960"/>
                  <a:pt x="15106" y="9996"/>
                </a:cubicBezTo>
                <a:cubicBezTo>
                  <a:pt x="15150" y="10024"/>
                  <a:pt x="15228" y="10062"/>
                  <a:pt x="15280" y="10071"/>
                </a:cubicBezTo>
                <a:cubicBezTo>
                  <a:pt x="15365" y="10085"/>
                  <a:pt x="15439" y="10096"/>
                  <a:pt x="15528" y="10096"/>
                </a:cubicBezTo>
                <a:cubicBezTo>
                  <a:pt x="15623" y="10096"/>
                  <a:pt x="15706" y="10116"/>
                  <a:pt x="15801" y="10120"/>
                </a:cubicBezTo>
                <a:cubicBezTo>
                  <a:pt x="15832" y="10121"/>
                  <a:pt x="15897" y="10131"/>
                  <a:pt x="15925" y="10145"/>
                </a:cubicBezTo>
                <a:cubicBezTo>
                  <a:pt x="15954" y="10160"/>
                  <a:pt x="15951" y="10172"/>
                  <a:pt x="15974" y="10195"/>
                </a:cubicBezTo>
              </a:path>
              <a:path w="5880" h="2233">
                <a:moveTo>
                  <a:pt x="17314" y="9723"/>
                </a:moveTo>
                <a:cubicBezTo>
                  <a:pt x="17243" y="9682"/>
                  <a:pt x="17178" y="9635"/>
                  <a:pt x="17090" y="9649"/>
                </a:cubicBezTo>
                <a:cubicBezTo>
                  <a:pt x="16958" y="9670"/>
                  <a:pt x="16831" y="9701"/>
                  <a:pt x="16718" y="9773"/>
                </a:cubicBezTo>
                <a:cubicBezTo>
                  <a:pt x="16621" y="9835"/>
                  <a:pt x="16517" y="9903"/>
                  <a:pt x="16446" y="9996"/>
                </a:cubicBezTo>
                <a:cubicBezTo>
                  <a:pt x="16405" y="10050"/>
                  <a:pt x="16399" y="10080"/>
                  <a:pt x="16396" y="10145"/>
                </a:cubicBezTo>
                <a:cubicBezTo>
                  <a:pt x="16392" y="10229"/>
                  <a:pt x="16453" y="10236"/>
                  <a:pt x="16520" y="10269"/>
                </a:cubicBezTo>
                <a:cubicBezTo>
                  <a:pt x="16620" y="10319"/>
                  <a:pt x="16692" y="10279"/>
                  <a:pt x="16793" y="10269"/>
                </a:cubicBezTo>
                <a:cubicBezTo>
                  <a:pt x="16929" y="10256"/>
                  <a:pt x="17015" y="10230"/>
                  <a:pt x="17140" y="10170"/>
                </a:cubicBezTo>
                <a:cubicBezTo>
                  <a:pt x="17232" y="10126"/>
                  <a:pt x="17338" y="10064"/>
                  <a:pt x="17413" y="9996"/>
                </a:cubicBezTo>
                <a:cubicBezTo>
                  <a:pt x="17435" y="9974"/>
                  <a:pt x="17444" y="9969"/>
                  <a:pt x="17438" y="9947"/>
                </a:cubicBezTo>
                <a:cubicBezTo>
                  <a:pt x="17394" y="9903"/>
                  <a:pt x="17357" y="9878"/>
                  <a:pt x="17289" y="9897"/>
                </a:cubicBezTo>
                <a:cubicBezTo>
                  <a:pt x="17272" y="9905"/>
                  <a:pt x="17256" y="9914"/>
                  <a:pt x="17239" y="9922"/>
                </a:cubicBezTo>
              </a:path>
              <a:path w="5880" h="2233">
                <a:moveTo>
                  <a:pt x="18529" y="9475"/>
                </a:moveTo>
                <a:cubicBezTo>
                  <a:pt x="18477" y="9450"/>
                  <a:pt x="18445" y="9451"/>
                  <a:pt x="18380" y="9451"/>
                </a:cubicBezTo>
                <a:cubicBezTo>
                  <a:pt x="18222" y="9451"/>
                  <a:pt x="18211" y="9478"/>
                  <a:pt x="18083" y="9550"/>
                </a:cubicBezTo>
                <a:cubicBezTo>
                  <a:pt x="18037" y="9575"/>
                  <a:pt x="17905" y="9618"/>
                  <a:pt x="17909" y="9699"/>
                </a:cubicBezTo>
                <a:cubicBezTo>
                  <a:pt x="17911" y="9748"/>
                  <a:pt x="17952" y="9832"/>
                  <a:pt x="17983" y="9872"/>
                </a:cubicBezTo>
                <a:cubicBezTo>
                  <a:pt x="18059" y="9970"/>
                  <a:pt x="18169" y="10057"/>
                  <a:pt x="18256" y="10145"/>
                </a:cubicBezTo>
                <a:cubicBezTo>
                  <a:pt x="18306" y="10195"/>
                  <a:pt x="18410" y="10253"/>
                  <a:pt x="18430" y="10319"/>
                </a:cubicBezTo>
                <a:cubicBezTo>
                  <a:pt x="18440" y="10354"/>
                  <a:pt x="18467" y="10429"/>
                  <a:pt x="18455" y="10468"/>
                </a:cubicBezTo>
                <a:cubicBezTo>
                  <a:pt x="18438" y="10524"/>
                  <a:pt x="18368" y="10529"/>
                  <a:pt x="18331" y="10542"/>
                </a:cubicBezTo>
                <a:cubicBezTo>
                  <a:pt x="18262" y="10566"/>
                  <a:pt x="18183" y="10582"/>
                  <a:pt x="18107" y="10567"/>
                </a:cubicBezTo>
                <a:cubicBezTo>
                  <a:pt x="18032" y="10553"/>
                  <a:pt x="17956" y="10529"/>
                  <a:pt x="17884" y="10517"/>
                </a:cubicBezTo>
                <a:cubicBezTo>
                  <a:pt x="17841" y="10510"/>
                  <a:pt x="17803" y="10500"/>
                  <a:pt x="17760" y="10492"/>
                </a:cubicBezTo>
                <a:cubicBezTo>
                  <a:pt x="17752" y="10492"/>
                  <a:pt x="17743" y="10492"/>
                  <a:pt x="17735" y="10492"/>
                </a:cubicBezTo>
              </a:path>
              <a:path w="5880" h="2233">
                <a:moveTo>
                  <a:pt x="18827" y="9128"/>
                </a:moveTo>
                <a:cubicBezTo>
                  <a:pt x="18840" y="9089"/>
                  <a:pt x="18874" y="9081"/>
                  <a:pt x="18926" y="9079"/>
                </a:cubicBezTo>
                <a:cubicBezTo>
                  <a:pt x="19062" y="9075"/>
                  <a:pt x="19191" y="9073"/>
                  <a:pt x="19323" y="9103"/>
                </a:cubicBezTo>
                <a:cubicBezTo>
                  <a:pt x="19436" y="9129"/>
                  <a:pt x="19539" y="9181"/>
                  <a:pt x="19645" y="9227"/>
                </a:cubicBezTo>
                <a:cubicBezTo>
                  <a:pt x="19645" y="9317"/>
                  <a:pt x="19594" y="9316"/>
                  <a:pt x="19521" y="9351"/>
                </a:cubicBezTo>
                <a:cubicBezTo>
                  <a:pt x="19386" y="9416"/>
                  <a:pt x="19271" y="9445"/>
                  <a:pt x="19149" y="9525"/>
                </a:cubicBezTo>
                <a:cubicBezTo>
                  <a:pt x="19106" y="9547"/>
                  <a:pt x="19094" y="9551"/>
                  <a:pt x="19075" y="9575"/>
                </a:cubicBezTo>
                <a:cubicBezTo>
                  <a:pt x="19133" y="9646"/>
                  <a:pt x="19152" y="9672"/>
                  <a:pt x="19248" y="9699"/>
                </a:cubicBezTo>
                <a:cubicBezTo>
                  <a:pt x="19335" y="9724"/>
                  <a:pt x="19408" y="9741"/>
                  <a:pt x="19496" y="9748"/>
                </a:cubicBezTo>
              </a:path>
              <a:path w="5880" h="2233">
                <a:moveTo>
                  <a:pt x="20265" y="9847"/>
                </a:moveTo>
                <a:cubicBezTo>
                  <a:pt x="20290" y="9914"/>
                  <a:pt x="20299" y="9977"/>
                  <a:pt x="20315" y="10046"/>
                </a:cubicBezTo>
                <a:cubicBezTo>
                  <a:pt x="20344" y="10172"/>
                  <a:pt x="20324" y="10290"/>
                  <a:pt x="20340" y="10418"/>
                </a:cubicBezTo>
                <a:cubicBezTo>
                  <a:pt x="20357" y="10555"/>
                  <a:pt x="20372" y="10670"/>
                  <a:pt x="20439" y="10790"/>
                </a:cubicBezTo>
                <a:cubicBezTo>
                  <a:pt x="20490" y="10881"/>
                  <a:pt x="20538" y="10970"/>
                  <a:pt x="20588" y="11063"/>
                </a:cubicBezTo>
                <a:cubicBezTo>
                  <a:pt x="20620" y="11124"/>
                  <a:pt x="20653" y="11219"/>
                  <a:pt x="20737" y="11137"/>
                </a:cubicBezTo>
                <a:cubicBezTo>
                  <a:pt x="20745" y="11121"/>
                  <a:pt x="20754" y="11104"/>
                  <a:pt x="20762" y="11088"/>
                </a:cubicBezTo>
              </a:path>
              <a:path w="5880" h="2233">
                <a:moveTo>
                  <a:pt x="20836" y="10220"/>
                </a:moveTo>
                <a:cubicBezTo>
                  <a:pt x="20828" y="10203"/>
                  <a:pt x="20819" y="10187"/>
                  <a:pt x="20811" y="10170"/>
                </a:cubicBezTo>
                <a:cubicBezTo>
                  <a:pt x="20764" y="10217"/>
                  <a:pt x="20712" y="10230"/>
                  <a:pt x="20662" y="10269"/>
                </a:cubicBezTo>
                <a:cubicBezTo>
                  <a:pt x="20580" y="10333"/>
                  <a:pt x="20483" y="10390"/>
                  <a:pt x="20389" y="10443"/>
                </a:cubicBezTo>
                <a:cubicBezTo>
                  <a:pt x="20262" y="10514"/>
                  <a:pt x="20145" y="10591"/>
                  <a:pt x="20017" y="10666"/>
                </a:cubicBezTo>
                <a:cubicBezTo>
                  <a:pt x="19922" y="10722"/>
                  <a:pt x="19837" y="10787"/>
                  <a:pt x="19745" y="10840"/>
                </a:cubicBezTo>
                <a:cubicBezTo>
                  <a:pt x="19680" y="10883"/>
                  <a:pt x="19665" y="10894"/>
                  <a:pt x="19621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830160" y="3670200"/>
            <a:ext cx="884520" cy="660600"/>
          </a:xfrm>
          <a:custGeom>
            <a:avLst/>
            <a:gdLst/>
            <a:ahLst/>
            <a:rect l="l" t="t" r="r" b="b"/>
            <a:pathLst>
              <a:path w="2456" h="1836">
                <a:moveTo>
                  <a:pt x="2480" y="10468"/>
                </a:moveTo>
                <a:cubicBezTo>
                  <a:pt x="2490" y="10534"/>
                  <a:pt x="2523" y="10577"/>
                  <a:pt x="2555" y="10641"/>
                </a:cubicBezTo>
                <a:cubicBezTo>
                  <a:pt x="2600" y="10731"/>
                  <a:pt x="2604" y="10787"/>
                  <a:pt x="2604" y="10889"/>
                </a:cubicBezTo>
                <a:cubicBezTo>
                  <a:pt x="2604" y="11025"/>
                  <a:pt x="2568" y="11156"/>
                  <a:pt x="2530" y="11286"/>
                </a:cubicBezTo>
                <a:cubicBezTo>
                  <a:pt x="2506" y="11368"/>
                  <a:pt x="2452" y="11482"/>
                  <a:pt x="2381" y="11534"/>
                </a:cubicBezTo>
                <a:cubicBezTo>
                  <a:pt x="2338" y="11556"/>
                  <a:pt x="2326" y="11569"/>
                  <a:pt x="2307" y="11534"/>
                </a:cubicBezTo>
              </a:path>
              <a:path w="2456" h="1836">
                <a:moveTo>
                  <a:pt x="3125" y="10443"/>
                </a:moveTo>
                <a:cubicBezTo>
                  <a:pt x="3106" y="10488"/>
                  <a:pt x="3107" y="10517"/>
                  <a:pt x="3076" y="10567"/>
                </a:cubicBezTo>
                <a:cubicBezTo>
                  <a:pt x="3016" y="10664"/>
                  <a:pt x="2910" y="10734"/>
                  <a:pt x="2828" y="10815"/>
                </a:cubicBezTo>
                <a:cubicBezTo>
                  <a:pt x="2744" y="10899"/>
                  <a:pt x="2683" y="10980"/>
                  <a:pt x="2629" y="11088"/>
                </a:cubicBezTo>
                <a:cubicBezTo>
                  <a:pt x="2614" y="11117"/>
                  <a:pt x="2616" y="11134"/>
                  <a:pt x="2604" y="11162"/>
                </a:cubicBezTo>
                <a:cubicBezTo>
                  <a:pt x="2670" y="11166"/>
                  <a:pt x="2754" y="11138"/>
                  <a:pt x="2803" y="11187"/>
                </a:cubicBezTo>
                <a:cubicBezTo>
                  <a:pt x="2837" y="11221"/>
                  <a:pt x="2828" y="11227"/>
                  <a:pt x="2803" y="11286"/>
                </a:cubicBezTo>
                <a:cubicBezTo>
                  <a:pt x="2784" y="11330"/>
                  <a:pt x="2751" y="11398"/>
                  <a:pt x="2729" y="11435"/>
                </a:cubicBezTo>
                <a:cubicBezTo>
                  <a:pt x="2721" y="11443"/>
                  <a:pt x="2712" y="11452"/>
                  <a:pt x="2704" y="11460"/>
                </a:cubicBezTo>
                <a:cubicBezTo>
                  <a:pt x="2739" y="11464"/>
                  <a:pt x="2720" y="11494"/>
                  <a:pt x="2803" y="11460"/>
                </a:cubicBezTo>
                <a:cubicBezTo>
                  <a:pt x="2863" y="11436"/>
                  <a:pt x="2916" y="11402"/>
                  <a:pt x="2977" y="11385"/>
                </a:cubicBezTo>
                <a:cubicBezTo>
                  <a:pt x="3087" y="11354"/>
                  <a:pt x="2952" y="11376"/>
                  <a:pt x="3001" y="11410"/>
                </a:cubicBezTo>
                <a:cubicBezTo>
                  <a:pt x="3039" y="11436"/>
                  <a:pt x="3001" y="11406"/>
                  <a:pt x="3051" y="11435"/>
                </a:cubicBezTo>
                <a:cubicBezTo>
                  <a:pt x="3094" y="11404"/>
                  <a:pt x="3132" y="11368"/>
                  <a:pt x="3175" y="11336"/>
                </a:cubicBezTo>
                <a:cubicBezTo>
                  <a:pt x="3213" y="11307"/>
                  <a:pt x="3275" y="11261"/>
                  <a:pt x="3324" y="11261"/>
                </a:cubicBezTo>
                <a:cubicBezTo>
                  <a:pt x="3332" y="11269"/>
                  <a:pt x="3341" y="11278"/>
                  <a:pt x="3349" y="11286"/>
                </a:cubicBezTo>
                <a:cubicBezTo>
                  <a:pt x="3331" y="11343"/>
                  <a:pt x="3330" y="11406"/>
                  <a:pt x="3299" y="11460"/>
                </a:cubicBezTo>
                <a:cubicBezTo>
                  <a:pt x="3256" y="11536"/>
                  <a:pt x="3200" y="11608"/>
                  <a:pt x="3150" y="11683"/>
                </a:cubicBezTo>
                <a:cubicBezTo>
                  <a:pt x="3093" y="11768"/>
                  <a:pt x="2994" y="11882"/>
                  <a:pt x="2902" y="11931"/>
                </a:cubicBezTo>
                <a:cubicBezTo>
                  <a:pt x="2841" y="11963"/>
                  <a:pt x="2746" y="12017"/>
                  <a:pt x="2679" y="12030"/>
                </a:cubicBezTo>
                <a:cubicBezTo>
                  <a:pt x="2616" y="12042"/>
                  <a:pt x="2574" y="12009"/>
                  <a:pt x="2530" y="12005"/>
                </a:cubicBezTo>
                <a:cubicBezTo>
                  <a:pt x="2522" y="12005"/>
                  <a:pt x="2513" y="12005"/>
                  <a:pt x="2505" y="12005"/>
                </a:cubicBezTo>
                <a:cubicBezTo>
                  <a:pt x="2524" y="11960"/>
                  <a:pt x="2542" y="11895"/>
                  <a:pt x="2580" y="11857"/>
                </a:cubicBezTo>
                <a:cubicBezTo>
                  <a:pt x="2718" y="11719"/>
                  <a:pt x="2877" y="11623"/>
                  <a:pt x="3051" y="11534"/>
                </a:cubicBezTo>
                <a:cubicBezTo>
                  <a:pt x="3206" y="11454"/>
                  <a:pt x="3353" y="11360"/>
                  <a:pt x="3497" y="11261"/>
                </a:cubicBezTo>
                <a:cubicBezTo>
                  <a:pt x="3643" y="11160"/>
                  <a:pt x="3776" y="11038"/>
                  <a:pt x="3919" y="10939"/>
                </a:cubicBezTo>
                <a:cubicBezTo>
                  <a:pt x="4057" y="10843"/>
                  <a:pt x="4148" y="10763"/>
                  <a:pt x="4266" y="10641"/>
                </a:cubicBezTo>
                <a:cubicBezTo>
                  <a:pt x="4346" y="10558"/>
                  <a:pt x="4459" y="10470"/>
                  <a:pt x="4514" y="10368"/>
                </a:cubicBezTo>
                <a:cubicBezTo>
                  <a:pt x="4538" y="10324"/>
                  <a:pt x="4567" y="10270"/>
                  <a:pt x="4564" y="10220"/>
                </a:cubicBezTo>
                <a:cubicBezTo>
                  <a:pt x="4556" y="10212"/>
                  <a:pt x="4547" y="10203"/>
                  <a:pt x="4539" y="10195"/>
                </a:cubicBezTo>
                <a:cubicBezTo>
                  <a:pt x="4447" y="10220"/>
                  <a:pt x="4379" y="10247"/>
                  <a:pt x="4291" y="10294"/>
                </a:cubicBezTo>
                <a:cubicBezTo>
                  <a:pt x="4156" y="10366"/>
                  <a:pt x="4024" y="10455"/>
                  <a:pt x="3919" y="10567"/>
                </a:cubicBezTo>
                <a:cubicBezTo>
                  <a:pt x="3792" y="10702"/>
                  <a:pt x="3632" y="10873"/>
                  <a:pt x="3547" y="11038"/>
                </a:cubicBezTo>
                <a:cubicBezTo>
                  <a:pt x="3505" y="11119"/>
                  <a:pt x="3474" y="11257"/>
                  <a:pt x="3497" y="11336"/>
                </a:cubicBezTo>
                <a:cubicBezTo>
                  <a:pt x="3520" y="11414"/>
                  <a:pt x="3624" y="11440"/>
                  <a:pt x="3696" y="11435"/>
                </a:cubicBezTo>
                <a:cubicBezTo>
                  <a:pt x="3805" y="11427"/>
                  <a:pt x="3964" y="11398"/>
                  <a:pt x="4068" y="11361"/>
                </a:cubicBezTo>
                <a:cubicBezTo>
                  <a:pt x="4209" y="11310"/>
                  <a:pt x="4350" y="11266"/>
                  <a:pt x="4490" y="11212"/>
                </a:cubicBezTo>
                <a:cubicBezTo>
                  <a:pt x="4572" y="11180"/>
                  <a:pt x="4656" y="11141"/>
                  <a:pt x="4738" y="11112"/>
                </a:cubicBezTo>
                <a:cubicBezTo>
                  <a:pt x="4746" y="11112"/>
                  <a:pt x="4754" y="11112"/>
                  <a:pt x="4762" y="11112"/>
                </a:cubicBezTo>
                <a:cubicBezTo>
                  <a:pt x="4685" y="11133"/>
                  <a:pt x="4638" y="11136"/>
                  <a:pt x="4564" y="11187"/>
                </a:cubicBezTo>
                <a:cubicBezTo>
                  <a:pt x="4459" y="11260"/>
                  <a:pt x="4279" y="11368"/>
                  <a:pt x="4217" y="11485"/>
                </a:cubicBezTo>
                <a:cubicBezTo>
                  <a:pt x="4193" y="11533"/>
                  <a:pt x="4184" y="11547"/>
                  <a:pt x="4192" y="11584"/>
                </a:cubicBezTo>
                <a:cubicBezTo>
                  <a:pt x="4335" y="11679"/>
                  <a:pt x="4377" y="11680"/>
                  <a:pt x="4589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106880" y="3946680"/>
            <a:ext cx="4197240" cy="1135080"/>
          </a:xfrm>
          <a:custGeom>
            <a:avLst/>
            <a:gdLst/>
            <a:ahLst/>
            <a:rect l="l" t="t" r="r" b="b"/>
            <a:pathLst>
              <a:path w="11659" h="3151">
                <a:moveTo>
                  <a:pt x="12774" y="11212"/>
                </a:moveTo>
                <a:cubicBezTo>
                  <a:pt x="12700" y="11212"/>
                  <a:pt x="12645" y="11213"/>
                  <a:pt x="12576" y="11237"/>
                </a:cubicBezTo>
                <a:cubicBezTo>
                  <a:pt x="12470" y="11273"/>
                  <a:pt x="12378" y="11317"/>
                  <a:pt x="12278" y="11361"/>
                </a:cubicBezTo>
                <a:cubicBezTo>
                  <a:pt x="12166" y="11410"/>
                  <a:pt x="12060" y="11467"/>
                  <a:pt x="11956" y="11534"/>
                </a:cubicBezTo>
                <a:cubicBezTo>
                  <a:pt x="11814" y="11626"/>
                  <a:pt x="11712" y="11725"/>
                  <a:pt x="11609" y="11857"/>
                </a:cubicBezTo>
                <a:cubicBezTo>
                  <a:pt x="11536" y="11950"/>
                  <a:pt x="11476" y="12069"/>
                  <a:pt x="11435" y="12179"/>
                </a:cubicBezTo>
                <a:cubicBezTo>
                  <a:pt x="11406" y="12257"/>
                  <a:pt x="11393" y="12360"/>
                  <a:pt x="11460" y="12427"/>
                </a:cubicBezTo>
                <a:cubicBezTo>
                  <a:pt x="11544" y="12512"/>
                  <a:pt x="11643" y="12563"/>
                  <a:pt x="11757" y="12601"/>
                </a:cubicBezTo>
                <a:cubicBezTo>
                  <a:pt x="11884" y="12644"/>
                  <a:pt x="12021" y="12626"/>
                  <a:pt x="12154" y="12626"/>
                </a:cubicBezTo>
                <a:cubicBezTo>
                  <a:pt x="12332" y="12626"/>
                  <a:pt x="12501" y="12634"/>
                  <a:pt x="12675" y="12650"/>
                </a:cubicBezTo>
                <a:cubicBezTo>
                  <a:pt x="12763" y="12658"/>
                  <a:pt x="12842" y="12648"/>
                  <a:pt x="12923" y="12626"/>
                </a:cubicBezTo>
              </a:path>
              <a:path w="11659" h="3151">
                <a:moveTo>
                  <a:pt x="14064" y="11807"/>
                </a:moveTo>
                <a:cubicBezTo>
                  <a:pt x="13994" y="11720"/>
                  <a:pt x="13961" y="11688"/>
                  <a:pt x="13841" y="11708"/>
                </a:cubicBezTo>
                <a:cubicBezTo>
                  <a:pt x="13713" y="11729"/>
                  <a:pt x="13585" y="11777"/>
                  <a:pt x="13469" y="11832"/>
                </a:cubicBezTo>
                <a:cubicBezTo>
                  <a:pt x="13344" y="11891"/>
                  <a:pt x="13231" y="11969"/>
                  <a:pt x="13146" y="12080"/>
                </a:cubicBezTo>
                <a:cubicBezTo>
                  <a:pt x="13098" y="12143"/>
                  <a:pt x="13033" y="12244"/>
                  <a:pt x="13047" y="12328"/>
                </a:cubicBezTo>
                <a:cubicBezTo>
                  <a:pt x="13063" y="12425"/>
                  <a:pt x="13138" y="12506"/>
                  <a:pt x="13221" y="12551"/>
                </a:cubicBezTo>
                <a:cubicBezTo>
                  <a:pt x="13308" y="12598"/>
                  <a:pt x="13399" y="12601"/>
                  <a:pt x="13494" y="12601"/>
                </a:cubicBezTo>
                <a:cubicBezTo>
                  <a:pt x="13582" y="12601"/>
                  <a:pt x="13710" y="12589"/>
                  <a:pt x="13791" y="12551"/>
                </a:cubicBezTo>
                <a:cubicBezTo>
                  <a:pt x="13883" y="12507"/>
                  <a:pt x="13997" y="12459"/>
                  <a:pt x="14064" y="12378"/>
                </a:cubicBezTo>
                <a:cubicBezTo>
                  <a:pt x="14117" y="12314"/>
                  <a:pt x="14172" y="12211"/>
                  <a:pt x="14188" y="12129"/>
                </a:cubicBezTo>
                <a:cubicBezTo>
                  <a:pt x="14199" y="12072"/>
                  <a:pt x="14196" y="11998"/>
                  <a:pt x="14163" y="11956"/>
                </a:cubicBezTo>
                <a:cubicBezTo>
                  <a:pt x="14122" y="11904"/>
                  <a:pt x="14051" y="11884"/>
                  <a:pt x="13990" y="11881"/>
                </a:cubicBezTo>
                <a:cubicBezTo>
                  <a:pt x="13938" y="11881"/>
                  <a:pt x="13920" y="11882"/>
                  <a:pt x="13891" y="11906"/>
                </a:cubicBezTo>
              </a:path>
              <a:path w="11659" h="3151">
                <a:moveTo>
                  <a:pt x="15106" y="11633"/>
                </a:moveTo>
                <a:cubicBezTo>
                  <a:pt x="14954" y="11597"/>
                  <a:pt x="14790" y="11545"/>
                  <a:pt x="14635" y="11609"/>
                </a:cubicBezTo>
                <a:cubicBezTo>
                  <a:pt x="14521" y="11657"/>
                  <a:pt x="14442" y="11702"/>
                  <a:pt x="14387" y="11807"/>
                </a:cubicBezTo>
                <a:cubicBezTo>
                  <a:pt x="14351" y="11876"/>
                  <a:pt x="14359" y="11943"/>
                  <a:pt x="14412" y="12005"/>
                </a:cubicBezTo>
                <a:cubicBezTo>
                  <a:pt x="14519" y="12130"/>
                  <a:pt x="14623" y="12156"/>
                  <a:pt x="14759" y="12229"/>
                </a:cubicBezTo>
                <a:cubicBezTo>
                  <a:pt x="14878" y="12292"/>
                  <a:pt x="14993" y="12379"/>
                  <a:pt x="15106" y="12452"/>
                </a:cubicBezTo>
                <a:cubicBezTo>
                  <a:pt x="15159" y="12487"/>
                  <a:pt x="15283" y="12586"/>
                  <a:pt x="15304" y="12650"/>
                </a:cubicBezTo>
                <a:cubicBezTo>
                  <a:pt x="15332" y="12736"/>
                  <a:pt x="15294" y="12726"/>
                  <a:pt x="15255" y="12750"/>
                </a:cubicBezTo>
                <a:cubicBezTo>
                  <a:pt x="15194" y="12788"/>
                  <a:pt x="15080" y="12765"/>
                  <a:pt x="15007" y="12750"/>
                </a:cubicBezTo>
                <a:cubicBezTo>
                  <a:pt x="14906" y="12730"/>
                  <a:pt x="14811" y="12705"/>
                  <a:pt x="14709" y="12700"/>
                </a:cubicBezTo>
                <a:cubicBezTo>
                  <a:pt x="14643" y="12697"/>
                  <a:pt x="14577" y="12700"/>
                  <a:pt x="14511" y="12700"/>
                </a:cubicBezTo>
              </a:path>
              <a:path w="11659" h="3151">
                <a:moveTo>
                  <a:pt x="15404" y="11063"/>
                </a:moveTo>
                <a:cubicBezTo>
                  <a:pt x="15404" y="11013"/>
                  <a:pt x="15409" y="11013"/>
                  <a:pt x="15453" y="10988"/>
                </a:cubicBezTo>
                <a:cubicBezTo>
                  <a:pt x="15537" y="10941"/>
                  <a:pt x="15638" y="10965"/>
                  <a:pt x="15726" y="10988"/>
                </a:cubicBezTo>
                <a:cubicBezTo>
                  <a:pt x="15842" y="11019"/>
                  <a:pt x="15968" y="11056"/>
                  <a:pt x="16073" y="11112"/>
                </a:cubicBezTo>
                <a:cubicBezTo>
                  <a:pt x="16154" y="11155"/>
                  <a:pt x="16210" y="11176"/>
                  <a:pt x="16222" y="11261"/>
                </a:cubicBezTo>
                <a:cubicBezTo>
                  <a:pt x="16176" y="11289"/>
                  <a:pt x="16082" y="11305"/>
                  <a:pt x="16024" y="11311"/>
                </a:cubicBezTo>
                <a:cubicBezTo>
                  <a:pt x="15939" y="11319"/>
                  <a:pt x="15829" y="11293"/>
                  <a:pt x="15751" y="11336"/>
                </a:cubicBezTo>
                <a:cubicBezTo>
                  <a:pt x="15743" y="11344"/>
                  <a:pt x="15734" y="11353"/>
                  <a:pt x="15726" y="11361"/>
                </a:cubicBezTo>
                <a:cubicBezTo>
                  <a:pt x="15786" y="11413"/>
                  <a:pt x="15829" y="11430"/>
                  <a:pt x="15925" y="11460"/>
                </a:cubicBezTo>
                <a:cubicBezTo>
                  <a:pt x="16000" y="11484"/>
                  <a:pt x="16082" y="11538"/>
                  <a:pt x="16148" y="11584"/>
                </a:cubicBezTo>
                <a:cubicBezTo>
                  <a:pt x="16156" y="11592"/>
                  <a:pt x="16165" y="11601"/>
                  <a:pt x="16173" y="11609"/>
                </a:cubicBezTo>
                <a:cubicBezTo>
                  <a:pt x="16137" y="11615"/>
                  <a:pt x="16081" y="11652"/>
                  <a:pt x="16024" y="11658"/>
                </a:cubicBezTo>
                <a:cubicBezTo>
                  <a:pt x="15892" y="11672"/>
                  <a:pt x="15799" y="11680"/>
                  <a:pt x="15677" y="11733"/>
                </a:cubicBezTo>
                <a:cubicBezTo>
                  <a:pt x="15660" y="11741"/>
                  <a:pt x="15644" y="11749"/>
                  <a:pt x="15627" y="11757"/>
                </a:cubicBezTo>
              </a:path>
              <a:path w="11659" h="3151">
                <a:moveTo>
                  <a:pt x="16371" y="11956"/>
                </a:moveTo>
                <a:cubicBezTo>
                  <a:pt x="16415" y="12000"/>
                  <a:pt x="16433" y="12010"/>
                  <a:pt x="16470" y="12055"/>
                </a:cubicBezTo>
                <a:cubicBezTo>
                  <a:pt x="16518" y="12113"/>
                  <a:pt x="16584" y="12190"/>
                  <a:pt x="16619" y="12254"/>
                </a:cubicBezTo>
                <a:cubicBezTo>
                  <a:pt x="16694" y="12392"/>
                  <a:pt x="16765" y="12536"/>
                  <a:pt x="16842" y="12675"/>
                </a:cubicBezTo>
                <a:cubicBezTo>
                  <a:pt x="16904" y="12786"/>
                  <a:pt x="16939" y="12907"/>
                  <a:pt x="16991" y="13022"/>
                </a:cubicBezTo>
                <a:cubicBezTo>
                  <a:pt x="17006" y="13055"/>
                  <a:pt x="17070" y="13137"/>
                  <a:pt x="17115" y="13122"/>
                </a:cubicBezTo>
                <a:cubicBezTo>
                  <a:pt x="17150" y="13122"/>
                  <a:pt x="17163" y="13113"/>
                  <a:pt x="17165" y="13072"/>
                </a:cubicBezTo>
              </a:path>
              <a:path w="11659" h="3151">
                <a:moveTo>
                  <a:pt x="17115" y="12105"/>
                </a:moveTo>
                <a:cubicBezTo>
                  <a:pt x="17097" y="12127"/>
                  <a:pt x="17089" y="12143"/>
                  <a:pt x="17066" y="12179"/>
                </a:cubicBezTo>
                <a:cubicBezTo>
                  <a:pt x="17014" y="12261"/>
                  <a:pt x="16974" y="12348"/>
                  <a:pt x="16917" y="12427"/>
                </a:cubicBezTo>
                <a:cubicBezTo>
                  <a:pt x="16821" y="12559"/>
                  <a:pt x="16726" y="12611"/>
                  <a:pt x="16619" y="12725"/>
                </a:cubicBezTo>
                <a:cubicBezTo>
                  <a:pt x="16498" y="12854"/>
                  <a:pt x="16398" y="13001"/>
                  <a:pt x="16247" y="13097"/>
                </a:cubicBezTo>
                <a:cubicBezTo>
                  <a:pt x="16230" y="13105"/>
                  <a:pt x="16214" y="13114"/>
                  <a:pt x="16197" y="13122"/>
                </a:cubicBezTo>
              </a:path>
              <a:path w="11659" h="3151">
                <a:moveTo>
                  <a:pt x="17835" y="12774"/>
                </a:moveTo>
                <a:cubicBezTo>
                  <a:pt x="17867" y="12796"/>
                  <a:pt x="17925" y="12820"/>
                  <a:pt x="17959" y="12849"/>
                </a:cubicBezTo>
                <a:cubicBezTo>
                  <a:pt x="18035" y="12913"/>
                  <a:pt x="18054" y="12991"/>
                  <a:pt x="18107" y="13072"/>
                </a:cubicBezTo>
                <a:cubicBezTo>
                  <a:pt x="18158" y="13149"/>
                  <a:pt x="18218" y="13242"/>
                  <a:pt x="18256" y="13320"/>
                </a:cubicBezTo>
                <a:cubicBezTo>
                  <a:pt x="18306" y="13423"/>
                  <a:pt x="18351" y="13497"/>
                  <a:pt x="18405" y="13593"/>
                </a:cubicBezTo>
                <a:cubicBezTo>
                  <a:pt x="18443" y="13661"/>
                  <a:pt x="18469" y="13714"/>
                  <a:pt x="18529" y="13767"/>
                </a:cubicBezTo>
                <a:cubicBezTo>
                  <a:pt x="18554" y="13789"/>
                  <a:pt x="18585" y="13802"/>
                  <a:pt x="18604" y="13816"/>
                </a:cubicBezTo>
                <a:cubicBezTo>
                  <a:pt x="18618" y="13779"/>
                  <a:pt x="18636" y="13778"/>
                  <a:pt x="18653" y="13717"/>
                </a:cubicBezTo>
                <a:cubicBezTo>
                  <a:pt x="18669" y="13658"/>
                  <a:pt x="18703" y="13563"/>
                  <a:pt x="18703" y="13494"/>
                </a:cubicBezTo>
                <a:cubicBezTo>
                  <a:pt x="18703" y="13377"/>
                  <a:pt x="18678" y="13267"/>
                  <a:pt x="18678" y="13146"/>
                </a:cubicBezTo>
                <a:cubicBezTo>
                  <a:pt x="18678" y="13012"/>
                  <a:pt x="18653" y="12886"/>
                  <a:pt x="18653" y="12750"/>
                </a:cubicBezTo>
                <a:cubicBezTo>
                  <a:pt x="18653" y="12622"/>
                  <a:pt x="18615" y="12502"/>
                  <a:pt x="18604" y="12378"/>
                </a:cubicBezTo>
                <a:cubicBezTo>
                  <a:pt x="18592" y="12242"/>
                  <a:pt x="18574" y="12089"/>
                  <a:pt x="18579" y="11956"/>
                </a:cubicBezTo>
                <a:cubicBezTo>
                  <a:pt x="18582" y="11877"/>
                  <a:pt x="18597" y="11805"/>
                  <a:pt x="18628" y="11733"/>
                </a:cubicBezTo>
                <a:cubicBezTo>
                  <a:pt x="18651" y="11681"/>
                  <a:pt x="18669" y="11661"/>
                  <a:pt x="18728" y="11633"/>
                </a:cubicBezTo>
                <a:cubicBezTo>
                  <a:pt x="18798" y="11599"/>
                  <a:pt x="18854" y="11614"/>
                  <a:pt x="18926" y="11633"/>
                </a:cubicBezTo>
                <a:cubicBezTo>
                  <a:pt x="19042" y="11663"/>
                  <a:pt x="19134" y="11725"/>
                  <a:pt x="19248" y="11757"/>
                </a:cubicBezTo>
                <a:cubicBezTo>
                  <a:pt x="19382" y="11795"/>
                  <a:pt x="19508" y="11819"/>
                  <a:pt x="19645" y="11832"/>
                </a:cubicBezTo>
                <a:cubicBezTo>
                  <a:pt x="19869" y="11853"/>
                  <a:pt x="20047" y="11845"/>
                  <a:pt x="20265" y="11832"/>
                </a:cubicBezTo>
                <a:cubicBezTo>
                  <a:pt x="20447" y="11821"/>
                  <a:pt x="20630" y="11812"/>
                  <a:pt x="20811" y="11807"/>
                </a:cubicBezTo>
                <a:cubicBezTo>
                  <a:pt x="21025" y="11802"/>
                  <a:pt x="21259" y="11801"/>
                  <a:pt x="21456" y="11832"/>
                </a:cubicBezTo>
              </a:path>
              <a:path w="11659" h="3151">
                <a:moveTo>
                  <a:pt x="19819" y="12452"/>
                </a:moveTo>
                <a:cubicBezTo>
                  <a:pt x="19789" y="12410"/>
                  <a:pt x="19756" y="12367"/>
                  <a:pt x="19695" y="12353"/>
                </a:cubicBezTo>
                <a:cubicBezTo>
                  <a:pt x="19617" y="12335"/>
                  <a:pt x="19517" y="12355"/>
                  <a:pt x="19447" y="12378"/>
                </a:cubicBezTo>
                <a:cubicBezTo>
                  <a:pt x="19377" y="12401"/>
                  <a:pt x="19338" y="12440"/>
                  <a:pt x="19298" y="12502"/>
                </a:cubicBezTo>
                <a:cubicBezTo>
                  <a:pt x="19260" y="12560"/>
                  <a:pt x="19310" y="12598"/>
                  <a:pt x="19348" y="12650"/>
                </a:cubicBezTo>
                <a:cubicBezTo>
                  <a:pt x="19404" y="12726"/>
                  <a:pt x="19539" y="12776"/>
                  <a:pt x="19621" y="12824"/>
                </a:cubicBezTo>
                <a:cubicBezTo>
                  <a:pt x="19712" y="12878"/>
                  <a:pt x="19804" y="12922"/>
                  <a:pt x="19893" y="12973"/>
                </a:cubicBezTo>
                <a:cubicBezTo>
                  <a:pt x="19975" y="13020"/>
                  <a:pt x="20035" y="13081"/>
                  <a:pt x="20092" y="13146"/>
                </a:cubicBezTo>
                <a:cubicBezTo>
                  <a:pt x="20130" y="13190"/>
                  <a:pt x="20166" y="13232"/>
                  <a:pt x="20166" y="13295"/>
                </a:cubicBezTo>
                <a:cubicBezTo>
                  <a:pt x="20166" y="13330"/>
                  <a:pt x="20125" y="13404"/>
                  <a:pt x="20092" y="13419"/>
                </a:cubicBezTo>
                <a:cubicBezTo>
                  <a:pt x="20038" y="13444"/>
                  <a:pt x="19979" y="13431"/>
                  <a:pt x="19918" y="13444"/>
                </a:cubicBezTo>
                <a:cubicBezTo>
                  <a:pt x="19830" y="13463"/>
                  <a:pt x="19762" y="13469"/>
                  <a:pt x="19670" y="13469"/>
                </a:cubicBezTo>
                <a:cubicBezTo>
                  <a:pt x="19582" y="13469"/>
                  <a:pt x="19471" y="13481"/>
                  <a:pt x="19422" y="13494"/>
                </a:cubicBezTo>
                <a:cubicBezTo>
                  <a:pt x="19414" y="13494"/>
                  <a:pt x="19405" y="13494"/>
                  <a:pt x="19397" y="13494"/>
                </a:cubicBezTo>
              </a:path>
              <a:path w="11659" h="3151">
                <a:moveTo>
                  <a:pt x="20712" y="12998"/>
                </a:moveTo>
                <a:cubicBezTo>
                  <a:pt x="20728" y="13060"/>
                  <a:pt x="20737" y="13096"/>
                  <a:pt x="20737" y="13171"/>
                </a:cubicBezTo>
                <a:cubicBezTo>
                  <a:pt x="20737" y="13308"/>
                  <a:pt x="20742" y="13439"/>
                  <a:pt x="20712" y="13568"/>
                </a:cubicBezTo>
                <a:cubicBezTo>
                  <a:pt x="20690" y="13663"/>
                  <a:pt x="20662" y="13469"/>
                  <a:pt x="20662" y="13469"/>
                </a:cubicBezTo>
              </a:path>
              <a:path w="11659" h="3151">
                <a:moveTo>
                  <a:pt x="20464" y="12551"/>
                </a:moveTo>
                <a:cubicBezTo>
                  <a:pt x="20473" y="12521"/>
                  <a:pt x="20479" y="12419"/>
                  <a:pt x="20538" y="12452"/>
                </a:cubicBezTo>
                <a:cubicBezTo>
                  <a:pt x="20573" y="12487"/>
                  <a:pt x="20586" y="12509"/>
                  <a:pt x="20588" y="12551"/>
                </a:cubicBezTo>
              </a:path>
              <a:path w="11659" h="3151">
                <a:moveTo>
                  <a:pt x="20985" y="13419"/>
                </a:moveTo>
                <a:cubicBezTo>
                  <a:pt x="21024" y="13306"/>
                  <a:pt x="21051" y="13241"/>
                  <a:pt x="21109" y="13146"/>
                </a:cubicBezTo>
                <a:cubicBezTo>
                  <a:pt x="21153" y="13074"/>
                  <a:pt x="21202" y="13011"/>
                  <a:pt x="21258" y="12948"/>
                </a:cubicBezTo>
              </a:path>
              <a:path w="11659" h="3151">
                <a:moveTo>
                  <a:pt x="21431" y="12874"/>
                </a:moveTo>
                <a:cubicBezTo>
                  <a:pt x="21522" y="12882"/>
                  <a:pt x="21573" y="12892"/>
                  <a:pt x="21630" y="12973"/>
                </a:cubicBezTo>
                <a:cubicBezTo>
                  <a:pt x="21686" y="13053"/>
                  <a:pt x="21740" y="13158"/>
                  <a:pt x="21779" y="13246"/>
                </a:cubicBezTo>
                <a:cubicBezTo>
                  <a:pt x="21811" y="13318"/>
                  <a:pt x="21862" y="13418"/>
                  <a:pt x="21878" y="13494"/>
                </a:cubicBezTo>
                <a:cubicBezTo>
                  <a:pt x="21891" y="13554"/>
                  <a:pt x="21888" y="13646"/>
                  <a:pt x="21853" y="13692"/>
                </a:cubicBezTo>
              </a:path>
              <a:path w="11659" h="3151">
                <a:moveTo>
                  <a:pt x="22399" y="12849"/>
                </a:moveTo>
                <a:cubicBezTo>
                  <a:pt x="22415" y="12841"/>
                  <a:pt x="22432" y="12832"/>
                  <a:pt x="22448" y="12824"/>
                </a:cubicBezTo>
                <a:cubicBezTo>
                  <a:pt x="22461" y="12888"/>
                  <a:pt x="22492" y="12956"/>
                  <a:pt x="22498" y="13022"/>
                </a:cubicBezTo>
                <a:cubicBezTo>
                  <a:pt x="22517" y="13214"/>
                  <a:pt x="22486" y="13402"/>
                  <a:pt x="22523" y="13593"/>
                </a:cubicBezTo>
                <a:cubicBezTo>
                  <a:pt x="22547" y="13719"/>
                  <a:pt x="22574" y="13840"/>
                  <a:pt x="22597" y="13965"/>
                </a:cubicBezTo>
                <a:cubicBezTo>
                  <a:pt x="22608" y="14025"/>
                  <a:pt x="22618" y="14057"/>
                  <a:pt x="22647" y="14114"/>
                </a:cubicBezTo>
              </a:path>
              <a:path w="11659" h="3151">
                <a:moveTo>
                  <a:pt x="23044" y="13196"/>
                </a:moveTo>
                <a:cubicBezTo>
                  <a:pt x="23012" y="13212"/>
                  <a:pt x="23027" y="13207"/>
                  <a:pt x="22994" y="13221"/>
                </a:cubicBezTo>
                <a:cubicBezTo>
                  <a:pt x="22890" y="13263"/>
                  <a:pt x="22793" y="13312"/>
                  <a:pt x="22696" y="13370"/>
                </a:cubicBezTo>
                <a:cubicBezTo>
                  <a:pt x="22566" y="13448"/>
                  <a:pt x="22416" y="13519"/>
                  <a:pt x="22299" y="13618"/>
                </a:cubicBezTo>
                <a:cubicBezTo>
                  <a:pt x="22200" y="13702"/>
                  <a:pt x="22125" y="13811"/>
                  <a:pt x="22027" y="13891"/>
                </a:cubicBezTo>
                <a:cubicBezTo>
                  <a:pt x="21953" y="13952"/>
                  <a:pt x="21944" y="13956"/>
                  <a:pt x="21903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1133640" y="4348080"/>
            <a:ext cx="1903320" cy="733680"/>
          </a:xfrm>
          <a:custGeom>
            <a:avLst/>
            <a:gdLst/>
            <a:ahLst/>
            <a:rect l="l" t="t" r="r" b="b"/>
            <a:pathLst>
              <a:path w="5285" h="2035">
                <a:moveTo>
                  <a:pt x="3944" y="12353"/>
                </a:moveTo>
                <a:cubicBezTo>
                  <a:pt x="3893" y="12503"/>
                  <a:pt x="3853" y="12653"/>
                  <a:pt x="3795" y="12799"/>
                </a:cubicBezTo>
                <a:cubicBezTo>
                  <a:pt x="3727" y="12970"/>
                  <a:pt x="3660" y="13147"/>
                  <a:pt x="3547" y="13295"/>
                </a:cubicBezTo>
                <a:cubicBezTo>
                  <a:pt x="3462" y="13406"/>
                  <a:pt x="3369" y="13497"/>
                  <a:pt x="3249" y="13568"/>
                </a:cubicBezTo>
                <a:cubicBezTo>
                  <a:pt x="3201" y="13592"/>
                  <a:pt x="3187" y="13601"/>
                  <a:pt x="3150" y="13593"/>
                </a:cubicBezTo>
              </a:path>
              <a:path w="5285" h="2035">
                <a:moveTo>
                  <a:pt x="3820" y="12353"/>
                </a:moveTo>
                <a:cubicBezTo>
                  <a:pt x="4025" y="12218"/>
                  <a:pt x="4169" y="12107"/>
                  <a:pt x="4415" y="12080"/>
                </a:cubicBezTo>
                <a:cubicBezTo>
                  <a:pt x="4505" y="12070"/>
                  <a:pt x="4659" y="12104"/>
                  <a:pt x="4738" y="12154"/>
                </a:cubicBezTo>
                <a:cubicBezTo>
                  <a:pt x="4821" y="12208"/>
                  <a:pt x="4828" y="12296"/>
                  <a:pt x="4787" y="12378"/>
                </a:cubicBezTo>
                <a:cubicBezTo>
                  <a:pt x="4699" y="12555"/>
                  <a:pt x="4502" y="12638"/>
                  <a:pt x="4341" y="12725"/>
                </a:cubicBezTo>
                <a:cubicBezTo>
                  <a:pt x="4203" y="12800"/>
                  <a:pt x="4091" y="12888"/>
                  <a:pt x="4018" y="12998"/>
                </a:cubicBezTo>
                <a:cubicBezTo>
                  <a:pt x="4169" y="12998"/>
                  <a:pt x="4316" y="12992"/>
                  <a:pt x="4465" y="13022"/>
                </a:cubicBezTo>
                <a:cubicBezTo>
                  <a:pt x="4606" y="13051"/>
                  <a:pt x="4655" y="13069"/>
                  <a:pt x="4713" y="13196"/>
                </a:cubicBezTo>
                <a:cubicBezTo>
                  <a:pt x="4587" y="13308"/>
                  <a:pt x="4471" y="13306"/>
                  <a:pt x="4316" y="13370"/>
                </a:cubicBezTo>
                <a:cubicBezTo>
                  <a:pt x="4113" y="13454"/>
                  <a:pt x="3894" y="13521"/>
                  <a:pt x="3696" y="13618"/>
                </a:cubicBezTo>
                <a:cubicBezTo>
                  <a:pt x="3655" y="13643"/>
                  <a:pt x="3613" y="13667"/>
                  <a:pt x="3572" y="13692"/>
                </a:cubicBezTo>
              </a:path>
              <a:path w="5285" h="2035">
                <a:moveTo>
                  <a:pt x="5234" y="12998"/>
                </a:moveTo>
                <a:cubicBezTo>
                  <a:pt x="5084" y="13035"/>
                  <a:pt x="4926" y="13078"/>
                  <a:pt x="4787" y="13146"/>
                </a:cubicBezTo>
                <a:cubicBezTo>
                  <a:pt x="4640" y="13218"/>
                  <a:pt x="4519" y="13298"/>
                  <a:pt x="4390" y="13395"/>
                </a:cubicBezTo>
              </a:path>
              <a:path w="5285" h="2035">
                <a:moveTo>
                  <a:pt x="4415" y="13395"/>
                </a:moveTo>
                <a:cubicBezTo>
                  <a:pt x="4612" y="13320"/>
                  <a:pt x="4808" y="13226"/>
                  <a:pt x="5011" y="13171"/>
                </a:cubicBezTo>
                <a:cubicBezTo>
                  <a:pt x="5081" y="13152"/>
                  <a:pt x="5117" y="13146"/>
                  <a:pt x="5184" y="13146"/>
                </a:cubicBezTo>
                <a:cubicBezTo>
                  <a:pt x="5203" y="13300"/>
                  <a:pt x="5084" y="13349"/>
                  <a:pt x="4986" y="13469"/>
                </a:cubicBezTo>
                <a:cubicBezTo>
                  <a:pt x="4904" y="13569"/>
                  <a:pt x="4695" y="13809"/>
                  <a:pt x="4787" y="13717"/>
                </a:cubicBezTo>
              </a:path>
              <a:path w="5285" h="2035">
                <a:moveTo>
                  <a:pt x="6226" y="12204"/>
                </a:moveTo>
                <a:cubicBezTo>
                  <a:pt x="6141" y="12272"/>
                  <a:pt x="6080" y="12320"/>
                  <a:pt x="6003" y="12402"/>
                </a:cubicBezTo>
                <a:cubicBezTo>
                  <a:pt x="5858" y="12556"/>
                  <a:pt x="5687" y="12681"/>
                  <a:pt x="5556" y="12849"/>
                </a:cubicBezTo>
                <a:cubicBezTo>
                  <a:pt x="5451" y="12983"/>
                  <a:pt x="5355" y="13100"/>
                  <a:pt x="5234" y="13221"/>
                </a:cubicBezTo>
              </a:path>
              <a:path w="5285" h="2035">
                <a:moveTo>
                  <a:pt x="6722" y="12502"/>
                </a:moveTo>
                <a:cubicBezTo>
                  <a:pt x="6460" y="12584"/>
                  <a:pt x="6181" y="12666"/>
                  <a:pt x="5928" y="12774"/>
                </a:cubicBezTo>
                <a:cubicBezTo>
                  <a:pt x="5710" y="12867"/>
                  <a:pt x="5501" y="12977"/>
                  <a:pt x="5283" y="13072"/>
                </a:cubicBezTo>
                <a:cubicBezTo>
                  <a:pt x="5212" y="13096"/>
                  <a:pt x="5189" y="13103"/>
                  <a:pt x="5159" y="13146"/>
                </a:cubicBezTo>
              </a:path>
              <a:path w="5285" h="2035">
                <a:moveTo>
                  <a:pt x="5209" y="13171"/>
                </a:moveTo>
                <a:cubicBezTo>
                  <a:pt x="5377" y="13178"/>
                  <a:pt x="5541" y="13185"/>
                  <a:pt x="5705" y="13221"/>
                </a:cubicBezTo>
                <a:cubicBezTo>
                  <a:pt x="5727" y="13226"/>
                  <a:pt x="5932" y="13293"/>
                  <a:pt x="5904" y="13345"/>
                </a:cubicBezTo>
                <a:cubicBezTo>
                  <a:pt x="5870" y="13410"/>
                  <a:pt x="5715" y="13490"/>
                  <a:pt x="5655" y="13543"/>
                </a:cubicBezTo>
                <a:cubicBezTo>
                  <a:pt x="5655" y="13568"/>
                  <a:pt x="5655" y="13576"/>
                  <a:pt x="5655" y="13593"/>
                </a:cubicBezTo>
                <a:cubicBezTo>
                  <a:pt x="5776" y="13593"/>
                  <a:pt x="5883" y="13588"/>
                  <a:pt x="6003" y="13568"/>
                </a:cubicBezTo>
                <a:cubicBezTo>
                  <a:pt x="6211" y="13534"/>
                  <a:pt x="6408" y="13497"/>
                  <a:pt x="6598" y="13419"/>
                </a:cubicBezTo>
                <a:cubicBezTo>
                  <a:pt x="6715" y="13371"/>
                  <a:pt x="6655" y="13368"/>
                  <a:pt x="6672" y="13295"/>
                </a:cubicBezTo>
                <a:cubicBezTo>
                  <a:pt x="6587" y="13230"/>
                  <a:pt x="6554" y="13200"/>
                  <a:pt x="6424" y="13196"/>
                </a:cubicBezTo>
                <a:cubicBezTo>
                  <a:pt x="6285" y="13192"/>
                  <a:pt x="6132" y="13227"/>
                  <a:pt x="6028" y="13320"/>
                </a:cubicBezTo>
                <a:cubicBezTo>
                  <a:pt x="5967" y="13375"/>
                  <a:pt x="5931" y="13438"/>
                  <a:pt x="5928" y="13519"/>
                </a:cubicBezTo>
                <a:cubicBezTo>
                  <a:pt x="5925" y="13596"/>
                  <a:pt x="5986" y="13628"/>
                  <a:pt x="6052" y="13643"/>
                </a:cubicBezTo>
                <a:cubicBezTo>
                  <a:pt x="6148" y="13665"/>
                  <a:pt x="6357" y="13621"/>
                  <a:pt x="6449" y="13593"/>
                </a:cubicBezTo>
                <a:cubicBezTo>
                  <a:pt x="6485" y="13582"/>
                  <a:pt x="6930" y="13470"/>
                  <a:pt x="6921" y="13419"/>
                </a:cubicBezTo>
                <a:cubicBezTo>
                  <a:pt x="6909" y="13354"/>
                  <a:pt x="6877" y="13377"/>
                  <a:pt x="6821" y="13370"/>
                </a:cubicBezTo>
                <a:cubicBezTo>
                  <a:pt x="6763" y="13370"/>
                  <a:pt x="6755" y="13370"/>
                  <a:pt x="6722" y="13370"/>
                </a:cubicBezTo>
                <a:cubicBezTo>
                  <a:pt x="6822" y="13362"/>
                  <a:pt x="6919" y="13357"/>
                  <a:pt x="7020" y="13345"/>
                </a:cubicBezTo>
                <a:cubicBezTo>
                  <a:pt x="7209" y="13323"/>
                  <a:pt x="7422" y="13325"/>
                  <a:pt x="7615" y="13345"/>
                </a:cubicBezTo>
                <a:cubicBezTo>
                  <a:pt x="7712" y="13355"/>
                  <a:pt x="7818" y="13380"/>
                  <a:pt x="7913" y="13395"/>
                </a:cubicBezTo>
                <a:cubicBezTo>
                  <a:pt x="7833" y="13419"/>
                  <a:pt x="7729" y="13442"/>
                  <a:pt x="7640" y="13469"/>
                </a:cubicBezTo>
                <a:cubicBezTo>
                  <a:pt x="7476" y="13519"/>
                  <a:pt x="7369" y="13580"/>
                  <a:pt x="7243" y="13692"/>
                </a:cubicBezTo>
                <a:cubicBezTo>
                  <a:pt x="7367" y="13799"/>
                  <a:pt x="7462" y="13837"/>
                  <a:pt x="7640" y="13891"/>
                </a:cubicBezTo>
                <a:cubicBezTo>
                  <a:pt x="7903" y="13971"/>
                  <a:pt x="8169" y="14041"/>
                  <a:pt x="8434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 Csc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983120" y="1598760"/>
            <a:ext cx="411120" cy="285480"/>
          </a:xfrm>
          <a:custGeom>
            <a:avLst/>
            <a:gdLst/>
            <a:ahLst/>
            <a:rect l="l" t="t" r="r" b="b"/>
            <a:pathLst>
              <a:path w="1142" h="795">
                <a:moveTo>
                  <a:pt x="14039" y="4440"/>
                </a:moveTo>
                <a:cubicBezTo>
                  <a:pt x="14074" y="4487"/>
                  <a:pt x="14064" y="4527"/>
                  <a:pt x="14064" y="4589"/>
                </a:cubicBezTo>
                <a:cubicBezTo>
                  <a:pt x="14064" y="4688"/>
                  <a:pt x="14074" y="4770"/>
                  <a:pt x="14089" y="4862"/>
                </a:cubicBezTo>
                <a:cubicBezTo>
                  <a:pt x="14101" y="4931"/>
                  <a:pt x="14098" y="4993"/>
                  <a:pt x="14114" y="5060"/>
                </a:cubicBezTo>
                <a:cubicBezTo>
                  <a:pt x="14124" y="5104"/>
                  <a:pt x="14121" y="5149"/>
                  <a:pt x="14089" y="5159"/>
                </a:cubicBezTo>
              </a:path>
              <a:path w="1142" h="795">
                <a:moveTo>
                  <a:pt x="13841" y="5011"/>
                </a:moveTo>
                <a:cubicBezTo>
                  <a:pt x="13944" y="5002"/>
                  <a:pt x="14033" y="4986"/>
                  <a:pt x="14139" y="4986"/>
                </a:cubicBezTo>
                <a:cubicBezTo>
                  <a:pt x="14180" y="4986"/>
                  <a:pt x="14222" y="4986"/>
                  <a:pt x="14263" y="4986"/>
                </a:cubicBezTo>
              </a:path>
              <a:path w="1142" h="795">
                <a:moveTo>
                  <a:pt x="14511" y="4539"/>
                </a:moveTo>
                <a:cubicBezTo>
                  <a:pt x="14625" y="4499"/>
                  <a:pt x="14694" y="4465"/>
                  <a:pt x="14808" y="4465"/>
                </a:cubicBezTo>
                <a:cubicBezTo>
                  <a:pt x="14883" y="4465"/>
                  <a:pt x="14904" y="4462"/>
                  <a:pt x="14957" y="4514"/>
                </a:cubicBezTo>
                <a:cubicBezTo>
                  <a:pt x="15000" y="4557"/>
                  <a:pt x="14955" y="4695"/>
                  <a:pt x="14908" y="4738"/>
                </a:cubicBezTo>
                <a:cubicBezTo>
                  <a:pt x="14853" y="4789"/>
                  <a:pt x="14800" y="4864"/>
                  <a:pt x="14734" y="4911"/>
                </a:cubicBezTo>
                <a:cubicBezTo>
                  <a:pt x="14660" y="4964"/>
                  <a:pt x="14621" y="5018"/>
                  <a:pt x="14560" y="5085"/>
                </a:cubicBezTo>
                <a:cubicBezTo>
                  <a:pt x="14541" y="5106"/>
                  <a:pt x="14471" y="5151"/>
                  <a:pt x="14486" y="5184"/>
                </a:cubicBezTo>
                <a:cubicBezTo>
                  <a:pt x="14506" y="5228"/>
                  <a:pt x="14514" y="5234"/>
                  <a:pt x="14560" y="5234"/>
                </a:cubicBezTo>
                <a:cubicBezTo>
                  <a:pt x="14623" y="5234"/>
                  <a:pt x="14652" y="5219"/>
                  <a:pt x="14709" y="5209"/>
                </a:cubicBezTo>
                <a:cubicBezTo>
                  <a:pt x="14775" y="5197"/>
                  <a:pt x="14842" y="5192"/>
                  <a:pt x="14908" y="51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598920" y="2259000"/>
            <a:ext cx="2492280" cy="581040"/>
          </a:xfrm>
          <a:custGeom>
            <a:avLst/>
            <a:gdLst/>
            <a:ahLst/>
            <a:rect l="l" t="t" r="r" b="b"/>
            <a:pathLst>
              <a:path w="6922" h="1613">
                <a:moveTo>
                  <a:pt x="11162" y="6945"/>
                </a:moveTo>
                <a:cubicBezTo>
                  <a:pt x="11181" y="6985"/>
                  <a:pt x="11227" y="7074"/>
                  <a:pt x="11237" y="7094"/>
                </a:cubicBezTo>
                <a:cubicBezTo>
                  <a:pt x="11237" y="7119"/>
                  <a:pt x="11237" y="7127"/>
                  <a:pt x="11261" y="7119"/>
                </a:cubicBezTo>
                <a:cubicBezTo>
                  <a:pt x="11261" y="7083"/>
                  <a:pt x="11255" y="7046"/>
                  <a:pt x="11237" y="7020"/>
                </a:cubicBezTo>
                <a:cubicBezTo>
                  <a:pt x="11212" y="6982"/>
                  <a:pt x="11155" y="6926"/>
                  <a:pt x="11112" y="6921"/>
                </a:cubicBezTo>
                <a:cubicBezTo>
                  <a:pt x="11039" y="6913"/>
                  <a:pt x="10984" y="6977"/>
                  <a:pt x="10939" y="7020"/>
                </a:cubicBezTo>
                <a:cubicBezTo>
                  <a:pt x="10884" y="7072"/>
                  <a:pt x="10820" y="7149"/>
                  <a:pt x="10790" y="7218"/>
                </a:cubicBezTo>
                <a:cubicBezTo>
                  <a:pt x="10758" y="7291"/>
                  <a:pt x="10701" y="7410"/>
                  <a:pt x="10716" y="7491"/>
                </a:cubicBezTo>
                <a:cubicBezTo>
                  <a:pt x="10731" y="7573"/>
                  <a:pt x="10757" y="7627"/>
                  <a:pt x="10815" y="7689"/>
                </a:cubicBezTo>
                <a:cubicBezTo>
                  <a:pt x="10846" y="7723"/>
                  <a:pt x="10940" y="7757"/>
                  <a:pt x="10988" y="7764"/>
                </a:cubicBezTo>
                <a:cubicBezTo>
                  <a:pt x="11090" y="7778"/>
                  <a:pt x="11194" y="7754"/>
                  <a:pt x="11286" y="7714"/>
                </a:cubicBezTo>
                <a:cubicBezTo>
                  <a:pt x="11340" y="7687"/>
                  <a:pt x="11360" y="7676"/>
                  <a:pt x="11385" y="7640"/>
                </a:cubicBezTo>
              </a:path>
              <a:path w="6922" h="1613">
                <a:moveTo>
                  <a:pt x="11906" y="6945"/>
                </a:moveTo>
                <a:cubicBezTo>
                  <a:pt x="11787" y="6973"/>
                  <a:pt x="11779" y="6982"/>
                  <a:pt x="11683" y="7045"/>
                </a:cubicBezTo>
                <a:cubicBezTo>
                  <a:pt x="11626" y="7083"/>
                  <a:pt x="11560" y="7097"/>
                  <a:pt x="11509" y="7144"/>
                </a:cubicBezTo>
                <a:cubicBezTo>
                  <a:pt x="11479" y="7172"/>
                  <a:pt x="11485" y="7181"/>
                  <a:pt x="11485" y="7218"/>
                </a:cubicBezTo>
                <a:cubicBezTo>
                  <a:pt x="11545" y="7244"/>
                  <a:pt x="11597" y="7252"/>
                  <a:pt x="11658" y="7268"/>
                </a:cubicBezTo>
                <a:cubicBezTo>
                  <a:pt x="11749" y="7292"/>
                  <a:pt x="11814" y="7330"/>
                  <a:pt x="11881" y="7392"/>
                </a:cubicBezTo>
                <a:cubicBezTo>
                  <a:pt x="11926" y="7434"/>
                  <a:pt x="11969" y="7488"/>
                  <a:pt x="11906" y="7541"/>
                </a:cubicBezTo>
                <a:cubicBezTo>
                  <a:pt x="11848" y="7590"/>
                  <a:pt x="11797" y="7617"/>
                  <a:pt x="11733" y="7640"/>
                </a:cubicBezTo>
                <a:cubicBezTo>
                  <a:pt x="11704" y="7650"/>
                  <a:pt x="11590" y="7696"/>
                  <a:pt x="11559" y="7665"/>
                </a:cubicBezTo>
                <a:cubicBezTo>
                  <a:pt x="11537" y="7643"/>
                  <a:pt x="11599" y="7600"/>
                  <a:pt x="11609" y="7590"/>
                </a:cubicBezTo>
              </a:path>
              <a:path w="6922" h="1613">
                <a:moveTo>
                  <a:pt x="12526" y="7094"/>
                </a:moveTo>
                <a:cubicBezTo>
                  <a:pt x="12622" y="7176"/>
                  <a:pt x="12572" y="7161"/>
                  <a:pt x="12551" y="7119"/>
                </a:cubicBezTo>
                <a:cubicBezTo>
                  <a:pt x="12544" y="7105"/>
                  <a:pt x="12507" y="7053"/>
                  <a:pt x="12477" y="7045"/>
                </a:cubicBezTo>
                <a:cubicBezTo>
                  <a:pt x="12430" y="7032"/>
                  <a:pt x="12343" y="7043"/>
                  <a:pt x="12303" y="7069"/>
                </a:cubicBezTo>
                <a:cubicBezTo>
                  <a:pt x="12232" y="7116"/>
                  <a:pt x="12194" y="7166"/>
                  <a:pt x="12154" y="7243"/>
                </a:cubicBezTo>
                <a:cubicBezTo>
                  <a:pt x="12112" y="7324"/>
                  <a:pt x="12067" y="7374"/>
                  <a:pt x="12055" y="7466"/>
                </a:cubicBezTo>
                <a:cubicBezTo>
                  <a:pt x="12045" y="7542"/>
                  <a:pt x="12078" y="7611"/>
                  <a:pt x="12129" y="7665"/>
                </a:cubicBezTo>
                <a:cubicBezTo>
                  <a:pt x="12195" y="7736"/>
                  <a:pt x="12209" y="7739"/>
                  <a:pt x="12303" y="7739"/>
                </a:cubicBezTo>
                <a:cubicBezTo>
                  <a:pt x="12377" y="7739"/>
                  <a:pt x="12420" y="7742"/>
                  <a:pt x="12477" y="7689"/>
                </a:cubicBezTo>
                <a:cubicBezTo>
                  <a:pt x="12518" y="7648"/>
                  <a:pt x="12526" y="7640"/>
                  <a:pt x="12551" y="7615"/>
                </a:cubicBezTo>
              </a:path>
              <a:path w="6922" h="1613">
                <a:moveTo>
                  <a:pt x="12626" y="6598"/>
                </a:moveTo>
                <a:cubicBezTo>
                  <a:pt x="12674" y="6572"/>
                  <a:pt x="12773" y="6482"/>
                  <a:pt x="12824" y="6548"/>
                </a:cubicBezTo>
                <a:cubicBezTo>
                  <a:pt x="12887" y="6630"/>
                  <a:pt x="12815" y="6635"/>
                  <a:pt x="12774" y="6697"/>
                </a:cubicBezTo>
                <a:cubicBezTo>
                  <a:pt x="12744" y="6743"/>
                  <a:pt x="12670" y="6766"/>
                  <a:pt x="12650" y="6796"/>
                </a:cubicBezTo>
                <a:cubicBezTo>
                  <a:pt x="12650" y="6804"/>
                  <a:pt x="12650" y="6813"/>
                  <a:pt x="12650" y="6821"/>
                </a:cubicBezTo>
                <a:cubicBezTo>
                  <a:pt x="12707" y="6864"/>
                  <a:pt x="12776" y="6846"/>
                  <a:pt x="12849" y="6846"/>
                </a:cubicBezTo>
                <a:cubicBezTo>
                  <a:pt x="12874" y="6846"/>
                  <a:pt x="12898" y="6846"/>
                  <a:pt x="12923" y="6846"/>
                </a:cubicBezTo>
              </a:path>
              <a:path w="6922" h="1613">
                <a:moveTo>
                  <a:pt x="13171" y="7020"/>
                </a:moveTo>
                <a:cubicBezTo>
                  <a:pt x="13199" y="7102"/>
                  <a:pt x="13223" y="7221"/>
                  <a:pt x="13271" y="7293"/>
                </a:cubicBezTo>
                <a:cubicBezTo>
                  <a:pt x="13320" y="7367"/>
                  <a:pt x="13383" y="7451"/>
                  <a:pt x="13444" y="7516"/>
                </a:cubicBezTo>
                <a:cubicBezTo>
                  <a:pt x="13486" y="7560"/>
                  <a:pt x="13558" y="7620"/>
                  <a:pt x="13618" y="7640"/>
                </a:cubicBezTo>
                <a:cubicBezTo>
                  <a:pt x="13658" y="7653"/>
                  <a:pt x="13643" y="7613"/>
                  <a:pt x="13643" y="7590"/>
                </a:cubicBezTo>
              </a:path>
              <a:path w="6922" h="1613">
                <a:moveTo>
                  <a:pt x="13519" y="6995"/>
                </a:moveTo>
                <a:cubicBezTo>
                  <a:pt x="13446" y="7088"/>
                  <a:pt x="13376" y="7183"/>
                  <a:pt x="13295" y="7268"/>
                </a:cubicBezTo>
                <a:cubicBezTo>
                  <a:pt x="13235" y="7331"/>
                  <a:pt x="13170" y="7396"/>
                  <a:pt x="13097" y="7441"/>
                </a:cubicBezTo>
                <a:cubicBezTo>
                  <a:pt x="13062" y="7462"/>
                  <a:pt x="12965" y="7516"/>
                  <a:pt x="12948" y="7541"/>
                </a:cubicBezTo>
                <a:cubicBezTo>
                  <a:pt x="12911" y="7595"/>
                  <a:pt x="13014" y="7524"/>
                  <a:pt x="13022" y="7516"/>
                </a:cubicBezTo>
              </a:path>
              <a:path w="6922" h="1613">
                <a:moveTo>
                  <a:pt x="14436" y="7144"/>
                </a:moveTo>
                <a:cubicBezTo>
                  <a:pt x="14502" y="7144"/>
                  <a:pt x="14546" y="7165"/>
                  <a:pt x="14610" y="7169"/>
                </a:cubicBezTo>
                <a:cubicBezTo>
                  <a:pt x="14684" y="7173"/>
                  <a:pt x="14759" y="7169"/>
                  <a:pt x="14833" y="7169"/>
                </a:cubicBezTo>
              </a:path>
              <a:path w="6922" h="1613">
                <a:moveTo>
                  <a:pt x="14387" y="7342"/>
                </a:moveTo>
                <a:cubicBezTo>
                  <a:pt x="14440" y="7395"/>
                  <a:pt x="14460" y="7392"/>
                  <a:pt x="14536" y="7392"/>
                </a:cubicBezTo>
                <a:cubicBezTo>
                  <a:pt x="14633" y="7392"/>
                  <a:pt x="14712" y="7398"/>
                  <a:pt x="14808" y="7417"/>
                </a:cubicBezTo>
              </a:path>
              <a:path w="6922" h="1613">
                <a:moveTo>
                  <a:pt x="15528" y="6821"/>
                </a:moveTo>
                <a:cubicBezTo>
                  <a:pt x="15605" y="6734"/>
                  <a:pt x="15620" y="6708"/>
                  <a:pt x="15726" y="6672"/>
                </a:cubicBezTo>
                <a:cubicBezTo>
                  <a:pt x="15796" y="6648"/>
                  <a:pt x="15923" y="6631"/>
                  <a:pt x="15999" y="6648"/>
                </a:cubicBezTo>
                <a:cubicBezTo>
                  <a:pt x="16032" y="6655"/>
                  <a:pt x="16105" y="6665"/>
                  <a:pt x="16123" y="6697"/>
                </a:cubicBezTo>
                <a:cubicBezTo>
                  <a:pt x="16154" y="6753"/>
                  <a:pt x="16143" y="6774"/>
                  <a:pt x="16123" y="6821"/>
                </a:cubicBezTo>
                <a:cubicBezTo>
                  <a:pt x="16096" y="6884"/>
                  <a:pt x="16058" y="6939"/>
                  <a:pt x="16024" y="6995"/>
                </a:cubicBezTo>
                <a:cubicBezTo>
                  <a:pt x="15977" y="7073"/>
                  <a:pt x="15910" y="7148"/>
                  <a:pt x="15850" y="7218"/>
                </a:cubicBezTo>
                <a:cubicBezTo>
                  <a:pt x="15780" y="7300"/>
                  <a:pt x="15690" y="7379"/>
                  <a:pt x="15627" y="7466"/>
                </a:cubicBezTo>
                <a:cubicBezTo>
                  <a:pt x="15591" y="7515"/>
                  <a:pt x="15569" y="7569"/>
                  <a:pt x="15528" y="7615"/>
                </a:cubicBezTo>
                <a:cubicBezTo>
                  <a:pt x="15496" y="7651"/>
                  <a:pt x="15509" y="7646"/>
                  <a:pt x="15503" y="7689"/>
                </a:cubicBezTo>
                <a:cubicBezTo>
                  <a:pt x="15551" y="7718"/>
                  <a:pt x="15565" y="7714"/>
                  <a:pt x="15627" y="7714"/>
                </a:cubicBezTo>
                <a:cubicBezTo>
                  <a:pt x="15722" y="7714"/>
                  <a:pt x="15804" y="7739"/>
                  <a:pt x="15900" y="7739"/>
                </a:cubicBezTo>
                <a:cubicBezTo>
                  <a:pt x="16030" y="7739"/>
                  <a:pt x="16233" y="7759"/>
                  <a:pt x="16321" y="7714"/>
                </a:cubicBezTo>
                <a:cubicBezTo>
                  <a:pt x="16359" y="7695"/>
                  <a:pt x="16311" y="7714"/>
                  <a:pt x="16272" y="7714"/>
                </a:cubicBezTo>
              </a:path>
              <a:path w="6922" h="1613">
                <a:moveTo>
                  <a:pt x="9996" y="7218"/>
                </a:moveTo>
                <a:cubicBezTo>
                  <a:pt x="10014" y="7272"/>
                  <a:pt x="10003" y="7250"/>
                  <a:pt x="10021" y="7342"/>
                </a:cubicBezTo>
                <a:cubicBezTo>
                  <a:pt x="10034" y="7409"/>
                  <a:pt x="10035" y="7473"/>
                  <a:pt x="10046" y="7541"/>
                </a:cubicBezTo>
                <a:cubicBezTo>
                  <a:pt x="10056" y="7602"/>
                  <a:pt x="10059" y="7676"/>
                  <a:pt x="10071" y="7739"/>
                </a:cubicBezTo>
                <a:cubicBezTo>
                  <a:pt x="10081" y="7789"/>
                  <a:pt x="10088" y="7814"/>
                  <a:pt x="10096" y="7863"/>
                </a:cubicBezTo>
                <a:cubicBezTo>
                  <a:pt x="10096" y="7871"/>
                  <a:pt x="10096" y="7880"/>
                  <a:pt x="10096" y="7888"/>
                </a:cubicBezTo>
                <a:cubicBezTo>
                  <a:pt x="10096" y="7629"/>
                  <a:pt x="10064" y="7341"/>
                  <a:pt x="10120" y="7094"/>
                </a:cubicBezTo>
                <a:cubicBezTo>
                  <a:pt x="10135" y="7027"/>
                  <a:pt x="10160" y="6978"/>
                  <a:pt x="10195" y="6921"/>
                </a:cubicBezTo>
                <a:cubicBezTo>
                  <a:pt x="10229" y="6864"/>
                  <a:pt x="10259" y="6828"/>
                  <a:pt x="10319" y="6796"/>
                </a:cubicBezTo>
                <a:cubicBezTo>
                  <a:pt x="10386" y="6760"/>
                  <a:pt x="10484" y="6712"/>
                  <a:pt x="10567" y="6697"/>
                </a:cubicBezTo>
                <a:cubicBezTo>
                  <a:pt x="10690" y="6675"/>
                  <a:pt x="10814" y="6649"/>
                  <a:pt x="10939" y="6623"/>
                </a:cubicBezTo>
                <a:cubicBezTo>
                  <a:pt x="11178" y="6574"/>
                  <a:pt x="11417" y="6535"/>
                  <a:pt x="11658" y="6499"/>
                </a:cubicBezTo>
                <a:cubicBezTo>
                  <a:pt x="12005" y="6447"/>
                  <a:pt x="12354" y="6415"/>
                  <a:pt x="12700" y="6375"/>
                </a:cubicBezTo>
                <a:cubicBezTo>
                  <a:pt x="12841" y="6359"/>
                  <a:pt x="12980" y="6330"/>
                  <a:pt x="13122" y="6325"/>
                </a:cubicBezTo>
                <a:cubicBezTo>
                  <a:pt x="13175" y="6323"/>
                  <a:pt x="13283" y="6314"/>
                  <a:pt x="13246" y="6276"/>
                </a:cubicBezTo>
                <a:cubicBezTo>
                  <a:pt x="13223" y="6252"/>
                  <a:pt x="13221" y="6267"/>
                  <a:pt x="13221" y="6300"/>
                </a:cubicBezTo>
              </a:path>
              <a:path w="6922" h="1613">
                <a:moveTo>
                  <a:pt x="15230" y="6846"/>
                </a:moveTo>
                <a:cubicBezTo>
                  <a:pt x="15230" y="6927"/>
                  <a:pt x="15246" y="6994"/>
                  <a:pt x="15255" y="7069"/>
                </a:cubicBezTo>
                <a:cubicBezTo>
                  <a:pt x="15267" y="7167"/>
                  <a:pt x="15269" y="7271"/>
                  <a:pt x="15280" y="7367"/>
                </a:cubicBezTo>
                <a:cubicBezTo>
                  <a:pt x="15294" y="7488"/>
                  <a:pt x="15280" y="7617"/>
                  <a:pt x="15280" y="7739"/>
                </a:cubicBezTo>
                <a:cubicBezTo>
                  <a:pt x="15280" y="7692"/>
                  <a:pt x="15299" y="7650"/>
                  <a:pt x="15304" y="7615"/>
                </a:cubicBezTo>
                <a:cubicBezTo>
                  <a:pt x="15339" y="7362"/>
                  <a:pt x="15290" y="7095"/>
                  <a:pt x="15329" y="6846"/>
                </a:cubicBezTo>
                <a:cubicBezTo>
                  <a:pt x="15341" y="6771"/>
                  <a:pt x="15322" y="6720"/>
                  <a:pt x="15354" y="6648"/>
                </a:cubicBezTo>
                <a:cubicBezTo>
                  <a:pt x="15373" y="6606"/>
                  <a:pt x="15371" y="6561"/>
                  <a:pt x="15404" y="6524"/>
                </a:cubicBezTo>
                <a:cubicBezTo>
                  <a:pt x="15427" y="6497"/>
                  <a:pt x="15470" y="6479"/>
                  <a:pt x="15503" y="6474"/>
                </a:cubicBezTo>
                <a:cubicBezTo>
                  <a:pt x="15605" y="6459"/>
                  <a:pt x="15679" y="6495"/>
                  <a:pt x="15776" y="6499"/>
                </a:cubicBezTo>
                <a:cubicBezTo>
                  <a:pt x="15900" y="6504"/>
                  <a:pt x="16027" y="6521"/>
                  <a:pt x="16148" y="6548"/>
                </a:cubicBezTo>
                <a:cubicBezTo>
                  <a:pt x="16276" y="6576"/>
                  <a:pt x="16414" y="6606"/>
                  <a:pt x="16545" y="6623"/>
                </a:cubicBezTo>
                <a:cubicBezTo>
                  <a:pt x="16647" y="6636"/>
                  <a:pt x="16737" y="6648"/>
                  <a:pt x="16842" y="6648"/>
                </a:cubicBezTo>
                <a:cubicBezTo>
                  <a:pt x="16853" y="6648"/>
                  <a:pt x="16959" y="6648"/>
                  <a:pt x="16892" y="6648"/>
                </a:cubicBezTo>
                <a:cubicBezTo>
                  <a:pt x="16867" y="6648"/>
                  <a:pt x="16859" y="6648"/>
                  <a:pt x="16842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152960" y="3303720"/>
            <a:ext cx="2259000" cy="428400"/>
          </a:xfrm>
          <a:custGeom>
            <a:avLst/>
            <a:gdLst/>
            <a:ahLst/>
            <a:rect l="l" t="t" r="r" b="b"/>
            <a:pathLst>
              <a:path w="6277" h="1191">
                <a:moveTo>
                  <a:pt x="12129" y="9327"/>
                </a:moveTo>
                <a:cubicBezTo>
                  <a:pt x="12146" y="9367"/>
                  <a:pt x="12120" y="9424"/>
                  <a:pt x="12154" y="9451"/>
                </a:cubicBezTo>
                <a:cubicBezTo>
                  <a:pt x="12179" y="9451"/>
                  <a:pt x="12187" y="9451"/>
                  <a:pt x="12179" y="9475"/>
                </a:cubicBezTo>
                <a:cubicBezTo>
                  <a:pt x="12142" y="9440"/>
                  <a:pt x="12135" y="9411"/>
                  <a:pt x="12105" y="9376"/>
                </a:cubicBezTo>
                <a:cubicBezTo>
                  <a:pt x="12063" y="9328"/>
                  <a:pt x="12043" y="9307"/>
                  <a:pt x="11981" y="9302"/>
                </a:cubicBezTo>
                <a:cubicBezTo>
                  <a:pt x="11929" y="9298"/>
                  <a:pt x="11899" y="9305"/>
                  <a:pt x="11857" y="9327"/>
                </a:cubicBezTo>
                <a:cubicBezTo>
                  <a:pt x="11795" y="9360"/>
                  <a:pt x="11765" y="9414"/>
                  <a:pt x="11708" y="9451"/>
                </a:cubicBezTo>
                <a:cubicBezTo>
                  <a:pt x="11627" y="9504"/>
                  <a:pt x="11622" y="9585"/>
                  <a:pt x="11584" y="9674"/>
                </a:cubicBezTo>
                <a:cubicBezTo>
                  <a:pt x="11549" y="9754"/>
                  <a:pt x="11515" y="9831"/>
                  <a:pt x="11534" y="9922"/>
                </a:cubicBezTo>
                <a:cubicBezTo>
                  <a:pt x="11557" y="10031"/>
                  <a:pt x="11584" y="10108"/>
                  <a:pt x="11658" y="10195"/>
                </a:cubicBezTo>
                <a:cubicBezTo>
                  <a:pt x="11691" y="10234"/>
                  <a:pt x="11759" y="10255"/>
                  <a:pt x="11807" y="10269"/>
                </a:cubicBezTo>
                <a:cubicBezTo>
                  <a:pt x="11867" y="10286"/>
                  <a:pt x="11952" y="10267"/>
                  <a:pt x="12005" y="10244"/>
                </a:cubicBezTo>
                <a:cubicBezTo>
                  <a:pt x="12022" y="10236"/>
                  <a:pt x="12038" y="10228"/>
                  <a:pt x="12055" y="10220"/>
                </a:cubicBezTo>
              </a:path>
              <a:path w="6277" h="1191">
                <a:moveTo>
                  <a:pt x="12750" y="9575"/>
                </a:moveTo>
                <a:cubicBezTo>
                  <a:pt x="12768" y="9525"/>
                  <a:pt x="12774" y="9504"/>
                  <a:pt x="12774" y="9451"/>
                </a:cubicBezTo>
                <a:cubicBezTo>
                  <a:pt x="12708" y="9451"/>
                  <a:pt x="12661" y="9465"/>
                  <a:pt x="12601" y="9475"/>
                </a:cubicBezTo>
                <a:cubicBezTo>
                  <a:pt x="12542" y="9485"/>
                  <a:pt x="12521" y="9510"/>
                  <a:pt x="12477" y="9550"/>
                </a:cubicBezTo>
                <a:cubicBezTo>
                  <a:pt x="12404" y="9617"/>
                  <a:pt x="12446" y="9649"/>
                  <a:pt x="12526" y="9699"/>
                </a:cubicBezTo>
                <a:cubicBezTo>
                  <a:pt x="12611" y="9752"/>
                  <a:pt x="12678" y="9800"/>
                  <a:pt x="12750" y="9872"/>
                </a:cubicBezTo>
                <a:cubicBezTo>
                  <a:pt x="12826" y="9948"/>
                  <a:pt x="12853" y="10025"/>
                  <a:pt x="12898" y="10120"/>
                </a:cubicBezTo>
                <a:cubicBezTo>
                  <a:pt x="12933" y="10195"/>
                  <a:pt x="12902" y="10216"/>
                  <a:pt x="12849" y="10269"/>
                </a:cubicBezTo>
                <a:cubicBezTo>
                  <a:pt x="12821" y="10297"/>
                  <a:pt x="12742" y="10325"/>
                  <a:pt x="12700" y="10319"/>
                </a:cubicBezTo>
                <a:cubicBezTo>
                  <a:pt x="12603" y="10305"/>
                  <a:pt x="12567" y="10306"/>
                  <a:pt x="12526" y="10244"/>
                </a:cubicBezTo>
                <a:cubicBezTo>
                  <a:pt x="12490" y="10189"/>
                  <a:pt x="12508" y="10174"/>
                  <a:pt x="12551" y="10120"/>
                </a:cubicBezTo>
              </a:path>
              <a:path w="6277" h="1191">
                <a:moveTo>
                  <a:pt x="13469" y="9599"/>
                </a:moveTo>
                <a:cubicBezTo>
                  <a:pt x="13514" y="9613"/>
                  <a:pt x="13606" y="9631"/>
                  <a:pt x="13543" y="9599"/>
                </a:cubicBezTo>
                <a:cubicBezTo>
                  <a:pt x="13521" y="9587"/>
                  <a:pt x="13497" y="9568"/>
                  <a:pt x="13469" y="9550"/>
                </a:cubicBezTo>
                <a:cubicBezTo>
                  <a:pt x="13415" y="9514"/>
                  <a:pt x="13397" y="9529"/>
                  <a:pt x="13345" y="9575"/>
                </a:cubicBezTo>
                <a:cubicBezTo>
                  <a:pt x="13292" y="9622"/>
                  <a:pt x="13256" y="9686"/>
                  <a:pt x="13221" y="9748"/>
                </a:cubicBezTo>
                <a:cubicBezTo>
                  <a:pt x="13177" y="9825"/>
                  <a:pt x="13158" y="9909"/>
                  <a:pt x="13146" y="9996"/>
                </a:cubicBezTo>
                <a:cubicBezTo>
                  <a:pt x="13137" y="10062"/>
                  <a:pt x="13146" y="10170"/>
                  <a:pt x="13196" y="10220"/>
                </a:cubicBezTo>
                <a:cubicBezTo>
                  <a:pt x="13269" y="10292"/>
                  <a:pt x="13410" y="10306"/>
                  <a:pt x="13494" y="10344"/>
                </a:cubicBezTo>
                <a:cubicBezTo>
                  <a:pt x="13540" y="10365"/>
                  <a:pt x="13576" y="10356"/>
                  <a:pt x="13618" y="10319"/>
                </a:cubicBezTo>
                <a:cubicBezTo>
                  <a:pt x="13676" y="10267"/>
                  <a:pt x="13665" y="10257"/>
                  <a:pt x="13692" y="10170"/>
                </a:cubicBezTo>
              </a:path>
              <a:path w="6277" h="1191">
                <a:moveTo>
                  <a:pt x="14089" y="9575"/>
                </a:moveTo>
                <a:cubicBezTo>
                  <a:pt x="14148" y="9633"/>
                  <a:pt x="14133" y="9668"/>
                  <a:pt x="14163" y="9748"/>
                </a:cubicBezTo>
                <a:cubicBezTo>
                  <a:pt x="14219" y="9897"/>
                  <a:pt x="14275" y="10002"/>
                  <a:pt x="14387" y="10120"/>
                </a:cubicBezTo>
                <a:cubicBezTo>
                  <a:pt x="14450" y="10187"/>
                  <a:pt x="14530" y="10250"/>
                  <a:pt x="14610" y="10294"/>
                </a:cubicBezTo>
                <a:cubicBezTo>
                  <a:pt x="14672" y="10329"/>
                  <a:pt x="14715" y="10329"/>
                  <a:pt x="14759" y="10319"/>
                </a:cubicBezTo>
                <a:cubicBezTo>
                  <a:pt x="14797" y="10311"/>
                  <a:pt x="14802" y="10239"/>
                  <a:pt x="14808" y="10195"/>
                </a:cubicBezTo>
              </a:path>
              <a:path w="6277" h="1191">
                <a:moveTo>
                  <a:pt x="14684" y="9575"/>
                </a:moveTo>
                <a:cubicBezTo>
                  <a:pt x="14626" y="9673"/>
                  <a:pt x="14571" y="9775"/>
                  <a:pt x="14511" y="9872"/>
                </a:cubicBezTo>
                <a:cubicBezTo>
                  <a:pt x="14436" y="9992"/>
                  <a:pt x="14336" y="10094"/>
                  <a:pt x="14238" y="10195"/>
                </a:cubicBezTo>
                <a:cubicBezTo>
                  <a:pt x="14218" y="10215"/>
                  <a:pt x="14069" y="10336"/>
                  <a:pt x="14139" y="10294"/>
                </a:cubicBezTo>
                <a:cubicBezTo>
                  <a:pt x="14205" y="10260"/>
                  <a:pt x="14238" y="10244"/>
                  <a:pt x="14288" y="10220"/>
                </a:cubicBezTo>
              </a:path>
              <a:path w="6277" h="1191">
                <a:moveTo>
                  <a:pt x="15304" y="9823"/>
                </a:moveTo>
                <a:cubicBezTo>
                  <a:pt x="15357" y="9823"/>
                  <a:pt x="15379" y="9838"/>
                  <a:pt x="15429" y="9847"/>
                </a:cubicBezTo>
                <a:cubicBezTo>
                  <a:pt x="15576" y="9872"/>
                  <a:pt x="15749" y="9847"/>
                  <a:pt x="15900" y="9847"/>
                </a:cubicBezTo>
                <a:cubicBezTo>
                  <a:pt x="15884" y="9800"/>
                  <a:pt x="15847" y="9828"/>
                  <a:pt x="15801" y="9847"/>
                </a:cubicBezTo>
              </a:path>
              <a:path w="6277" h="1191">
                <a:moveTo>
                  <a:pt x="15379" y="10046"/>
                </a:moveTo>
                <a:cubicBezTo>
                  <a:pt x="15397" y="10099"/>
                  <a:pt x="15557" y="10071"/>
                  <a:pt x="15602" y="10071"/>
                </a:cubicBezTo>
                <a:cubicBezTo>
                  <a:pt x="15685" y="10071"/>
                  <a:pt x="15767" y="10071"/>
                  <a:pt x="15850" y="10071"/>
                </a:cubicBezTo>
              </a:path>
              <a:path w="6277" h="1191">
                <a:moveTo>
                  <a:pt x="16470" y="9699"/>
                </a:moveTo>
                <a:cubicBezTo>
                  <a:pt x="16463" y="9794"/>
                  <a:pt x="16436" y="9858"/>
                  <a:pt x="16421" y="9947"/>
                </a:cubicBezTo>
                <a:cubicBezTo>
                  <a:pt x="16409" y="10018"/>
                  <a:pt x="16400" y="10098"/>
                  <a:pt x="16396" y="10170"/>
                </a:cubicBezTo>
                <a:cubicBezTo>
                  <a:pt x="16393" y="10228"/>
                  <a:pt x="16396" y="10286"/>
                  <a:pt x="16396" y="10344"/>
                </a:cubicBezTo>
                <a:cubicBezTo>
                  <a:pt x="16396" y="10263"/>
                  <a:pt x="16410" y="10199"/>
                  <a:pt x="16421" y="10120"/>
                </a:cubicBezTo>
                <a:cubicBezTo>
                  <a:pt x="16434" y="10025"/>
                  <a:pt x="16410" y="9934"/>
                  <a:pt x="16396" y="9847"/>
                </a:cubicBezTo>
                <a:cubicBezTo>
                  <a:pt x="16380" y="9744"/>
                  <a:pt x="16384" y="9625"/>
                  <a:pt x="16371" y="9525"/>
                </a:cubicBezTo>
                <a:cubicBezTo>
                  <a:pt x="16371" y="9522"/>
                  <a:pt x="16346" y="9353"/>
                  <a:pt x="16346" y="9351"/>
                </a:cubicBezTo>
                <a:cubicBezTo>
                  <a:pt x="16350" y="9315"/>
                  <a:pt x="16340" y="9271"/>
                  <a:pt x="16371" y="9252"/>
                </a:cubicBezTo>
                <a:cubicBezTo>
                  <a:pt x="16448" y="9204"/>
                  <a:pt x="16588" y="9205"/>
                  <a:pt x="16669" y="9203"/>
                </a:cubicBezTo>
                <a:cubicBezTo>
                  <a:pt x="16903" y="9197"/>
                  <a:pt x="17132" y="9207"/>
                  <a:pt x="17363" y="9227"/>
                </a:cubicBezTo>
                <a:cubicBezTo>
                  <a:pt x="17454" y="9235"/>
                  <a:pt x="17526" y="9208"/>
                  <a:pt x="17611" y="9203"/>
                </a:cubicBezTo>
                <a:cubicBezTo>
                  <a:pt x="17614" y="9203"/>
                  <a:pt x="17728" y="9203"/>
                  <a:pt x="17686" y="9178"/>
                </a:cubicBezTo>
                <a:cubicBezTo>
                  <a:pt x="17661" y="9178"/>
                  <a:pt x="17653" y="9178"/>
                  <a:pt x="17636" y="9178"/>
                </a:cubicBezTo>
              </a:path>
              <a:path w="6277" h="1191">
                <a:moveTo>
                  <a:pt x="16793" y="9550"/>
                </a:moveTo>
                <a:cubicBezTo>
                  <a:pt x="16841" y="9579"/>
                  <a:pt x="16854" y="9575"/>
                  <a:pt x="16917" y="9575"/>
                </a:cubicBezTo>
                <a:cubicBezTo>
                  <a:pt x="16986" y="9575"/>
                  <a:pt x="17042" y="9550"/>
                  <a:pt x="17115" y="9550"/>
                </a:cubicBezTo>
                <a:cubicBezTo>
                  <a:pt x="17193" y="9550"/>
                  <a:pt x="17276" y="9566"/>
                  <a:pt x="17338" y="9599"/>
                </a:cubicBezTo>
                <a:cubicBezTo>
                  <a:pt x="17391" y="9627"/>
                  <a:pt x="17398" y="9645"/>
                  <a:pt x="17413" y="9699"/>
                </a:cubicBezTo>
                <a:cubicBezTo>
                  <a:pt x="17431" y="9765"/>
                  <a:pt x="17392" y="9798"/>
                  <a:pt x="17363" y="9847"/>
                </a:cubicBezTo>
                <a:cubicBezTo>
                  <a:pt x="17325" y="9909"/>
                  <a:pt x="17266" y="9979"/>
                  <a:pt x="17214" y="10021"/>
                </a:cubicBezTo>
                <a:cubicBezTo>
                  <a:pt x="17154" y="10070"/>
                  <a:pt x="17097" y="10113"/>
                  <a:pt x="17041" y="10170"/>
                </a:cubicBezTo>
                <a:cubicBezTo>
                  <a:pt x="17009" y="10202"/>
                  <a:pt x="16971" y="10222"/>
                  <a:pt x="16942" y="10244"/>
                </a:cubicBezTo>
                <a:cubicBezTo>
                  <a:pt x="16934" y="10252"/>
                  <a:pt x="16925" y="10261"/>
                  <a:pt x="16917" y="10269"/>
                </a:cubicBezTo>
                <a:cubicBezTo>
                  <a:pt x="16997" y="10350"/>
                  <a:pt x="16983" y="10291"/>
                  <a:pt x="17115" y="10319"/>
                </a:cubicBezTo>
                <a:cubicBezTo>
                  <a:pt x="17207" y="10338"/>
                  <a:pt x="17289" y="10344"/>
                  <a:pt x="17388" y="10344"/>
                </a:cubicBezTo>
                <a:cubicBezTo>
                  <a:pt x="17501" y="10344"/>
                  <a:pt x="17613" y="10339"/>
                  <a:pt x="17711" y="10319"/>
                </a:cubicBezTo>
                <a:cubicBezTo>
                  <a:pt x="17742" y="10313"/>
                  <a:pt x="17781" y="10295"/>
                  <a:pt x="17785" y="10294"/>
                </a:cubicBezTo>
                <a:cubicBezTo>
                  <a:pt x="17793" y="10294"/>
                  <a:pt x="17802" y="10294"/>
                  <a:pt x="17810" y="102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375080" y="3983040"/>
            <a:ext cx="1876320" cy="938160"/>
          </a:xfrm>
          <a:custGeom>
            <a:avLst/>
            <a:gdLst/>
            <a:ahLst/>
            <a:rect l="l" t="t" r="r" b="b"/>
            <a:pathLst>
              <a:path w="5210" h="2605">
                <a:moveTo>
                  <a:pt x="12626" y="11534"/>
                </a:moveTo>
                <a:cubicBezTo>
                  <a:pt x="12617" y="11508"/>
                  <a:pt x="12607" y="11487"/>
                  <a:pt x="12576" y="11485"/>
                </a:cubicBezTo>
                <a:cubicBezTo>
                  <a:pt x="12512" y="11480"/>
                  <a:pt x="12479" y="11503"/>
                  <a:pt x="12427" y="11509"/>
                </a:cubicBezTo>
                <a:cubicBezTo>
                  <a:pt x="12399" y="11512"/>
                  <a:pt x="12357" y="11524"/>
                  <a:pt x="12328" y="11534"/>
                </a:cubicBezTo>
                <a:cubicBezTo>
                  <a:pt x="12265" y="11557"/>
                  <a:pt x="12286" y="11590"/>
                  <a:pt x="12229" y="11609"/>
                </a:cubicBezTo>
                <a:cubicBezTo>
                  <a:pt x="12204" y="11609"/>
                  <a:pt x="12196" y="11609"/>
                  <a:pt x="12204" y="11633"/>
                </a:cubicBezTo>
                <a:cubicBezTo>
                  <a:pt x="12217" y="11671"/>
                  <a:pt x="12226" y="11662"/>
                  <a:pt x="12254" y="11683"/>
                </a:cubicBezTo>
                <a:cubicBezTo>
                  <a:pt x="12286" y="11708"/>
                  <a:pt x="12322" y="11713"/>
                  <a:pt x="12353" y="11733"/>
                </a:cubicBezTo>
                <a:cubicBezTo>
                  <a:pt x="12392" y="11758"/>
                  <a:pt x="12435" y="11781"/>
                  <a:pt x="12477" y="11807"/>
                </a:cubicBezTo>
                <a:cubicBezTo>
                  <a:pt x="12555" y="11854"/>
                  <a:pt x="12593" y="11891"/>
                  <a:pt x="12650" y="11956"/>
                </a:cubicBezTo>
                <a:cubicBezTo>
                  <a:pt x="12687" y="11998"/>
                  <a:pt x="12700" y="12025"/>
                  <a:pt x="12700" y="12080"/>
                </a:cubicBezTo>
                <a:cubicBezTo>
                  <a:pt x="12700" y="12122"/>
                  <a:pt x="12655" y="12150"/>
                  <a:pt x="12626" y="12179"/>
                </a:cubicBezTo>
                <a:cubicBezTo>
                  <a:pt x="12587" y="12219"/>
                  <a:pt x="12530" y="12204"/>
                  <a:pt x="12477" y="12204"/>
                </a:cubicBezTo>
                <a:cubicBezTo>
                  <a:pt x="12431" y="12204"/>
                  <a:pt x="12362" y="12181"/>
                  <a:pt x="12328" y="12154"/>
                </a:cubicBezTo>
                <a:cubicBezTo>
                  <a:pt x="12297" y="12129"/>
                  <a:pt x="12241" y="12095"/>
                  <a:pt x="12204" y="12080"/>
                </a:cubicBezTo>
                <a:cubicBezTo>
                  <a:pt x="12176" y="12080"/>
                  <a:pt x="12165" y="12078"/>
                  <a:pt x="12154" y="12055"/>
                </a:cubicBezTo>
                <a:cubicBezTo>
                  <a:pt x="12166" y="12005"/>
                  <a:pt x="12190" y="12009"/>
                  <a:pt x="12229" y="11981"/>
                </a:cubicBezTo>
              </a:path>
              <a:path w="5210" h="2605">
                <a:moveTo>
                  <a:pt x="12973" y="11658"/>
                </a:moveTo>
                <a:cubicBezTo>
                  <a:pt x="12973" y="11752"/>
                  <a:pt x="12962" y="11820"/>
                  <a:pt x="12948" y="11906"/>
                </a:cubicBezTo>
                <a:cubicBezTo>
                  <a:pt x="12934" y="11991"/>
                  <a:pt x="12948" y="12093"/>
                  <a:pt x="12948" y="12179"/>
                </a:cubicBezTo>
                <a:cubicBezTo>
                  <a:pt x="12948" y="12121"/>
                  <a:pt x="12948" y="12063"/>
                  <a:pt x="12948" y="12005"/>
                </a:cubicBezTo>
              </a:path>
              <a:path w="5210" h="2605">
                <a:moveTo>
                  <a:pt x="13022" y="11336"/>
                </a:moveTo>
                <a:lnTo>
                  <a:pt x="13022" y="11336"/>
                </a:lnTo>
              </a:path>
              <a:path w="5210" h="2605">
                <a:moveTo>
                  <a:pt x="13271" y="11782"/>
                </a:moveTo>
                <a:cubicBezTo>
                  <a:pt x="13271" y="11883"/>
                  <a:pt x="13251" y="11960"/>
                  <a:pt x="13246" y="12055"/>
                </a:cubicBezTo>
                <a:cubicBezTo>
                  <a:pt x="13244" y="12104"/>
                  <a:pt x="13246" y="12155"/>
                  <a:pt x="13246" y="12204"/>
                </a:cubicBezTo>
                <a:cubicBezTo>
                  <a:pt x="13256" y="12165"/>
                  <a:pt x="13271" y="12149"/>
                  <a:pt x="13271" y="12105"/>
                </a:cubicBezTo>
                <a:cubicBezTo>
                  <a:pt x="13271" y="12074"/>
                  <a:pt x="13285" y="11989"/>
                  <a:pt x="13295" y="11956"/>
                </a:cubicBezTo>
                <a:cubicBezTo>
                  <a:pt x="13311" y="11900"/>
                  <a:pt x="13335" y="11831"/>
                  <a:pt x="13345" y="11782"/>
                </a:cubicBezTo>
                <a:cubicBezTo>
                  <a:pt x="13356" y="11725"/>
                  <a:pt x="13357" y="11676"/>
                  <a:pt x="13395" y="11633"/>
                </a:cubicBezTo>
                <a:cubicBezTo>
                  <a:pt x="13431" y="11592"/>
                  <a:pt x="13491" y="11609"/>
                  <a:pt x="13543" y="11609"/>
                </a:cubicBezTo>
                <a:cubicBezTo>
                  <a:pt x="13614" y="11609"/>
                  <a:pt x="13638" y="11652"/>
                  <a:pt x="13667" y="11708"/>
                </a:cubicBezTo>
                <a:cubicBezTo>
                  <a:pt x="13714" y="11799"/>
                  <a:pt x="13761" y="11878"/>
                  <a:pt x="13767" y="11981"/>
                </a:cubicBezTo>
                <a:cubicBezTo>
                  <a:pt x="13770" y="12039"/>
                  <a:pt x="13791" y="12067"/>
                  <a:pt x="13791" y="12129"/>
                </a:cubicBezTo>
                <a:cubicBezTo>
                  <a:pt x="13791" y="12134"/>
                  <a:pt x="13787" y="12243"/>
                  <a:pt x="13816" y="12204"/>
                </a:cubicBezTo>
                <a:cubicBezTo>
                  <a:pt x="13816" y="12176"/>
                  <a:pt x="13818" y="12165"/>
                  <a:pt x="13841" y="12154"/>
                </a:cubicBezTo>
              </a:path>
              <a:path w="5210" h="2605">
                <a:moveTo>
                  <a:pt x="14238" y="11683"/>
                </a:moveTo>
                <a:cubicBezTo>
                  <a:pt x="14285" y="11798"/>
                  <a:pt x="14322" y="11859"/>
                  <a:pt x="14387" y="11956"/>
                </a:cubicBezTo>
                <a:cubicBezTo>
                  <a:pt x="14444" y="12041"/>
                  <a:pt x="14523" y="12142"/>
                  <a:pt x="14610" y="12204"/>
                </a:cubicBezTo>
                <a:cubicBezTo>
                  <a:pt x="14661" y="12241"/>
                  <a:pt x="14728" y="12273"/>
                  <a:pt x="14784" y="12303"/>
                </a:cubicBezTo>
                <a:cubicBezTo>
                  <a:pt x="14842" y="12334"/>
                  <a:pt x="14867" y="12343"/>
                  <a:pt x="14883" y="12278"/>
                </a:cubicBezTo>
              </a:path>
              <a:path w="5210" h="2605">
                <a:moveTo>
                  <a:pt x="14635" y="11485"/>
                </a:moveTo>
                <a:cubicBezTo>
                  <a:pt x="14576" y="11561"/>
                  <a:pt x="14526" y="11640"/>
                  <a:pt x="14461" y="11708"/>
                </a:cubicBezTo>
                <a:cubicBezTo>
                  <a:pt x="14397" y="11775"/>
                  <a:pt x="14319" y="11839"/>
                  <a:pt x="14263" y="11906"/>
                </a:cubicBezTo>
                <a:cubicBezTo>
                  <a:pt x="14214" y="11965"/>
                  <a:pt x="14170" y="12024"/>
                  <a:pt x="14114" y="12080"/>
                </a:cubicBezTo>
                <a:cubicBezTo>
                  <a:pt x="14085" y="12109"/>
                  <a:pt x="14051" y="12143"/>
                  <a:pt x="14039" y="12179"/>
                </a:cubicBezTo>
                <a:cubicBezTo>
                  <a:pt x="14023" y="12227"/>
                  <a:pt x="14117" y="12182"/>
                  <a:pt x="14139" y="12179"/>
                </a:cubicBezTo>
              </a:path>
              <a:path w="5210" h="2605">
                <a:moveTo>
                  <a:pt x="15205" y="11782"/>
                </a:moveTo>
                <a:cubicBezTo>
                  <a:pt x="15275" y="11761"/>
                  <a:pt x="15308" y="11757"/>
                  <a:pt x="15379" y="11757"/>
                </a:cubicBezTo>
                <a:cubicBezTo>
                  <a:pt x="15463" y="11757"/>
                  <a:pt x="15531" y="11756"/>
                  <a:pt x="15602" y="11733"/>
                </a:cubicBezTo>
                <a:cubicBezTo>
                  <a:pt x="15627" y="11733"/>
                  <a:pt x="15635" y="11733"/>
                  <a:pt x="15652" y="11733"/>
                </a:cubicBezTo>
              </a:path>
              <a:path w="5210" h="2605">
                <a:moveTo>
                  <a:pt x="15255" y="12055"/>
                </a:moveTo>
                <a:cubicBezTo>
                  <a:pt x="15307" y="12094"/>
                  <a:pt x="15321" y="12056"/>
                  <a:pt x="15379" y="12080"/>
                </a:cubicBezTo>
                <a:cubicBezTo>
                  <a:pt x="15426" y="12099"/>
                  <a:pt x="15443" y="12105"/>
                  <a:pt x="15503" y="12105"/>
                </a:cubicBezTo>
                <a:cubicBezTo>
                  <a:pt x="15559" y="12105"/>
                  <a:pt x="15573" y="12129"/>
                  <a:pt x="15627" y="12129"/>
                </a:cubicBezTo>
                <a:cubicBezTo>
                  <a:pt x="15667" y="12129"/>
                  <a:pt x="15681" y="12154"/>
                  <a:pt x="15726" y="12154"/>
                </a:cubicBezTo>
              </a:path>
              <a:path w="5210" h="2605">
                <a:moveTo>
                  <a:pt x="16346" y="11509"/>
                </a:moveTo>
                <a:cubicBezTo>
                  <a:pt x="16372" y="11562"/>
                  <a:pt x="16384" y="11614"/>
                  <a:pt x="16371" y="11683"/>
                </a:cubicBezTo>
                <a:cubicBezTo>
                  <a:pt x="16354" y="11772"/>
                  <a:pt x="16332" y="11869"/>
                  <a:pt x="16321" y="11956"/>
                </a:cubicBezTo>
                <a:cubicBezTo>
                  <a:pt x="16312" y="12027"/>
                  <a:pt x="16301" y="12089"/>
                  <a:pt x="16297" y="12154"/>
                </a:cubicBezTo>
                <a:cubicBezTo>
                  <a:pt x="16297" y="12179"/>
                  <a:pt x="16297" y="12187"/>
                  <a:pt x="16297" y="12204"/>
                </a:cubicBezTo>
                <a:cubicBezTo>
                  <a:pt x="16309" y="12179"/>
                  <a:pt x="16332" y="12168"/>
                  <a:pt x="16321" y="12105"/>
                </a:cubicBezTo>
                <a:cubicBezTo>
                  <a:pt x="16304" y="12007"/>
                  <a:pt x="16315" y="11903"/>
                  <a:pt x="16297" y="11807"/>
                </a:cubicBezTo>
                <a:cubicBezTo>
                  <a:pt x="16277" y="11702"/>
                  <a:pt x="16253" y="11592"/>
                  <a:pt x="16247" y="11485"/>
                </a:cubicBezTo>
                <a:cubicBezTo>
                  <a:pt x="16243" y="11410"/>
                  <a:pt x="16234" y="11327"/>
                  <a:pt x="16272" y="11261"/>
                </a:cubicBezTo>
                <a:cubicBezTo>
                  <a:pt x="16303" y="11208"/>
                  <a:pt x="16396" y="11205"/>
                  <a:pt x="16446" y="11187"/>
                </a:cubicBezTo>
                <a:cubicBezTo>
                  <a:pt x="16551" y="11150"/>
                  <a:pt x="16658" y="11123"/>
                  <a:pt x="16768" y="11112"/>
                </a:cubicBezTo>
                <a:cubicBezTo>
                  <a:pt x="16860" y="11103"/>
                  <a:pt x="16954" y="11117"/>
                  <a:pt x="17041" y="11088"/>
                </a:cubicBezTo>
                <a:cubicBezTo>
                  <a:pt x="17097" y="11069"/>
                  <a:pt x="17131" y="11063"/>
                  <a:pt x="17190" y="11063"/>
                </a:cubicBezTo>
              </a:path>
              <a:path w="5210" h="2605">
                <a:moveTo>
                  <a:pt x="16718" y="11485"/>
                </a:moveTo>
                <a:cubicBezTo>
                  <a:pt x="16805" y="11521"/>
                  <a:pt x="16868" y="11474"/>
                  <a:pt x="16942" y="11485"/>
                </a:cubicBezTo>
                <a:cubicBezTo>
                  <a:pt x="16972" y="11490"/>
                  <a:pt x="17039" y="11509"/>
                  <a:pt x="17066" y="11534"/>
                </a:cubicBezTo>
                <a:cubicBezTo>
                  <a:pt x="17096" y="11561"/>
                  <a:pt x="17103" y="11618"/>
                  <a:pt x="17090" y="11658"/>
                </a:cubicBezTo>
                <a:cubicBezTo>
                  <a:pt x="17066" y="11731"/>
                  <a:pt x="17019" y="11779"/>
                  <a:pt x="16966" y="11832"/>
                </a:cubicBezTo>
                <a:cubicBezTo>
                  <a:pt x="16919" y="11879"/>
                  <a:pt x="16716" y="12025"/>
                  <a:pt x="16743" y="12105"/>
                </a:cubicBezTo>
                <a:cubicBezTo>
                  <a:pt x="16756" y="12145"/>
                  <a:pt x="16796" y="12171"/>
                  <a:pt x="16842" y="12179"/>
                </a:cubicBezTo>
                <a:cubicBezTo>
                  <a:pt x="16945" y="12197"/>
                  <a:pt x="17062" y="12190"/>
                  <a:pt x="17165" y="12204"/>
                </a:cubicBezTo>
                <a:cubicBezTo>
                  <a:pt x="17217" y="12211"/>
                  <a:pt x="17295" y="12205"/>
                  <a:pt x="17338" y="12179"/>
                </a:cubicBezTo>
                <a:cubicBezTo>
                  <a:pt x="17346" y="12171"/>
                  <a:pt x="17355" y="12162"/>
                  <a:pt x="17363" y="12154"/>
                </a:cubicBezTo>
              </a:path>
              <a:path w="5210" h="2605">
                <a:moveTo>
                  <a:pt x="16297" y="12402"/>
                </a:moveTo>
                <a:cubicBezTo>
                  <a:pt x="16361" y="12452"/>
                  <a:pt x="16392" y="12410"/>
                  <a:pt x="16470" y="12402"/>
                </a:cubicBezTo>
                <a:cubicBezTo>
                  <a:pt x="16592" y="12390"/>
                  <a:pt x="16717" y="12427"/>
                  <a:pt x="16842" y="12427"/>
                </a:cubicBezTo>
                <a:cubicBezTo>
                  <a:pt x="16978" y="12427"/>
                  <a:pt x="17109" y="12438"/>
                  <a:pt x="17239" y="12402"/>
                </a:cubicBezTo>
              </a:path>
              <a:path w="5210" h="2605">
                <a:moveTo>
                  <a:pt x="16644" y="12799"/>
                </a:moveTo>
                <a:cubicBezTo>
                  <a:pt x="16748" y="12799"/>
                  <a:pt x="16851" y="12807"/>
                  <a:pt x="16942" y="12824"/>
                </a:cubicBezTo>
                <a:cubicBezTo>
                  <a:pt x="16997" y="12834"/>
                  <a:pt x="17048" y="12858"/>
                  <a:pt x="17066" y="12923"/>
                </a:cubicBezTo>
                <a:cubicBezTo>
                  <a:pt x="17086" y="12999"/>
                  <a:pt x="17010" y="13096"/>
                  <a:pt x="16966" y="13146"/>
                </a:cubicBezTo>
                <a:cubicBezTo>
                  <a:pt x="16902" y="13218"/>
                  <a:pt x="16822" y="13291"/>
                  <a:pt x="16743" y="13345"/>
                </a:cubicBezTo>
                <a:cubicBezTo>
                  <a:pt x="16709" y="13369"/>
                  <a:pt x="16619" y="13406"/>
                  <a:pt x="16644" y="13469"/>
                </a:cubicBezTo>
                <a:cubicBezTo>
                  <a:pt x="16666" y="13523"/>
                  <a:pt x="16747" y="13527"/>
                  <a:pt x="16793" y="13543"/>
                </a:cubicBezTo>
                <a:cubicBezTo>
                  <a:pt x="16874" y="13571"/>
                  <a:pt x="16981" y="13605"/>
                  <a:pt x="17066" y="13618"/>
                </a:cubicBezTo>
                <a:cubicBezTo>
                  <a:pt x="17136" y="13628"/>
                  <a:pt x="17204" y="13655"/>
                  <a:pt x="17264" y="13667"/>
                </a:cubicBezTo>
                <a:cubicBezTo>
                  <a:pt x="17362" y="13686"/>
                  <a:pt x="17288" y="13642"/>
                  <a:pt x="17264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571920" y="5170320"/>
            <a:ext cx="465120" cy="339840"/>
          </a:xfrm>
          <a:custGeom>
            <a:avLst/>
            <a:gdLst/>
            <a:ahLst/>
            <a:rect l="l" t="t" r="r" b="b"/>
            <a:pathLst>
              <a:path w="1291" h="943">
                <a:moveTo>
                  <a:pt x="10096" y="14362"/>
                </a:moveTo>
                <a:cubicBezTo>
                  <a:pt x="10131" y="14460"/>
                  <a:pt x="10165" y="14547"/>
                  <a:pt x="10220" y="14635"/>
                </a:cubicBezTo>
                <a:cubicBezTo>
                  <a:pt x="10306" y="14772"/>
                  <a:pt x="10369" y="14927"/>
                  <a:pt x="10468" y="15056"/>
                </a:cubicBezTo>
                <a:cubicBezTo>
                  <a:pt x="10505" y="15104"/>
                  <a:pt x="10602" y="15163"/>
                  <a:pt x="10666" y="15131"/>
                </a:cubicBezTo>
                <a:cubicBezTo>
                  <a:pt x="10723" y="15102"/>
                  <a:pt x="10710" y="15061"/>
                  <a:pt x="10716" y="15007"/>
                </a:cubicBezTo>
              </a:path>
              <a:path w="1291" h="943">
                <a:moveTo>
                  <a:pt x="10492" y="14412"/>
                </a:moveTo>
                <a:cubicBezTo>
                  <a:pt x="10359" y="14581"/>
                  <a:pt x="10225" y="14743"/>
                  <a:pt x="10120" y="14932"/>
                </a:cubicBezTo>
                <a:cubicBezTo>
                  <a:pt x="10066" y="15030"/>
                  <a:pt x="9990" y="15131"/>
                  <a:pt x="9947" y="15230"/>
                </a:cubicBezTo>
                <a:cubicBezTo>
                  <a:pt x="9939" y="15255"/>
                  <a:pt x="9930" y="15279"/>
                  <a:pt x="9922" y="15304"/>
                </a:cubicBezTo>
              </a:path>
              <a:path w="1291" h="943">
                <a:moveTo>
                  <a:pt x="10641" y="14759"/>
                </a:moveTo>
                <a:cubicBezTo>
                  <a:pt x="10778" y="14742"/>
                  <a:pt x="10901" y="14734"/>
                  <a:pt x="11038" y="14734"/>
                </a:cubicBezTo>
                <a:cubicBezTo>
                  <a:pt x="11055" y="14734"/>
                  <a:pt x="11071" y="14734"/>
                  <a:pt x="11088" y="14734"/>
                </a:cubicBezTo>
              </a:path>
              <a:path w="1291" h="943">
                <a:moveTo>
                  <a:pt x="10939" y="15032"/>
                </a:moveTo>
                <a:cubicBezTo>
                  <a:pt x="11068" y="15032"/>
                  <a:pt x="11111" y="15045"/>
                  <a:pt x="11212" y="150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5062680"/>
            <a:ext cx="955440" cy="866520"/>
          </a:xfrm>
          <a:custGeom>
            <a:avLst/>
            <a:gdLst/>
            <a:ahLst/>
            <a:rect l="l" t="t" r="r" b="b"/>
            <a:pathLst>
              <a:path w="2655" h="2407">
                <a:moveTo>
                  <a:pt x="12576" y="14163"/>
                </a:moveTo>
                <a:cubicBezTo>
                  <a:pt x="12547" y="14121"/>
                  <a:pt x="12569" y="14138"/>
                  <a:pt x="12601" y="14114"/>
                </a:cubicBezTo>
                <a:cubicBezTo>
                  <a:pt x="12645" y="14081"/>
                  <a:pt x="12654" y="14106"/>
                  <a:pt x="12700" y="14089"/>
                </a:cubicBezTo>
                <a:cubicBezTo>
                  <a:pt x="12761" y="14067"/>
                  <a:pt x="12800" y="14070"/>
                  <a:pt x="12849" y="14114"/>
                </a:cubicBezTo>
                <a:cubicBezTo>
                  <a:pt x="12884" y="14145"/>
                  <a:pt x="12899" y="14181"/>
                  <a:pt x="12874" y="14213"/>
                </a:cubicBezTo>
                <a:cubicBezTo>
                  <a:pt x="12826" y="14276"/>
                  <a:pt x="12709" y="14336"/>
                  <a:pt x="12675" y="14387"/>
                </a:cubicBezTo>
                <a:cubicBezTo>
                  <a:pt x="12675" y="14395"/>
                  <a:pt x="12675" y="14404"/>
                  <a:pt x="12675" y="14412"/>
                </a:cubicBezTo>
                <a:cubicBezTo>
                  <a:pt x="12716" y="14412"/>
                  <a:pt x="12741" y="14434"/>
                  <a:pt x="12750" y="14436"/>
                </a:cubicBezTo>
                <a:cubicBezTo>
                  <a:pt x="12818" y="14454"/>
                  <a:pt x="12834" y="14437"/>
                  <a:pt x="12898" y="14486"/>
                </a:cubicBezTo>
                <a:cubicBezTo>
                  <a:pt x="12967" y="14538"/>
                  <a:pt x="12956" y="14597"/>
                  <a:pt x="12948" y="14660"/>
                </a:cubicBezTo>
                <a:cubicBezTo>
                  <a:pt x="12942" y="14713"/>
                  <a:pt x="12925" y="14752"/>
                  <a:pt x="12874" y="14784"/>
                </a:cubicBezTo>
                <a:cubicBezTo>
                  <a:pt x="12814" y="14822"/>
                  <a:pt x="12743" y="14808"/>
                  <a:pt x="12675" y="14808"/>
                </a:cubicBezTo>
                <a:cubicBezTo>
                  <a:pt x="12604" y="14808"/>
                  <a:pt x="12573" y="14782"/>
                  <a:pt x="12526" y="14734"/>
                </a:cubicBezTo>
                <a:cubicBezTo>
                  <a:pt x="12504" y="14711"/>
                  <a:pt x="12496" y="14706"/>
                  <a:pt x="12502" y="14684"/>
                </a:cubicBezTo>
              </a:path>
              <a:path w="2655" h="2407">
                <a:moveTo>
                  <a:pt x="13196" y="14139"/>
                </a:moveTo>
                <a:cubicBezTo>
                  <a:pt x="13297" y="14156"/>
                  <a:pt x="13370" y="14163"/>
                  <a:pt x="13469" y="14163"/>
                </a:cubicBezTo>
                <a:cubicBezTo>
                  <a:pt x="13530" y="14163"/>
                  <a:pt x="13554" y="14145"/>
                  <a:pt x="13568" y="14089"/>
                </a:cubicBezTo>
              </a:path>
              <a:path w="2655" h="2407">
                <a:moveTo>
                  <a:pt x="13271" y="14163"/>
                </a:moveTo>
                <a:cubicBezTo>
                  <a:pt x="13254" y="14262"/>
                  <a:pt x="13225" y="14364"/>
                  <a:pt x="13221" y="14461"/>
                </a:cubicBezTo>
                <a:cubicBezTo>
                  <a:pt x="13217" y="14543"/>
                  <a:pt x="13221" y="14627"/>
                  <a:pt x="13221" y="14709"/>
                </a:cubicBezTo>
              </a:path>
              <a:path w="2655" h="2407">
                <a:moveTo>
                  <a:pt x="13494" y="14263"/>
                </a:moveTo>
                <a:cubicBezTo>
                  <a:pt x="13478" y="14371"/>
                  <a:pt x="13469" y="14454"/>
                  <a:pt x="13469" y="14560"/>
                </a:cubicBezTo>
                <a:cubicBezTo>
                  <a:pt x="13469" y="14650"/>
                  <a:pt x="13534" y="14699"/>
                  <a:pt x="13593" y="14759"/>
                </a:cubicBezTo>
                <a:cubicBezTo>
                  <a:pt x="13621" y="14787"/>
                  <a:pt x="13634" y="14796"/>
                  <a:pt x="13667" y="14784"/>
                </a:cubicBezTo>
              </a:path>
              <a:path w="2655" h="2407">
                <a:moveTo>
                  <a:pt x="12675" y="14932"/>
                </a:moveTo>
                <a:cubicBezTo>
                  <a:pt x="12800" y="14966"/>
                  <a:pt x="12892" y="14982"/>
                  <a:pt x="13022" y="14982"/>
                </a:cubicBezTo>
                <a:cubicBezTo>
                  <a:pt x="13148" y="14982"/>
                  <a:pt x="13266" y="15007"/>
                  <a:pt x="13395" y="15007"/>
                </a:cubicBezTo>
                <a:cubicBezTo>
                  <a:pt x="13497" y="15007"/>
                  <a:pt x="13574" y="15004"/>
                  <a:pt x="13667" y="14982"/>
                </a:cubicBezTo>
                <a:cubicBezTo>
                  <a:pt x="13675" y="14982"/>
                  <a:pt x="13684" y="14982"/>
                  <a:pt x="13692" y="14982"/>
                </a:cubicBezTo>
              </a:path>
              <a:path w="2655" h="2407">
                <a:moveTo>
                  <a:pt x="13072" y="15304"/>
                </a:moveTo>
                <a:cubicBezTo>
                  <a:pt x="13049" y="15337"/>
                  <a:pt x="12966" y="15413"/>
                  <a:pt x="12948" y="15453"/>
                </a:cubicBezTo>
                <a:cubicBezTo>
                  <a:pt x="12930" y="15492"/>
                  <a:pt x="12968" y="15534"/>
                  <a:pt x="12998" y="15553"/>
                </a:cubicBezTo>
                <a:cubicBezTo>
                  <a:pt x="13082" y="15607"/>
                  <a:pt x="13174" y="15647"/>
                  <a:pt x="13271" y="15652"/>
                </a:cubicBezTo>
                <a:cubicBezTo>
                  <a:pt x="13346" y="15656"/>
                  <a:pt x="13401" y="15653"/>
                  <a:pt x="13469" y="15627"/>
                </a:cubicBezTo>
              </a:path>
              <a:path w="2655" h="2407">
                <a:moveTo>
                  <a:pt x="13519" y="15478"/>
                </a:moveTo>
                <a:cubicBezTo>
                  <a:pt x="13486" y="15617"/>
                  <a:pt x="13424" y="15780"/>
                  <a:pt x="13419" y="15925"/>
                </a:cubicBezTo>
                <a:cubicBezTo>
                  <a:pt x="13416" y="16036"/>
                  <a:pt x="13395" y="16135"/>
                  <a:pt x="13395" y="16247"/>
                </a:cubicBezTo>
                <a:cubicBezTo>
                  <a:pt x="13395" y="16285"/>
                  <a:pt x="13415" y="16432"/>
                  <a:pt x="13444" y="16346"/>
                </a:cubicBezTo>
              </a:path>
              <a:path w="2655" h="2407">
                <a:moveTo>
                  <a:pt x="14139" y="15056"/>
                </a:moveTo>
                <a:cubicBezTo>
                  <a:pt x="14137" y="15070"/>
                  <a:pt x="14085" y="15285"/>
                  <a:pt x="14089" y="15304"/>
                </a:cubicBezTo>
                <a:cubicBezTo>
                  <a:pt x="14101" y="15364"/>
                  <a:pt x="14165" y="15262"/>
                  <a:pt x="14188" y="15205"/>
                </a:cubicBezTo>
              </a:path>
              <a:path w="2655" h="2407">
                <a:moveTo>
                  <a:pt x="14486" y="14362"/>
                </a:moveTo>
                <a:cubicBezTo>
                  <a:pt x="14553" y="14328"/>
                  <a:pt x="14586" y="14312"/>
                  <a:pt x="14660" y="14312"/>
                </a:cubicBezTo>
                <a:cubicBezTo>
                  <a:pt x="14812" y="14312"/>
                  <a:pt x="14962" y="14320"/>
                  <a:pt x="15106" y="14288"/>
                </a:cubicBezTo>
                <a:cubicBezTo>
                  <a:pt x="15141" y="14288"/>
                  <a:pt x="15154" y="14279"/>
                  <a:pt x="15156" y="14238"/>
                </a:cubicBezTo>
              </a:path>
              <a:path w="2655" h="2407">
                <a:moveTo>
                  <a:pt x="14684" y="14412"/>
                </a:moveTo>
                <a:cubicBezTo>
                  <a:pt x="14641" y="14559"/>
                  <a:pt x="14606" y="14708"/>
                  <a:pt x="14585" y="14858"/>
                </a:cubicBezTo>
                <a:cubicBezTo>
                  <a:pt x="14577" y="14914"/>
                  <a:pt x="14610" y="14951"/>
                  <a:pt x="14610" y="15007"/>
                </a:cubicBezTo>
              </a:path>
              <a:path w="2655" h="2407">
                <a:moveTo>
                  <a:pt x="14833" y="14387"/>
                </a:moveTo>
                <a:cubicBezTo>
                  <a:pt x="14809" y="14482"/>
                  <a:pt x="14808" y="14561"/>
                  <a:pt x="14808" y="14660"/>
                </a:cubicBezTo>
                <a:cubicBezTo>
                  <a:pt x="14808" y="14752"/>
                  <a:pt x="14804" y="14851"/>
                  <a:pt x="14858" y="14932"/>
                </a:cubicBezTo>
                <a:cubicBezTo>
                  <a:pt x="14900" y="14994"/>
                  <a:pt x="14968" y="15045"/>
                  <a:pt x="15032" y="15081"/>
                </a:cubicBezTo>
              </a:path>
              <a:path w="2655" h="2407">
                <a:moveTo>
                  <a:pt x="14461" y="15106"/>
                </a:moveTo>
                <a:cubicBezTo>
                  <a:pt x="14593" y="15150"/>
                  <a:pt x="14671" y="15156"/>
                  <a:pt x="14808" y="15156"/>
                </a:cubicBezTo>
                <a:cubicBezTo>
                  <a:pt x="14874" y="15156"/>
                  <a:pt x="14941" y="15156"/>
                  <a:pt x="15007" y="15156"/>
                </a:cubicBezTo>
              </a:path>
              <a:path w="2655" h="2407">
                <a:moveTo>
                  <a:pt x="14610" y="15528"/>
                </a:moveTo>
                <a:cubicBezTo>
                  <a:pt x="14567" y="15627"/>
                  <a:pt x="14560" y="15650"/>
                  <a:pt x="14560" y="15751"/>
                </a:cubicBezTo>
                <a:cubicBezTo>
                  <a:pt x="14560" y="15837"/>
                  <a:pt x="14643" y="15887"/>
                  <a:pt x="14709" y="15925"/>
                </a:cubicBezTo>
                <a:cubicBezTo>
                  <a:pt x="14781" y="15966"/>
                  <a:pt x="14839" y="15957"/>
                  <a:pt x="14908" y="15949"/>
                </a:cubicBezTo>
                <a:cubicBezTo>
                  <a:pt x="14982" y="15941"/>
                  <a:pt x="15002" y="15906"/>
                  <a:pt x="15056" y="15850"/>
                </a:cubicBezTo>
              </a:path>
              <a:path w="2655" h="2407">
                <a:moveTo>
                  <a:pt x="14957" y="15528"/>
                </a:moveTo>
                <a:cubicBezTo>
                  <a:pt x="14923" y="15659"/>
                  <a:pt x="14850" y="15859"/>
                  <a:pt x="14858" y="15999"/>
                </a:cubicBezTo>
                <a:cubicBezTo>
                  <a:pt x="14865" y="16128"/>
                  <a:pt x="14879" y="16294"/>
                  <a:pt x="14908" y="16421"/>
                </a:cubicBezTo>
                <a:cubicBezTo>
                  <a:pt x="14916" y="16437"/>
                  <a:pt x="14924" y="16454"/>
                  <a:pt x="14932" y="164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126120" y="1608120"/>
            <a:ext cx="527040" cy="374760"/>
          </a:xfrm>
          <a:custGeom>
            <a:avLst/>
            <a:gdLst/>
            <a:ahLst/>
            <a:rect l="l" t="t" r="r" b="b"/>
            <a:pathLst>
              <a:path w="1464" h="1043">
                <a:moveTo>
                  <a:pt x="17314" y="4539"/>
                </a:moveTo>
                <a:cubicBezTo>
                  <a:pt x="17284" y="4620"/>
                  <a:pt x="17305" y="4679"/>
                  <a:pt x="17289" y="4762"/>
                </a:cubicBezTo>
                <a:cubicBezTo>
                  <a:pt x="17274" y="4839"/>
                  <a:pt x="17256" y="4912"/>
                  <a:pt x="17239" y="4986"/>
                </a:cubicBezTo>
                <a:cubicBezTo>
                  <a:pt x="17238" y="4989"/>
                  <a:pt x="17243" y="5148"/>
                  <a:pt x="17214" y="5110"/>
                </a:cubicBezTo>
                <a:cubicBezTo>
                  <a:pt x="17214" y="5102"/>
                  <a:pt x="17214" y="5093"/>
                  <a:pt x="17214" y="5085"/>
                </a:cubicBezTo>
              </a:path>
              <a:path w="1464" h="1043">
                <a:moveTo>
                  <a:pt x="17016" y="4862"/>
                </a:moveTo>
                <a:cubicBezTo>
                  <a:pt x="17148" y="4862"/>
                  <a:pt x="17281" y="4862"/>
                  <a:pt x="17413" y="4862"/>
                </a:cubicBezTo>
              </a:path>
              <a:path w="1464" h="1043">
                <a:moveTo>
                  <a:pt x="17859" y="4490"/>
                </a:moveTo>
                <a:cubicBezTo>
                  <a:pt x="17938" y="4476"/>
                  <a:pt x="18048" y="4447"/>
                  <a:pt x="18132" y="4465"/>
                </a:cubicBezTo>
                <a:cubicBezTo>
                  <a:pt x="18207" y="4481"/>
                  <a:pt x="18231" y="4514"/>
                  <a:pt x="18281" y="4564"/>
                </a:cubicBezTo>
                <a:cubicBezTo>
                  <a:pt x="18334" y="4617"/>
                  <a:pt x="18302" y="4725"/>
                  <a:pt x="18281" y="4787"/>
                </a:cubicBezTo>
                <a:cubicBezTo>
                  <a:pt x="18253" y="4870"/>
                  <a:pt x="18174" y="4917"/>
                  <a:pt x="18107" y="4961"/>
                </a:cubicBezTo>
                <a:cubicBezTo>
                  <a:pt x="18018" y="5019"/>
                  <a:pt x="17946" y="5100"/>
                  <a:pt x="17859" y="5159"/>
                </a:cubicBezTo>
                <a:cubicBezTo>
                  <a:pt x="17821" y="5185"/>
                  <a:pt x="17756" y="5229"/>
                  <a:pt x="17760" y="5283"/>
                </a:cubicBezTo>
                <a:cubicBezTo>
                  <a:pt x="17765" y="5346"/>
                  <a:pt x="17839" y="5346"/>
                  <a:pt x="17884" y="5358"/>
                </a:cubicBezTo>
                <a:cubicBezTo>
                  <a:pt x="17985" y="5385"/>
                  <a:pt x="18081" y="5398"/>
                  <a:pt x="18182" y="5432"/>
                </a:cubicBezTo>
                <a:cubicBezTo>
                  <a:pt x="18251" y="5455"/>
                  <a:pt x="18335" y="5491"/>
                  <a:pt x="18405" y="5507"/>
                </a:cubicBezTo>
                <a:cubicBezTo>
                  <a:pt x="18430" y="5507"/>
                  <a:pt x="18438" y="5507"/>
                  <a:pt x="18455" y="5507"/>
                </a:cubicBezTo>
                <a:cubicBezTo>
                  <a:pt x="18453" y="5505"/>
                  <a:pt x="18409" y="5481"/>
                  <a:pt x="18331" y="5457"/>
                </a:cubicBezTo>
                <a:cubicBezTo>
                  <a:pt x="18306" y="5449"/>
                  <a:pt x="18281" y="5440"/>
                  <a:pt x="18256" y="54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303720" y="2160720"/>
            <a:ext cx="3233520" cy="81000"/>
          </a:xfrm>
          <a:custGeom>
            <a:avLst/>
            <a:gdLst/>
            <a:ahLst/>
            <a:rect l="l" t="t" r="r" b="b"/>
            <a:pathLst>
              <a:path w="8980" h="224">
                <a:moveTo>
                  <a:pt x="9178" y="6176"/>
                </a:moveTo>
                <a:cubicBezTo>
                  <a:pt x="9290" y="6172"/>
                  <a:pt x="9390" y="6164"/>
                  <a:pt x="9500" y="6152"/>
                </a:cubicBezTo>
                <a:cubicBezTo>
                  <a:pt x="9706" y="6129"/>
                  <a:pt x="9913" y="6091"/>
                  <a:pt x="10120" y="6077"/>
                </a:cubicBezTo>
                <a:cubicBezTo>
                  <a:pt x="10408" y="6057"/>
                  <a:pt x="10700" y="6040"/>
                  <a:pt x="10988" y="6028"/>
                </a:cubicBezTo>
                <a:cubicBezTo>
                  <a:pt x="11261" y="6016"/>
                  <a:pt x="11534" y="6006"/>
                  <a:pt x="11807" y="6003"/>
                </a:cubicBezTo>
                <a:cubicBezTo>
                  <a:pt x="12784" y="5991"/>
                  <a:pt x="13759" y="6028"/>
                  <a:pt x="14734" y="6028"/>
                </a:cubicBezTo>
                <a:cubicBezTo>
                  <a:pt x="15147" y="6028"/>
                  <a:pt x="15562" y="6029"/>
                  <a:pt x="15974" y="6052"/>
                </a:cubicBezTo>
                <a:cubicBezTo>
                  <a:pt x="16595" y="6087"/>
                  <a:pt x="17215" y="6217"/>
                  <a:pt x="17835" y="6226"/>
                </a:cubicBezTo>
                <a:cubicBezTo>
                  <a:pt x="17875" y="6227"/>
                  <a:pt x="18157" y="6252"/>
                  <a:pt x="18157" y="6201"/>
                </a:cubicBezTo>
                <a:cubicBezTo>
                  <a:pt x="18157" y="6135"/>
                  <a:pt x="18025" y="6111"/>
                  <a:pt x="17983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2133720" y="685800"/>
          <a:ext cx="417816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685800"/>
                    <a:ext cx="4178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901960" y="1714680"/>
            <a:ext cx="3143160" cy="1982520"/>
          </a:xfrm>
          <a:custGeom>
            <a:avLst/>
            <a:gdLst/>
            <a:ahLst/>
            <a:rect l="l" t="t" r="r" b="b"/>
            <a:pathLst>
              <a:path w="8732" h="5508">
                <a:moveTo>
                  <a:pt x="11509" y="5457"/>
                </a:moveTo>
                <a:cubicBezTo>
                  <a:pt x="11757" y="5457"/>
                  <a:pt x="12006" y="5457"/>
                  <a:pt x="12254" y="5457"/>
                </a:cubicBezTo>
              </a:path>
              <a:path w="8732" h="5508">
                <a:moveTo>
                  <a:pt x="13295" y="4936"/>
                </a:moveTo>
                <a:cubicBezTo>
                  <a:pt x="13295" y="5081"/>
                  <a:pt x="13264" y="5246"/>
                  <a:pt x="13271" y="5383"/>
                </a:cubicBezTo>
                <a:cubicBezTo>
                  <a:pt x="13271" y="5388"/>
                  <a:pt x="13283" y="5607"/>
                  <a:pt x="13295" y="5631"/>
                </a:cubicBezTo>
                <a:cubicBezTo>
                  <a:pt x="13312" y="5664"/>
                  <a:pt x="13291" y="5707"/>
                  <a:pt x="13320" y="5730"/>
                </a:cubicBezTo>
                <a:cubicBezTo>
                  <a:pt x="13345" y="5730"/>
                  <a:pt x="13353" y="5730"/>
                  <a:pt x="13345" y="5705"/>
                </a:cubicBezTo>
              </a:path>
              <a:path w="8732" h="5508">
                <a:moveTo>
                  <a:pt x="15677" y="5308"/>
                </a:moveTo>
                <a:cubicBezTo>
                  <a:pt x="15749" y="5352"/>
                  <a:pt x="15774" y="5318"/>
                  <a:pt x="15850" y="5308"/>
                </a:cubicBezTo>
                <a:cubicBezTo>
                  <a:pt x="15993" y="5289"/>
                  <a:pt x="16130" y="5313"/>
                  <a:pt x="16272" y="5283"/>
                </a:cubicBezTo>
                <a:cubicBezTo>
                  <a:pt x="16313" y="5275"/>
                  <a:pt x="16355" y="5267"/>
                  <a:pt x="16396" y="5259"/>
                </a:cubicBezTo>
              </a:path>
              <a:path w="8732" h="5508">
                <a:moveTo>
                  <a:pt x="16793" y="4762"/>
                </a:moveTo>
                <a:cubicBezTo>
                  <a:pt x="16793" y="4859"/>
                  <a:pt x="16778" y="4942"/>
                  <a:pt x="16768" y="5035"/>
                </a:cubicBezTo>
                <a:cubicBezTo>
                  <a:pt x="16755" y="5151"/>
                  <a:pt x="16730" y="5267"/>
                  <a:pt x="16718" y="5383"/>
                </a:cubicBezTo>
                <a:cubicBezTo>
                  <a:pt x="16708" y="5484"/>
                  <a:pt x="16694" y="5576"/>
                  <a:pt x="16694" y="5680"/>
                </a:cubicBezTo>
                <a:cubicBezTo>
                  <a:pt x="16694" y="5742"/>
                  <a:pt x="16721" y="5911"/>
                  <a:pt x="16669" y="5928"/>
                </a:cubicBezTo>
              </a:path>
              <a:path w="8732" h="5508">
                <a:moveTo>
                  <a:pt x="8186" y="7119"/>
                </a:moveTo>
                <a:cubicBezTo>
                  <a:pt x="8237" y="7104"/>
                  <a:pt x="8269" y="7096"/>
                  <a:pt x="8334" y="7094"/>
                </a:cubicBezTo>
                <a:cubicBezTo>
                  <a:pt x="8422" y="7091"/>
                  <a:pt x="8475" y="7094"/>
                  <a:pt x="8533" y="7169"/>
                </a:cubicBezTo>
                <a:cubicBezTo>
                  <a:pt x="8593" y="7246"/>
                  <a:pt x="8630" y="7321"/>
                  <a:pt x="8657" y="7417"/>
                </a:cubicBezTo>
                <a:cubicBezTo>
                  <a:pt x="8700" y="7570"/>
                  <a:pt x="8704" y="7711"/>
                  <a:pt x="8731" y="7863"/>
                </a:cubicBezTo>
                <a:cubicBezTo>
                  <a:pt x="8749" y="7966"/>
                  <a:pt x="8756" y="8054"/>
                  <a:pt x="8756" y="8161"/>
                </a:cubicBezTo>
                <a:cubicBezTo>
                  <a:pt x="8756" y="8202"/>
                  <a:pt x="8756" y="8210"/>
                  <a:pt x="8756" y="8235"/>
                </a:cubicBezTo>
                <a:cubicBezTo>
                  <a:pt x="8756" y="8194"/>
                  <a:pt x="8756" y="8202"/>
                  <a:pt x="8756" y="8161"/>
                </a:cubicBezTo>
                <a:cubicBezTo>
                  <a:pt x="8756" y="7902"/>
                  <a:pt x="8752" y="7647"/>
                  <a:pt x="8731" y="7392"/>
                </a:cubicBezTo>
                <a:cubicBezTo>
                  <a:pt x="8716" y="7217"/>
                  <a:pt x="8700" y="6964"/>
                  <a:pt x="8756" y="6796"/>
                </a:cubicBezTo>
                <a:cubicBezTo>
                  <a:pt x="8808" y="6804"/>
                  <a:pt x="8852" y="6817"/>
                  <a:pt x="8905" y="6821"/>
                </a:cubicBezTo>
                <a:cubicBezTo>
                  <a:pt x="9098" y="6834"/>
                  <a:pt x="9287" y="6810"/>
                  <a:pt x="9475" y="6796"/>
                </a:cubicBezTo>
                <a:cubicBezTo>
                  <a:pt x="9638" y="6784"/>
                  <a:pt x="9815" y="6785"/>
                  <a:pt x="9971" y="6772"/>
                </a:cubicBezTo>
                <a:cubicBezTo>
                  <a:pt x="10034" y="6767"/>
                  <a:pt x="10070" y="6762"/>
                  <a:pt x="10120" y="6747"/>
                </a:cubicBezTo>
                <a:cubicBezTo>
                  <a:pt x="10079" y="6757"/>
                  <a:pt x="10037" y="6761"/>
                  <a:pt x="9996" y="6772"/>
                </a:cubicBezTo>
              </a:path>
              <a:path w="8732" h="5508">
                <a:moveTo>
                  <a:pt x="9252" y="7169"/>
                </a:moveTo>
                <a:cubicBezTo>
                  <a:pt x="9284" y="7151"/>
                  <a:pt x="9343" y="7101"/>
                  <a:pt x="9376" y="7094"/>
                </a:cubicBezTo>
                <a:cubicBezTo>
                  <a:pt x="9444" y="7079"/>
                  <a:pt x="9649" y="7072"/>
                  <a:pt x="9699" y="7119"/>
                </a:cubicBezTo>
                <a:cubicBezTo>
                  <a:pt x="9735" y="7153"/>
                  <a:pt x="9784" y="7243"/>
                  <a:pt x="9773" y="7293"/>
                </a:cubicBezTo>
                <a:cubicBezTo>
                  <a:pt x="9753" y="7383"/>
                  <a:pt x="9684" y="7473"/>
                  <a:pt x="9624" y="7541"/>
                </a:cubicBezTo>
                <a:cubicBezTo>
                  <a:pt x="9549" y="7626"/>
                  <a:pt x="9446" y="7674"/>
                  <a:pt x="9376" y="7764"/>
                </a:cubicBezTo>
                <a:cubicBezTo>
                  <a:pt x="9337" y="7814"/>
                  <a:pt x="9314" y="7855"/>
                  <a:pt x="9302" y="7913"/>
                </a:cubicBezTo>
                <a:cubicBezTo>
                  <a:pt x="9346" y="7946"/>
                  <a:pt x="9417" y="7952"/>
                  <a:pt x="9475" y="7938"/>
                </a:cubicBezTo>
                <a:cubicBezTo>
                  <a:pt x="9569" y="7916"/>
                  <a:pt x="9645" y="7913"/>
                  <a:pt x="9748" y="7913"/>
                </a:cubicBezTo>
                <a:cubicBezTo>
                  <a:pt x="9773" y="7913"/>
                  <a:pt x="9781" y="7913"/>
                  <a:pt x="9748" y="7913"/>
                </a:cubicBezTo>
              </a:path>
              <a:path w="8732" h="5508">
                <a:moveTo>
                  <a:pt x="11237" y="7441"/>
                </a:moveTo>
                <a:cubicBezTo>
                  <a:pt x="11190" y="7441"/>
                  <a:pt x="11127" y="7446"/>
                  <a:pt x="11088" y="7466"/>
                </a:cubicBezTo>
                <a:cubicBezTo>
                  <a:pt x="11047" y="7487"/>
                  <a:pt x="11005" y="7518"/>
                  <a:pt x="10988" y="7541"/>
                </a:cubicBezTo>
                <a:cubicBezTo>
                  <a:pt x="10966" y="7563"/>
                  <a:pt x="10958" y="7568"/>
                  <a:pt x="10964" y="7590"/>
                </a:cubicBezTo>
                <a:cubicBezTo>
                  <a:pt x="11012" y="7602"/>
                  <a:pt x="11062" y="7641"/>
                  <a:pt x="11112" y="7665"/>
                </a:cubicBezTo>
                <a:cubicBezTo>
                  <a:pt x="11186" y="7701"/>
                  <a:pt x="11285" y="7746"/>
                  <a:pt x="11336" y="7813"/>
                </a:cubicBezTo>
                <a:cubicBezTo>
                  <a:pt x="11376" y="7865"/>
                  <a:pt x="11407" y="7935"/>
                  <a:pt x="11361" y="7987"/>
                </a:cubicBezTo>
                <a:cubicBezTo>
                  <a:pt x="11284" y="8073"/>
                  <a:pt x="11132" y="8108"/>
                  <a:pt x="11013" y="8086"/>
                </a:cubicBezTo>
                <a:cubicBezTo>
                  <a:pt x="11005" y="8078"/>
                  <a:pt x="10996" y="8070"/>
                  <a:pt x="10988" y="8062"/>
                </a:cubicBezTo>
                <a:cubicBezTo>
                  <a:pt x="10960" y="8004"/>
                  <a:pt x="11006" y="7978"/>
                  <a:pt x="11063" y="7938"/>
                </a:cubicBezTo>
              </a:path>
              <a:path w="8732" h="5508">
                <a:moveTo>
                  <a:pt x="11609" y="7689"/>
                </a:moveTo>
                <a:cubicBezTo>
                  <a:pt x="11609" y="7788"/>
                  <a:pt x="11588" y="7869"/>
                  <a:pt x="11584" y="7962"/>
                </a:cubicBezTo>
                <a:cubicBezTo>
                  <a:pt x="11582" y="8003"/>
                  <a:pt x="11584" y="8045"/>
                  <a:pt x="11584" y="8086"/>
                </a:cubicBezTo>
                <a:cubicBezTo>
                  <a:pt x="11625" y="8073"/>
                  <a:pt x="11609" y="8038"/>
                  <a:pt x="11609" y="7987"/>
                </a:cubicBezTo>
                <a:cubicBezTo>
                  <a:pt x="11609" y="7929"/>
                  <a:pt x="11609" y="7904"/>
                  <a:pt x="11609" y="7863"/>
                </a:cubicBezTo>
              </a:path>
              <a:path w="8732" h="5508">
                <a:moveTo>
                  <a:pt x="11658" y="7417"/>
                </a:moveTo>
                <a:cubicBezTo>
                  <a:pt x="11666" y="7400"/>
                  <a:pt x="11675" y="7384"/>
                  <a:pt x="11683" y="7367"/>
                </a:cubicBezTo>
              </a:path>
              <a:path w="8732" h="5508">
                <a:moveTo>
                  <a:pt x="11906" y="7764"/>
                </a:moveTo>
                <a:cubicBezTo>
                  <a:pt x="11901" y="7793"/>
                  <a:pt x="11899" y="7974"/>
                  <a:pt x="11881" y="8012"/>
                </a:cubicBezTo>
                <a:cubicBezTo>
                  <a:pt x="11873" y="8020"/>
                  <a:pt x="11865" y="8029"/>
                  <a:pt x="11857" y="8037"/>
                </a:cubicBezTo>
                <a:cubicBezTo>
                  <a:pt x="11866" y="7938"/>
                  <a:pt x="11881" y="7838"/>
                  <a:pt x="11906" y="7739"/>
                </a:cubicBezTo>
                <a:cubicBezTo>
                  <a:pt x="11927" y="7654"/>
                  <a:pt x="11960" y="7561"/>
                  <a:pt x="12030" y="7516"/>
                </a:cubicBezTo>
                <a:cubicBezTo>
                  <a:pt x="12108" y="7465"/>
                  <a:pt x="12167" y="7486"/>
                  <a:pt x="12229" y="7541"/>
                </a:cubicBezTo>
                <a:cubicBezTo>
                  <a:pt x="12298" y="7602"/>
                  <a:pt x="12336" y="7699"/>
                  <a:pt x="12353" y="7789"/>
                </a:cubicBezTo>
                <a:cubicBezTo>
                  <a:pt x="12365" y="7853"/>
                  <a:pt x="12356" y="7952"/>
                  <a:pt x="12378" y="8012"/>
                </a:cubicBezTo>
                <a:cubicBezTo>
                  <a:pt x="12403" y="8078"/>
                  <a:pt x="12414" y="8118"/>
                  <a:pt x="12427" y="8012"/>
                </a:cubicBezTo>
              </a:path>
              <a:path w="8732" h="5508">
                <a:moveTo>
                  <a:pt x="12626" y="7615"/>
                </a:moveTo>
                <a:cubicBezTo>
                  <a:pt x="12680" y="7712"/>
                  <a:pt x="12749" y="7871"/>
                  <a:pt x="12824" y="7962"/>
                </a:cubicBezTo>
                <a:cubicBezTo>
                  <a:pt x="12890" y="8042"/>
                  <a:pt x="12982" y="8134"/>
                  <a:pt x="13072" y="8186"/>
                </a:cubicBezTo>
                <a:cubicBezTo>
                  <a:pt x="13132" y="8221"/>
                  <a:pt x="13212" y="8288"/>
                  <a:pt x="13271" y="8235"/>
                </a:cubicBezTo>
                <a:cubicBezTo>
                  <a:pt x="13295" y="8210"/>
                  <a:pt x="13303" y="8202"/>
                  <a:pt x="13320" y="8186"/>
                </a:cubicBezTo>
              </a:path>
              <a:path w="8732" h="5508">
                <a:moveTo>
                  <a:pt x="13047" y="7466"/>
                </a:moveTo>
                <a:cubicBezTo>
                  <a:pt x="12974" y="7559"/>
                  <a:pt x="12894" y="7646"/>
                  <a:pt x="12824" y="7739"/>
                </a:cubicBezTo>
                <a:cubicBezTo>
                  <a:pt x="12764" y="7818"/>
                  <a:pt x="12683" y="7883"/>
                  <a:pt x="12626" y="7962"/>
                </a:cubicBezTo>
                <a:cubicBezTo>
                  <a:pt x="12588" y="8015"/>
                  <a:pt x="12438" y="8122"/>
                  <a:pt x="12502" y="8111"/>
                </a:cubicBezTo>
                <a:cubicBezTo>
                  <a:pt x="12545" y="8089"/>
                  <a:pt x="12556" y="8085"/>
                  <a:pt x="12576" y="8062"/>
                </a:cubicBezTo>
              </a:path>
              <a:path w="8732" h="5508">
                <a:moveTo>
                  <a:pt x="13915" y="7615"/>
                </a:moveTo>
                <a:cubicBezTo>
                  <a:pt x="14047" y="7615"/>
                  <a:pt x="14180" y="7615"/>
                  <a:pt x="14312" y="7615"/>
                </a:cubicBezTo>
              </a:path>
              <a:path w="8732" h="5508">
                <a:moveTo>
                  <a:pt x="13965" y="7813"/>
                </a:moveTo>
                <a:cubicBezTo>
                  <a:pt x="14048" y="7813"/>
                  <a:pt x="14133" y="7853"/>
                  <a:pt x="14213" y="7838"/>
                </a:cubicBezTo>
                <a:cubicBezTo>
                  <a:pt x="14230" y="7830"/>
                  <a:pt x="14246" y="7821"/>
                  <a:pt x="14263" y="7813"/>
                </a:cubicBezTo>
              </a:path>
              <a:path w="8732" h="5508">
                <a:moveTo>
                  <a:pt x="14734" y="7739"/>
                </a:moveTo>
                <a:cubicBezTo>
                  <a:pt x="14830" y="7739"/>
                  <a:pt x="14917" y="7725"/>
                  <a:pt x="15007" y="7714"/>
                </a:cubicBezTo>
                <a:cubicBezTo>
                  <a:pt x="15074" y="7706"/>
                  <a:pt x="15138" y="7697"/>
                  <a:pt x="15205" y="7689"/>
                </a:cubicBezTo>
              </a:path>
              <a:path w="8732" h="5508">
                <a:moveTo>
                  <a:pt x="15652" y="7169"/>
                </a:moveTo>
                <a:cubicBezTo>
                  <a:pt x="15652" y="7128"/>
                  <a:pt x="15652" y="7202"/>
                  <a:pt x="15652" y="7243"/>
                </a:cubicBezTo>
                <a:cubicBezTo>
                  <a:pt x="15652" y="7347"/>
                  <a:pt x="15629" y="7437"/>
                  <a:pt x="15627" y="7541"/>
                </a:cubicBezTo>
                <a:cubicBezTo>
                  <a:pt x="15624" y="7682"/>
                  <a:pt x="15612" y="7779"/>
                  <a:pt x="15627" y="7913"/>
                </a:cubicBezTo>
                <a:cubicBezTo>
                  <a:pt x="15637" y="8004"/>
                  <a:pt x="15631" y="8075"/>
                  <a:pt x="15652" y="8161"/>
                </a:cubicBezTo>
                <a:cubicBezTo>
                  <a:pt x="15660" y="8193"/>
                  <a:pt x="15662" y="8265"/>
                  <a:pt x="15677" y="8235"/>
                </a:cubicBezTo>
                <a:cubicBezTo>
                  <a:pt x="15693" y="8203"/>
                  <a:pt x="15690" y="8220"/>
                  <a:pt x="15701" y="8186"/>
                </a:cubicBezTo>
              </a:path>
              <a:path w="8732" h="5508">
                <a:moveTo>
                  <a:pt x="8062" y="8632"/>
                </a:moveTo>
                <a:cubicBezTo>
                  <a:pt x="8123" y="8645"/>
                  <a:pt x="8149" y="8653"/>
                  <a:pt x="8260" y="8657"/>
                </a:cubicBezTo>
                <a:cubicBezTo>
                  <a:pt x="8394" y="8661"/>
                  <a:pt x="8525" y="8674"/>
                  <a:pt x="8657" y="8682"/>
                </a:cubicBezTo>
                <a:cubicBezTo>
                  <a:pt x="9060" y="8707"/>
                  <a:pt x="9469" y="8689"/>
                  <a:pt x="9872" y="8706"/>
                </a:cubicBezTo>
                <a:cubicBezTo>
                  <a:pt x="10127" y="8717"/>
                  <a:pt x="10386" y="8713"/>
                  <a:pt x="10641" y="8731"/>
                </a:cubicBezTo>
                <a:cubicBezTo>
                  <a:pt x="10875" y="8747"/>
                  <a:pt x="11101" y="8756"/>
                  <a:pt x="11336" y="8756"/>
                </a:cubicBezTo>
                <a:cubicBezTo>
                  <a:pt x="11454" y="8756"/>
                  <a:pt x="11623" y="8776"/>
                  <a:pt x="11733" y="8731"/>
                </a:cubicBezTo>
                <a:cubicBezTo>
                  <a:pt x="11754" y="8722"/>
                  <a:pt x="11865" y="8680"/>
                  <a:pt x="11832" y="8632"/>
                </a:cubicBezTo>
                <a:cubicBezTo>
                  <a:pt x="11827" y="8625"/>
                  <a:pt x="11719" y="8611"/>
                  <a:pt x="11708" y="8607"/>
                </a:cubicBezTo>
              </a:path>
              <a:path w="8732" h="5508">
                <a:moveTo>
                  <a:pt x="9351" y="9451"/>
                </a:moveTo>
                <a:cubicBezTo>
                  <a:pt x="9372" y="9482"/>
                  <a:pt x="9397" y="9531"/>
                  <a:pt x="9401" y="9599"/>
                </a:cubicBezTo>
                <a:cubicBezTo>
                  <a:pt x="9409" y="9759"/>
                  <a:pt x="9407" y="9918"/>
                  <a:pt x="9426" y="10071"/>
                </a:cubicBezTo>
                <a:cubicBezTo>
                  <a:pt x="9432" y="10118"/>
                  <a:pt x="9427" y="10130"/>
                  <a:pt x="9451" y="10170"/>
                </a:cubicBezTo>
                <a:cubicBezTo>
                  <a:pt x="9451" y="10129"/>
                  <a:pt x="9451" y="10137"/>
                  <a:pt x="9451" y="10096"/>
                </a:cubicBezTo>
                <a:cubicBezTo>
                  <a:pt x="9451" y="9998"/>
                  <a:pt x="9471" y="9917"/>
                  <a:pt x="9475" y="9823"/>
                </a:cubicBezTo>
                <a:cubicBezTo>
                  <a:pt x="9479" y="9743"/>
                  <a:pt x="9512" y="9674"/>
                  <a:pt x="9525" y="9599"/>
                </a:cubicBezTo>
                <a:cubicBezTo>
                  <a:pt x="9536" y="9536"/>
                  <a:pt x="9545" y="9447"/>
                  <a:pt x="9599" y="9401"/>
                </a:cubicBezTo>
                <a:cubicBezTo>
                  <a:pt x="9654" y="9354"/>
                  <a:pt x="9728" y="9304"/>
                  <a:pt x="9798" y="9277"/>
                </a:cubicBezTo>
                <a:cubicBezTo>
                  <a:pt x="9896" y="9238"/>
                  <a:pt x="9995" y="9247"/>
                  <a:pt x="10096" y="9227"/>
                </a:cubicBezTo>
                <a:cubicBezTo>
                  <a:pt x="10190" y="9209"/>
                  <a:pt x="10270" y="9203"/>
                  <a:pt x="10368" y="9203"/>
                </a:cubicBezTo>
                <a:cubicBezTo>
                  <a:pt x="10409" y="9203"/>
                  <a:pt x="10502" y="9203"/>
                  <a:pt x="10468" y="9227"/>
                </a:cubicBezTo>
                <a:cubicBezTo>
                  <a:pt x="10451" y="9227"/>
                  <a:pt x="10435" y="9227"/>
                  <a:pt x="10418" y="9227"/>
                </a:cubicBezTo>
              </a:path>
              <a:path w="8732" h="5508">
                <a:moveTo>
                  <a:pt x="10021" y="9451"/>
                </a:moveTo>
                <a:cubicBezTo>
                  <a:pt x="10167" y="9451"/>
                  <a:pt x="10240" y="9427"/>
                  <a:pt x="10344" y="9525"/>
                </a:cubicBezTo>
                <a:cubicBezTo>
                  <a:pt x="10388" y="9567"/>
                  <a:pt x="10411" y="9609"/>
                  <a:pt x="10393" y="9674"/>
                </a:cubicBezTo>
                <a:cubicBezTo>
                  <a:pt x="10367" y="9767"/>
                  <a:pt x="10261" y="9816"/>
                  <a:pt x="10195" y="9872"/>
                </a:cubicBezTo>
                <a:cubicBezTo>
                  <a:pt x="10114" y="9941"/>
                  <a:pt x="10008" y="10007"/>
                  <a:pt x="9947" y="10096"/>
                </a:cubicBezTo>
                <a:cubicBezTo>
                  <a:pt x="9947" y="10120"/>
                  <a:pt x="9947" y="10129"/>
                  <a:pt x="9947" y="10145"/>
                </a:cubicBezTo>
                <a:cubicBezTo>
                  <a:pt x="9969" y="10178"/>
                  <a:pt x="10038" y="10192"/>
                  <a:pt x="10096" y="10195"/>
                </a:cubicBezTo>
                <a:cubicBezTo>
                  <a:pt x="10236" y="10201"/>
                  <a:pt x="10377" y="10195"/>
                  <a:pt x="10517" y="10195"/>
                </a:cubicBezTo>
                <a:cubicBezTo>
                  <a:pt x="10497" y="10190"/>
                  <a:pt x="10413" y="10170"/>
                  <a:pt x="10468" y="10170"/>
                </a:cubicBezTo>
                <a:cubicBezTo>
                  <a:pt x="10496" y="10170"/>
                  <a:pt x="10506" y="10167"/>
                  <a:pt x="10517" y="10145"/>
                </a:cubicBezTo>
              </a:path>
              <a:path w="8732" h="5508">
                <a:moveTo>
                  <a:pt x="14784" y="8632"/>
                </a:moveTo>
                <a:cubicBezTo>
                  <a:pt x="15009" y="8632"/>
                  <a:pt x="15228" y="8650"/>
                  <a:pt x="15453" y="8657"/>
                </a:cubicBezTo>
                <a:cubicBezTo>
                  <a:pt x="15659" y="8663"/>
                  <a:pt x="15867" y="8657"/>
                  <a:pt x="16073" y="8657"/>
                </a:cubicBezTo>
                <a:cubicBezTo>
                  <a:pt x="16060" y="8616"/>
                  <a:pt x="16025" y="8632"/>
                  <a:pt x="15974" y="8632"/>
                </a:cubicBezTo>
              </a:path>
              <a:path w="8732" h="5508">
                <a:moveTo>
                  <a:pt x="15131" y="9327"/>
                </a:moveTo>
                <a:cubicBezTo>
                  <a:pt x="15070" y="9480"/>
                  <a:pt x="15029" y="9630"/>
                  <a:pt x="15007" y="9798"/>
                </a:cubicBezTo>
                <a:cubicBezTo>
                  <a:pt x="14994" y="9898"/>
                  <a:pt x="14982" y="9995"/>
                  <a:pt x="14982" y="10096"/>
                </a:cubicBezTo>
                <a:cubicBezTo>
                  <a:pt x="14982" y="10147"/>
                  <a:pt x="14981" y="10166"/>
                  <a:pt x="14957" y="10195"/>
                </a:cubicBezTo>
                <a:cubicBezTo>
                  <a:pt x="14957" y="10162"/>
                  <a:pt x="14957" y="10178"/>
                  <a:pt x="14957" y="10145"/>
                </a:cubicBezTo>
                <a:cubicBezTo>
                  <a:pt x="14957" y="10063"/>
                  <a:pt x="14973" y="10000"/>
                  <a:pt x="14982" y="9922"/>
                </a:cubicBezTo>
                <a:cubicBezTo>
                  <a:pt x="14995" y="9814"/>
                  <a:pt x="15002" y="9704"/>
                  <a:pt x="15007" y="9599"/>
                </a:cubicBezTo>
                <a:cubicBezTo>
                  <a:pt x="15011" y="9524"/>
                  <a:pt x="15026" y="9461"/>
                  <a:pt x="15056" y="9401"/>
                </a:cubicBezTo>
                <a:cubicBezTo>
                  <a:pt x="15085" y="9342"/>
                  <a:pt x="15107" y="9269"/>
                  <a:pt x="15180" y="9252"/>
                </a:cubicBezTo>
                <a:cubicBezTo>
                  <a:pt x="15270" y="9231"/>
                  <a:pt x="15361" y="9243"/>
                  <a:pt x="15453" y="9227"/>
                </a:cubicBezTo>
                <a:cubicBezTo>
                  <a:pt x="15566" y="9208"/>
                  <a:pt x="15637" y="9222"/>
                  <a:pt x="15751" y="9227"/>
                </a:cubicBezTo>
                <a:cubicBezTo>
                  <a:pt x="15809" y="9230"/>
                  <a:pt x="15867" y="9227"/>
                  <a:pt x="15925" y="9227"/>
                </a:cubicBezTo>
              </a:path>
              <a:path w="8732" h="5508">
                <a:moveTo>
                  <a:pt x="15429" y="9401"/>
                </a:moveTo>
                <a:cubicBezTo>
                  <a:pt x="15489" y="9427"/>
                  <a:pt x="15562" y="9442"/>
                  <a:pt x="15627" y="9451"/>
                </a:cubicBezTo>
                <a:cubicBezTo>
                  <a:pt x="15763" y="9471"/>
                  <a:pt x="15777" y="9445"/>
                  <a:pt x="15875" y="9550"/>
                </a:cubicBezTo>
                <a:cubicBezTo>
                  <a:pt x="15920" y="9599"/>
                  <a:pt x="15901" y="9645"/>
                  <a:pt x="15875" y="9699"/>
                </a:cubicBezTo>
                <a:cubicBezTo>
                  <a:pt x="15824" y="9805"/>
                  <a:pt x="15693" y="9881"/>
                  <a:pt x="15602" y="9947"/>
                </a:cubicBezTo>
                <a:cubicBezTo>
                  <a:pt x="15535" y="9995"/>
                  <a:pt x="15457" y="10012"/>
                  <a:pt x="15429" y="10096"/>
                </a:cubicBezTo>
                <a:cubicBezTo>
                  <a:pt x="15429" y="10104"/>
                  <a:pt x="15429" y="10112"/>
                  <a:pt x="15429" y="10120"/>
                </a:cubicBezTo>
                <a:cubicBezTo>
                  <a:pt x="15504" y="10158"/>
                  <a:pt x="15592" y="10209"/>
                  <a:pt x="15677" y="10220"/>
                </a:cubicBezTo>
                <a:cubicBezTo>
                  <a:pt x="15808" y="10236"/>
                  <a:pt x="15940" y="10244"/>
                  <a:pt x="16073" y="10244"/>
                </a:cubicBezTo>
                <a:cubicBezTo>
                  <a:pt x="16097" y="10244"/>
                  <a:pt x="16187" y="10290"/>
                  <a:pt x="16073" y="10244"/>
                </a:cubicBezTo>
              </a:path>
              <a:path w="8732" h="5508">
                <a:moveTo>
                  <a:pt x="9327" y="10195"/>
                </a:moveTo>
                <a:cubicBezTo>
                  <a:pt x="9435" y="10140"/>
                  <a:pt x="9545" y="10084"/>
                  <a:pt x="9649" y="10021"/>
                </a:cubicBezTo>
                <a:cubicBezTo>
                  <a:pt x="9796" y="9932"/>
                  <a:pt x="9938" y="9844"/>
                  <a:pt x="10096" y="9773"/>
                </a:cubicBezTo>
                <a:cubicBezTo>
                  <a:pt x="10262" y="9699"/>
                  <a:pt x="10429" y="9625"/>
                  <a:pt x="10592" y="9550"/>
                </a:cubicBezTo>
                <a:cubicBezTo>
                  <a:pt x="10641" y="9525"/>
                  <a:pt x="10658" y="9516"/>
                  <a:pt x="10666" y="9475"/>
                </a:cubicBezTo>
                <a:cubicBezTo>
                  <a:pt x="10621" y="9446"/>
                  <a:pt x="10569" y="9427"/>
                  <a:pt x="10517" y="9401"/>
                </a:cubicBezTo>
                <a:cubicBezTo>
                  <a:pt x="10458" y="9371"/>
                  <a:pt x="10432" y="9356"/>
                  <a:pt x="10393" y="9327"/>
                </a:cubicBezTo>
              </a:path>
              <a:path w="8732" h="5508">
                <a:moveTo>
                  <a:pt x="8409" y="8111"/>
                </a:moveTo>
                <a:cubicBezTo>
                  <a:pt x="8537" y="7983"/>
                  <a:pt x="8661" y="7871"/>
                  <a:pt x="8806" y="7764"/>
                </a:cubicBezTo>
                <a:cubicBezTo>
                  <a:pt x="9039" y="7591"/>
                  <a:pt x="9270" y="7435"/>
                  <a:pt x="9525" y="7293"/>
                </a:cubicBezTo>
                <a:cubicBezTo>
                  <a:pt x="9679" y="7208"/>
                  <a:pt x="9830" y="7126"/>
                  <a:pt x="9996" y="7069"/>
                </a:cubicBezTo>
                <a:cubicBezTo>
                  <a:pt x="10089" y="7037"/>
                  <a:pt x="10085" y="7040"/>
                  <a:pt x="10120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830760" y="4133880"/>
            <a:ext cx="2162160" cy="957240"/>
          </a:xfrm>
          <a:custGeom>
            <a:avLst/>
            <a:gdLst/>
            <a:ahLst/>
            <a:rect l="l" t="t" r="r" b="b"/>
            <a:pathLst>
              <a:path w="6004" h="2655">
                <a:moveTo>
                  <a:pt x="11112" y="11534"/>
                </a:moveTo>
                <a:cubicBezTo>
                  <a:pt x="11075" y="11521"/>
                  <a:pt x="11091" y="11509"/>
                  <a:pt x="11038" y="11509"/>
                </a:cubicBezTo>
                <a:cubicBezTo>
                  <a:pt x="10962" y="11509"/>
                  <a:pt x="10887" y="11551"/>
                  <a:pt x="10815" y="11584"/>
                </a:cubicBezTo>
                <a:cubicBezTo>
                  <a:pt x="10769" y="11605"/>
                  <a:pt x="10703" y="11633"/>
                  <a:pt x="10666" y="11658"/>
                </a:cubicBezTo>
                <a:cubicBezTo>
                  <a:pt x="10585" y="11712"/>
                  <a:pt x="10667" y="11751"/>
                  <a:pt x="10691" y="11782"/>
                </a:cubicBezTo>
                <a:cubicBezTo>
                  <a:pt x="10760" y="11870"/>
                  <a:pt x="10852" y="11907"/>
                  <a:pt x="10939" y="11981"/>
                </a:cubicBezTo>
                <a:cubicBezTo>
                  <a:pt x="11027" y="12056"/>
                  <a:pt x="11145" y="12140"/>
                  <a:pt x="11187" y="12254"/>
                </a:cubicBezTo>
                <a:cubicBezTo>
                  <a:pt x="11203" y="12297"/>
                  <a:pt x="11189" y="12408"/>
                  <a:pt x="11137" y="12427"/>
                </a:cubicBezTo>
                <a:cubicBezTo>
                  <a:pt x="11089" y="12444"/>
                  <a:pt x="10993" y="12467"/>
                  <a:pt x="10939" y="12452"/>
                </a:cubicBezTo>
                <a:cubicBezTo>
                  <a:pt x="10881" y="12436"/>
                  <a:pt x="10792" y="12426"/>
                  <a:pt x="10740" y="12402"/>
                </a:cubicBezTo>
                <a:cubicBezTo>
                  <a:pt x="10711" y="12389"/>
                  <a:pt x="10672" y="12337"/>
                  <a:pt x="10691" y="12303"/>
                </a:cubicBezTo>
                <a:cubicBezTo>
                  <a:pt x="10720" y="12251"/>
                  <a:pt x="10837" y="12196"/>
                  <a:pt x="10864" y="12179"/>
                </a:cubicBezTo>
              </a:path>
              <a:path w="6004" h="2655">
                <a:moveTo>
                  <a:pt x="11534" y="11931"/>
                </a:moveTo>
                <a:cubicBezTo>
                  <a:pt x="11534" y="12077"/>
                  <a:pt x="11530" y="12153"/>
                  <a:pt x="11509" y="12278"/>
                </a:cubicBezTo>
                <a:cubicBezTo>
                  <a:pt x="11501" y="12325"/>
                  <a:pt x="11509" y="12379"/>
                  <a:pt x="11509" y="12427"/>
                </a:cubicBezTo>
                <a:cubicBezTo>
                  <a:pt x="11509" y="12386"/>
                  <a:pt x="11509" y="12344"/>
                  <a:pt x="11509" y="12303"/>
                </a:cubicBezTo>
              </a:path>
              <a:path w="6004" h="2655">
                <a:moveTo>
                  <a:pt x="11584" y="11485"/>
                </a:moveTo>
                <a:lnTo>
                  <a:pt x="11584" y="11485"/>
                </a:lnTo>
              </a:path>
              <a:path w="6004" h="2655">
                <a:moveTo>
                  <a:pt x="11832" y="12055"/>
                </a:moveTo>
                <a:cubicBezTo>
                  <a:pt x="11814" y="12179"/>
                  <a:pt x="11789" y="12264"/>
                  <a:pt x="11832" y="12378"/>
                </a:cubicBezTo>
                <a:cubicBezTo>
                  <a:pt x="11832" y="12457"/>
                  <a:pt x="11832" y="12280"/>
                  <a:pt x="11832" y="12278"/>
                </a:cubicBezTo>
                <a:cubicBezTo>
                  <a:pt x="11832" y="12197"/>
                  <a:pt x="11859" y="12082"/>
                  <a:pt x="11881" y="12005"/>
                </a:cubicBezTo>
                <a:cubicBezTo>
                  <a:pt x="11898" y="11945"/>
                  <a:pt x="11939" y="11900"/>
                  <a:pt x="11981" y="11857"/>
                </a:cubicBezTo>
                <a:cubicBezTo>
                  <a:pt x="12032" y="11805"/>
                  <a:pt x="12063" y="11839"/>
                  <a:pt x="12105" y="11881"/>
                </a:cubicBezTo>
                <a:cubicBezTo>
                  <a:pt x="12151" y="11928"/>
                  <a:pt x="12175" y="11997"/>
                  <a:pt x="12204" y="12055"/>
                </a:cubicBezTo>
                <a:cubicBezTo>
                  <a:pt x="12241" y="12129"/>
                  <a:pt x="12254" y="12205"/>
                  <a:pt x="12278" y="12278"/>
                </a:cubicBezTo>
                <a:cubicBezTo>
                  <a:pt x="12298" y="12338"/>
                  <a:pt x="12338" y="12391"/>
                  <a:pt x="12353" y="12452"/>
                </a:cubicBezTo>
                <a:cubicBezTo>
                  <a:pt x="12353" y="12477"/>
                  <a:pt x="12353" y="12485"/>
                  <a:pt x="12378" y="12477"/>
                </a:cubicBezTo>
                <a:cubicBezTo>
                  <a:pt x="12392" y="12419"/>
                  <a:pt x="12431" y="12370"/>
                  <a:pt x="12452" y="12303"/>
                </a:cubicBezTo>
              </a:path>
              <a:path w="6004" h="2655">
                <a:moveTo>
                  <a:pt x="12799" y="11832"/>
                </a:moveTo>
                <a:cubicBezTo>
                  <a:pt x="12840" y="11937"/>
                  <a:pt x="12888" y="12034"/>
                  <a:pt x="12948" y="12129"/>
                </a:cubicBezTo>
                <a:cubicBezTo>
                  <a:pt x="13014" y="12234"/>
                  <a:pt x="13091" y="12334"/>
                  <a:pt x="13171" y="12427"/>
                </a:cubicBezTo>
                <a:cubicBezTo>
                  <a:pt x="13216" y="12479"/>
                  <a:pt x="13309" y="12571"/>
                  <a:pt x="13370" y="12601"/>
                </a:cubicBezTo>
                <a:cubicBezTo>
                  <a:pt x="13378" y="12601"/>
                  <a:pt x="13387" y="12601"/>
                  <a:pt x="13395" y="12601"/>
                </a:cubicBezTo>
                <a:cubicBezTo>
                  <a:pt x="13405" y="12560"/>
                  <a:pt x="13438" y="12522"/>
                  <a:pt x="13444" y="12477"/>
                </a:cubicBezTo>
                <a:cubicBezTo>
                  <a:pt x="13444" y="12452"/>
                  <a:pt x="13444" y="12427"/>
                  <a:pt x="13444" y="12402"/>
                </a:cubicBezTo>
              </a:path>
              <a:path w="6004" h="2655">
                <a:moveTo>
                  <a:pt x="13345" y="11832"/>
                </a:moveTo>
                <a:cubicBezTo>
                  <a:pt x="13257" y="11946"/>
                  <a:pt x="13177" y="12059"/>
                  <a:pt x="13097" y="12179"/>
                </a:cubicBezTo>
                <a:cubicBezTo>
                  <a:pt x="13035" y="12273"/>
                  <a:pt x="12960" y="12361"/>
                  <a:pt x="12898" y="12452"/>
                </a:cubicBezTo>
                <a:cubicBezTo>
                  <a:pt x="12868" y="12497"/>
                  <a:pt x="12805" y="12550"/>
                  <a:pt x="12799" y="12601"/>
                </a:cubicBezTo>
                <a:cubicBezTo>
                  <a:pt x="12794" y="12649"/>
                  <a:pt x="12905" y="12554"/>
                  <a:pt x="12948" y="12526"/>
                </a:cubicBezTo>
              </a:path>
              <a:path w="6004" h="2655">
                <a:moveTo>
                  <a:pt x="13767" y="12229"/>
                </a:moveTo>
                <a:cubicBezTo>
                  <a:pt x="13891" y="12229"/>
                  <a:pt x="14015" y="12229"/>
                  <a:pt x="14139" y="12229"/>
                </a:cubicBezTo>
              </a:path>
              <a:path w="6004" h="2655">
                <a:moveTo>
                  <a:pt x="13816" y="12477"/>
                </a:moveTo>
                <a:cubicBezTo>
                  <a:pt x="13893" y="12502"/>
                  <a:pt x="14078" y="12585"/>
                  <a:pt x="14163" y="12576"/>
                </a:cubicBezTo>
                <a:cubicBezTo>
                  <a:pt x="14220" y="12570"/>
                  <a:pt x="14239" y="12517"/>
                  <a:pt x="14263" y="12477"/>
                </a:cubicBezTo>
              </a:path>
              <a:path w="6004" h="2655">
                <a:moveTo>
                  <a:pt x="14808" y="12129"/>
                </a:moveTo>
                <a:cubicBezTo>
                  <a:pt x="14849" y="12129"/>
                  <a:pt x="14891" y="12129"/>
                  <a:pt x="14932" y="12129"/>
                </a:cubicBezTo>
              </a:path>
              <a:path w="6004" h="2655">
                <a:moveTo>
                  <a:pt x="15528" y="11981"/>
                </a:moveTo>
                <a:cubicBezTo>
                  <a:pt x="15555" y="12025"/>
                  <a:pt x="15566" y="12096"/>
                  <a:pt x="15553" y="12154"/>
                </a:cubicBezTo>
                <a:cubicBezTo>
                  <a:pt x="15535" y="12232"/>
                  <a:pt x="15528" y="12293"/>
                  <a:pt x="15528" y="12378"/>
                </a:cubicBezTo>
                <a:cubicBezTo>
                  <a:pt x="15528" y="12466"/>
                  <a:pt x="15531" y="12528"/>
                  <a:pt x="15553" y="12601"/>
                </a:cubicBezTo>
                <a:cubicBezTo>
                  <a:pt x="15553" y="12609"/>
                  <a:pt x="15553" y="12618"/>
                  <a:pt x="15553" y="12626"/>
                </a:cubicBezTo>
                <a:cubicBezTo>
                  <a:pt x="15519" y="12558"/>
                  <a:pt x="15540" y="12554"/>
                  <a:pt x="15553" y="12477"/>
                </a:cubicBezTo>
                <a:cubicBezTo>
                  <a:pt x="15582" y="12306"/>
                  <a:pt x="15555" y="12094"/>
                  <a:pt x="15528" y="11931"/>
                </a:cubicBezTo>
                <a:cubicBezTo>
                  <a:pt x="15517" y="11866"/>
                  <a:pt x="15517" y="11783"/>
                  <a:pt x="15553" y="11733"/>
                </a:cubicBezTo>
                <a:cubicBezTo>
                  <a:pt x="15592" y="11679"/>
                  <a:pt x="15598" y="11661"/>
                  <a:pt x="15677" y="11658"/>
                </a:cubicBezTo>
                <a:cubicBezTo>
                  <a:pt x="15803" y="11652"/>
                  <a:pt x="15916" y="11633"/>
                  <a:pt x="16049" y="11633"/>
                </a:cubicBezTo>
                <a:cubicBezTo>
                  <a:pt x="16147" y="11633"/>
                  <a:pt x="16237" y="11634"/>
                  <a:pt x="16321" y="11609"/>
                </a:cubicBezTo>
                <a:cubicBezTo>
                  <a:pt x="16329" y="11609"/>
                  <a:pt x="16338" y="11609"/>
                  <a:pt x="16346" y="11609"/>
                </a:cubicBezTo>
              </a:path>
              <a:path w="6004" h="2655">
                <a:moveTo>
                  <a:pt x="15900" y="11931"/>
                </a:moveTo>
                <a:cubicBezTo>
                  <a:pt x="15999" y="11949"/>
                  <a:pt x="16075" y="11956"/>
                  <a:pt x="16173" y="11956"/>
                </a:cubicBezTo>
                <a:cubicBezTo>
                  <a:pt x="16219" y="11956"/>
                  <a:pt x="16263" y="11958"/>
                  <a:pt x="16297" y="11981"/>
                </a:cubicBezTo>
                <a:cubicBezTo>
                  <a:pt x="16361" y="12023"/>
                  <a:pt x="16295" y="12085"/>
                  <a:pt x="16272" y="12129"/>
                </a:cubicBezTo>
                <a:cubicBezTo>
                  <a:pt x="16228" y="12211"/>
                  <a:pt x="16180" y="12256"/>
                  <a:pt x="16123" y="12328"/>
                </a:cubicBezTo>
                <a:cubicBezTo>
                  <a:pt x="16078" y="12385"/>
                  <a:pt x="16047" y="12450"/>
                  <a:pt x="15999" y="12502"/>
                </a:cubicBezTo>
                <a:cubicBezTo>
                  <a:pt x="15975" y="12528"/>
                  <a:pt x="15950" y="12577"/>
                  <a:pt x="15999" y="12601"/>
                </a:cubicBezTo>
                <a:cubicBezTo>
                  <a:pt x="16046" y="12624"/>
                  <a:pt x="16195" y="12619"/>
                  <a:pt x="16247" y="12626"/>
                </a:cubicBezTo>
                <a:cubicBezTo>
                  <a:pt x="16314" y="12635"/>
                  <a:pt x="16601" y="12655"/>
                  <a:pt x="16619" y="12601"/>
                </a:cubicBezTo>
              </a:path>
              <a:path w="6004" h="2655">
                <a:moveTo>
                  <a:pt x="15478" y="12799"/>
                </a:moveTo>
                <a:cubicBezTo>
                  <a:pt x="15532" y="12839"/>
                  <a:pt x="15580" y="12847"/>
                  <a:pt x="15652" y="12849"/>
                </a:cubicBezTo>
                <a:cubicBezTo>
                  <a:pt x="15820" y="12854"/>
                  <a:pt x="15981" y="12859"/>
                  <a:pt x="16148" y="12874"/>
                </a:cubicBezTo>
                <a:cubicBezTo>
                  <a:pt x="16256" y="12884"/>
                  <a:pt x="16363" y="12893"/>
                  <a:pt x="16470" y="12898"/>
                </a:cubicBezTo>
                <a:cubicBezTo>
                  <a:pt x="16497" y="12899"/>
                  <a:pt x="16677" y="12898"/>
                  <a:pt x="16619" y="12898"/>
                </a:cubicBezTo>
              </a:path>
              <a:path w="6004" h="2655">
                <a:moveTo>
                  <a:pt x="15900" y="13271"/>
                </a:moveTo>
                <a:cubicBezTo>
                  <a:pt x="15892" y="13279"/>
                  <a:pt x="15883" y="13287"/>
                  <a:pt x="15875" y="13295"/>
                </a:cubicBezTo>
                <a:cubicBezTo>
                  <a:pt x="15893" y="13331"/>
                  <a:pt x="15925" y="13280"/>
                  <a:pt x="15974" y="13271"/>
                </a:cubicBezTo>
                <a:cubicBezTo>
                  <a:pt x="16043" y="13258"/>
                  <a:pt x="16101" y="13246"/>
                  <a:pt x="16173" y="13246"/>
                </a:cubicBezTo>
                <a:cubicBezTo>
                  <a:pt x="16243" y="13246"/>
                  <a:pt x="16309" y="13234"/>
                  <a:pt x="16371" y="13271"/>
                </a:cubicBezTo>
                <a:cubicBezTo>
                  <a:pt x="16406" y="13292"/>
                  <a:pt x="16408" y="13360"/>
                  <a:pt x="16396" y="13395"/>
                </a:cubicBezTo>
                <a:cubicBezTo>
                  <a:pt x="16361" y="13498"/>
                  <a:pt x="16297" y="13576"/>
                  <a:pt x="16222" y="13643"/>
                </a:cubicBezTo>
                <a:cubicBezTo>
                  <a:pt x="16163" y="13695"/>
                  <a:pt x="16009" y="13813"/>
                  <a:pt x="15999" y="13891"/>
                </a:cubicBezTo>
                <a:cubicBezTo>
                  <a:pt x="15988" y="13970"/>
                  <a:pt x="16054" y="13986"/>
                  <a:pt x="16123" y="14015"/>
                </a:cubicBezTo>
                <a:cubicBezTo>
                  <a:pt x="16212" y="14053"/>
                  <a:pt x="16304" y="14083"/>
                  <a:pt x="16396" y="14114"/>
                </a:cubicBezTo>
                <a:cubicBezTo>
                  <a:pt x="16454" y="14134"/>
                  <a:pt x="16573" y="14174"/>
                  <a:pt x="16619" y="14114"/>
                </a:cubicBezTo>
                <a:cubicBezTo>
                  <a:pt x="16627" y="14097"/>
                  <a:pt x="16636" y="14081"/>
                  <a:pt x="16644" y="14064"/>
                </a:cubicBezTo>
              </a:path>
              <a:path w="6004" h="2655">
                <a:moveTo>
                  <a:pt x="14635" y="12129"/>
                </a:moveTo>
                <a:cubicBezTo>
                  <a:pt x="14809" y="12129"/>
                  <a:pt x="14982" y="12129"/>
                  <a:pt x="15156" y="12129"/>
                </a:cubicBezTo>
                <a:cubicBezTo>
                  <a:pt x="15092" y="12156"/>
                  <a:pt x="15053" y="12154"/>
                  <a:pt x="14982" y="12154"/>
                </a:cubicBezTo>
                <a:cubicBezTo>
                  <a:pt x="14906" y="12154"/>
                  <a:pt x="14841" y="12179"/>
                  <a:pt x="14759" y="12179"/>
                </a:cubicBezTo>
                <a:cubicBezTo>
                  <a:pt x="14709" y="12179"/>
                  <a:pt x="14660" y="12179"/>
                  <a:pt x="14610" y="12179"/>
                </a:cubicBezTo>
                <a:cubicBezTo>
                  <a:pt x="14541" y="12179"/>
                  <a:pt x="14651" y="12182"/>
                  <a:pt x="14660" y="12179"/>
                </a:cubicBezTo>
                <a:cubicBezTo>
                  <a:pt x="14732" y="12153"/>
                  <a:pt x="14784" y="12167"/>
                  <a:pt x="14858" y="12154"/>
                </a:cubicBezTo>
                <a:cubicBezTo>
                  <a:pt x="14945" y="12138"/>
                  <a:pt x="15018" y="12129"/>
                  <a:pt x="15106" y="12129"/>
                </a:cubicBezTo>
                <a:cubicBezTo>
                  <a:pt x="15182" y="12129"/>
                  <a:pt x="15042" y="12105"/>
                  <a:pt x="15032" y="12105"/>
                </a:cubicBezTo>
                <a:cubicBezTo>
                  <a:pt x="15024" y="12105"/>
                  <a:pt x="15015" y="12105"/>
                  <a:pt x="15007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24160" y="5126040"/>
            <a:ext cx="2106720" cy="1035000"/>
          </a:xfrm>
          <a:custGeom>
            <a:avLst/>
            <a:gdLst/>
            <a:ahLst/>
            <a:rect l="l" t="t" r="r" b="b"/>
            <a:pathLst>
              <a:path w="5855" h="2878">
                <a:moveTo>
                  <a:pt x="8954" y="14461"/>
                </a:moveTo>
                <a:cubicBezTo>
                  <a:pt x="9006" y="14474"/>
                  <a:pt x="9045" y="14539"/>
                  <a:pt x="9079" y="14585"/>
                </a:cubicBezTo>
                <a:cubicBezTo>
                  <a:pt x="9153" y="14686"/>
                  <a:pt x="9180" y="14810"/>
                  <a:pt x="9252" y="14908"/>
                </a:cubicBezTo>
                <a:cubicBezTo>
                  <a:pt x="9337" y="15023"/>
                  <a:pt x="9422" y="15105"/>
                  <a:pt x="9525" y="15205"/>
                </a:cubicBezTo>
                <a:cubicBezTo>
                  <a:pt x="9573" y="15251"/>
                  <a:pt x="9645" y="15334"/>
                  <a:pt x="9723" y="15329"/>
                </a:cubicBezTo>
                <a:cubicBezTo>
                  <a:pt x="9731" y="15321"/>
                  <a:pt x="9740" y="15312"/>
                  <a:pt x="9748" y="15304"/>
                </a:cubicBezTo>
              </a:path>
              <a:path w="5855" h="2878">
                <a:moveTo>
                  <a:pt x="9624" y="14288"/>
                </a:moveTo>
                <a:cubicBezTo>
                  <a:pt x="9599" y="14271"/>
                  <a:pt x="9575" y="14255"/>
                  <a:pt x="9550" y="14238"/>
                </a:cubicBezTo>
                <a:cubicBezTo>
                  <a:pt x="9492" y="14310"/>
                  <a:pt x="9450" y="14382"/>
                  <a:pt x="9401" y="14461"/>
                </a:cubicBezTo>
                <a:cubicBezTo>
                  <a:pt x="9326" y="14581"/>
                  <a:pt x="9266" y="14707"/>
                  <a:pt x="9203" y="14833"/>
                </a:cubicBezTo>
                <a:cubicBezTo>
                  <a:pt x="9147" y="14945"/>
                  <a:pt x="9072" y="15065"/>
                  <a:pt x="9029" y="15180"/>
                </a:cubicBezTo>
                <a:cubicBezTo>
                  <a:pt x="9015" y="15216"/>
                  <a:pt x="8990" y="15352"/>
                  <a:pt x="8954" y="15379"/>
                </a:cubicBezTo>
                <a:cubicBezTo>
                  <a:pt x="8954" y="15371"/>
                  <a:pt x="8954" y="15362"/>
                  <a:pt x="8954" y="15354"/>
                </a:cubicBezTo>
              </a:path>
              <a:path w="5855" h="2878">
                <a:moveTo>
                  <a:pt x="9823" y="14833"/>
                </a:moveTo>
                <a:cubicBezTo>
                  <a:pt x="9947" y="14833"/>
                  <a:pt x="10071" y="14833"/>
                  <a:pt x="10195" y="14833"/>
                </a:cubicBezTo>
              </a:path>
              <a:path w="5855" h="2878">
                <a:moveTo>
                  <a:pt x="9823" y="15032"/>
                </a:moveTo>
                <a:cubicBezTo>
                  <a:pt x="9937" y="15066"/>
                  <a:pt x="10048" y="15104"/>
                  <a:pt x="10170" y="15081"/>
                </a:cubicBezTo>
                <a:cubicBezTo>
                  <a:pt x="10195" y="15073"/>
                  <a:pt x="10219" y="15064"/>
                  <a:pt x="10244" y="15056"/>
                </a:cubicBezTo>
              </a:path>
              <a:path w="5855" h="2878">
                <a:moveTo>
                  <a:pt x="10592" y="14412"/>
                </a:moveTo>
                <a:cubicBezTo>
                  <a:pt x="10680" y="14360"/>
                  <a:pt x="10784" y="14330"/>
                  <a:pt x="10889" y="14312"/>
                </a:cubicBezTo>
                <a:cubicBezTo>
                  <a:pt x="10940" y="14303"/>
                  <a:pt x="10999" y="14340"/>
                  <a:pt x="10964" y="14288"/>
                </a:cubicBezTo>
              </a:path>
              <a:path w="5855" h="2878">
                <a:moveTo>
                  <a:pt x="10542" y="14412"/>
                </a:moveTo>
                <a:cubicBezTo>
                  <a:pt x="10529" y="14469"/>
                  <a:pt x="10471" y="14549"/>
                  <a:pt x="10517" y="14585"/>
                </a:cubicBezTo>
                <a:cubicBezTo>
                  <a:pt x="10540" y="14603"/>
                  <a:pt x="10582" y="14610"/>
                  <a:pt x="10616" y="14610"/>
                </a:cubicBezTo>
                <a:cubicBezTo>
                  <a:pt x="10674" y="14610"/>
                  <a:pt x="10737" y="14617"/>
                  <a:pt x="10790" y="14635"/>
                </a:cubicBezTo>
                <a:cubicBezTo>
                  <a:pt x="10860" y="14658"/>
                  <a:pt x="10879" y="14668"/>
                  <a:pt x="10914" y="14734"/>
                </a:cubicBezTo>
                <a:cubicBezTo>
                  <a:pt x="10938" y="14779"/>
                  <a:pt x="10957" y="14856"/>
                  <a:pt x="10939" y="14908"/>
                </a:cubicBezTo>
                <a:cubicBezTo>
                  <a:pt x="10912" y="14988"/>
                  <a:pt x="10877" y="14985"/>
                  <a:pt x="10815" y="15007"/>
                </a:cubicBezTo>
                <a:cubicBezTo>
                  <a:pt x="10757" y="15028"/>
                  <a:pt x="10724" y="15042"/>
                  <a:pt x="10666" y="15007"/>
                </a:cubicBezTo>
                <a:cubicBezTo>
                  <a:pt x="10614" y="14976"/>
                  <a:pt x="10600" y="14956"/>
                  <a:pt x="10592" y="14908"/>
                </a:cubicBezTo>
              </a:path>
              <a:path w="5855" h="2878">
                <a:moveTo>
                  <a:pt x="11212" y="14436"/>
                </a:moveTo>
                <a:cubicBezTo>
                  <a:pt x="11256" y="14441"/>
                  <a:pt x="11530" y="14506"/>
                  <a:pt x="11584" y="14436"/>
                </a:cubicBezTo>
                <a:cubicBezTo>
                  <a:pt x="11584" y="14403"/>
                  <a:pt x="11584" y="14387"/>
                  <a:pt x="11584" y="14362"/>
                </a:cubicBezTo>
              </a:path>
              <a:path w="5855" h="2878">
                <a:moveTo>
                  <a:pt x="11286" y="14486"/>
                </a:moveTo>
                <a:cubicBezTo>
                  <a:pt x="11286" y="14612"/>
                  <a:pt x="11279" y="14725"/>
                  <a:pt x="11311" y="14833"/>
                </a:cubicBezTo>
                <a:cubicBezTo>
                  <a:pt x="11311" y="14861"/>
                  <a:pt x="11313" y="14867"/>
                  <a:pt x="11336" y="14833"/>
                </a:cubicBezTo>
              </a:path>
              <a:path w="5855" h="2878">
                <a:moveTo>
                  <a:pt x="11460" y="14412"/>
                </a:moveTo>
                <a:cubicBezTo>
                  <a:pt x="11483" y="14581"/>
                  <a:pt x="11491" y="14665"/>
                  <a:pt x="11559" y="14808"/>
                </a:cubicBezTo>
                <a:cubicBezTo>
                  <a:pt x="11586" y="14864"/>
                  <a:pt x="11598" y="14917"/>
                  <a:pt x="11658" y="14932"/>
                </a:cubicBezTo>
              </a:path>
              <a:path w="5855" h="2878">
                <a:moveTo>
                  <a:pt x="12030" y="14288"/>
                </a:moveTo>
                <a:cubicBezTo>
                  <a:pt x="12020" y="14369"/>
                  <a:pt x="11980" y="14433"/>
                  <a:pt x="11956" y="14511"/>
                </a:cubicBezTo>
                <a:cubicBezTo>
                  <a:pt x="11914" y="14645"/>
                  <a:pt x="11880" y="14777"/>
                  <a:pt x="11832" y="14908"/>
                </a:cubicBezTo>
                <a:cubicBezTo>
                  <a:pt x="11777" y="15057"/>
                  <a:pt x="11734" y="15206"/>
                  <a:pt x="11683" y="15354"/>
                </a:cubicBezTo>
                <a:cubicBezTo>
                  <a:pt x="11625" y="15522"/>
                  <a:pt x="11536" y="15681"/>
                  <a:pt x="11485" y="15850"/>
                </a:cubicBezTo>
                <a:cubicBezTo>
                  <a:pt x="11461" y="15930"/>
                  <a:pt x="11415" y="16016"/>
                  <a:pt x="11410" y="16098"/>
                </a:cubicBezTo>
                <a:cubicBezTo>
                  <a:pt x="11410" y="16123"/>
                  <a:pt x="11410" y="16131"/>
                  <a:pt x="11410" y="16148"/>
                </a:cubicBezTo>
                <a:cubicBezTo>
                  <a:pt x="11442" y="16112"/>
                  <a:pt x="11459" y="16091"/>
                  <a:pt x="11485" y="16049"/>
                </a:cubicBezTo>
              </a:path>
              <a:path w="5855" h="2878">
                <a:moveTo>
                  <a:pt x="11931" y="15404"/>
                </a:moveTo>
                <a:cubicBezTo>
                  <a:pt x="11931" y="15454"/>
                  <a:pt x="11920" y="15462"/>
                  <a:pt x="11906" y="15503"/>
                </a:cubicBezTo>
                <a:cubicBezTo>
                  <a:pt x="11893" y="15541"/>
                  <a:pt x="11908" y="15576"/>
                  <a:pt x="11931" y="15602"/>
                </a:cubicBezTo>
                <a:cubicBezTo>
                  <a:pt x="11975" y="15651"/>
                  <a:pt x="12022" y="15672"/>
                  <a:pt x="12080" y="15701"/>
                </a:cubicBezTo>
                <a:cubicBezTo>
                  <a:pt x="12168" y="15745"/>
                  <a:pt x="12167" y="15724"/>
                  <a:pt x="12254" y="15677"/>
                </a:cubicBezTo>
              </a:path>
              <a:path w="5855" h="2878">
                <a:moveTo>
                  <a:pt x="12353" y="15304"/>
                </a:moveTo>
                <a:cubicBezTo>
                  <a:pt x="12293" y="15395"/>
                  <a:pt x="12298" y="15467"/>
                  <a:pt x="12278" y="15577"/>
                </a:cubicBezTo>
                <a:cubicBezTo>
                  <a:pt x="12246" y="15753"/>
                  <a:pt x="12285" y="15870"/>
                  <a:pt x="12303" y="16049"/>
                </a:cubicBezTo>
                <a:cubicBezTo>
                  <a:pt x="12311" y="16129"/>
                  <a:pt x="12306" y="16209"/>
                  <a:pt x="12353" y="16272"/>
                </a:cubicBezTo>
              </a:path>
              <a:path w="5855" h="2878">
                <a:moveTo>
                  <a:pt x="12725" y="16049"/>
                </a:moveTo>
                <a:cubicBezTo>
                  <a:pt x="12740" y="16200"/>
                  <a:pt x="12755" y="16348"/>
                  <a:pt x="12774" y="16495"/>
                </a:cubicBezTo>
                <a:cubicBezTo>
                  <a:pt x="12778" y="16526"/>
                  <a:pt x="12774" y="16562"/>
                  <a:pt x="12774" y="16594"/>
                </a:cubicBezTo>
              </a:path>
              <a:path w="5855" h="2878">
                <a:moveTo>
                  <a:pt x="12750" y="14684"/>
                </a:moveTo>
                <a:cubicBezTo>
                  <a:pt x="12831" y="14582"/>
                  <a:pt x="12845" y="14585"/>
                  <a:pt x="12973" y="14585"/>
                </a:cubicBezTo>
                <a:cubicBezTo>
                  <a:pt x="13080" y="14585"/>
                  <a:pt x="13168" y="14595"/>
                  <a:pt x="13271" y="14610"/>
                </a:cubicBezTo>
                <a:cubicBezTo>
                  <a:pt x="13324" y="14618"/>
                  <a:pt x="13333" y="14613"/>
                  <a:pt x="13370" y="14585"/>
                </a:cubicBezTo>
                <a:cubicBezTo>
                  <a:pt x="13358" y="14635"/>
                  <a:pt x="13341" y="14681"/>
                  <a:pt x="13320" y="14734"/>
                </a:cubicBezTo>
                <a:cubicBezTo>
                  <a:pt x="13270" y="14862"/>
                  <a:pt x="13271" y="14946"/>
                  <a:pt x="13271" y="15081"/>
                </a:cubicBezTo>
                <a:cubicBezTo>
                  <a:pt x="13271" y="15117"/>
                  <a:pt x="13265" y="15319"/>
                  <a:pt x="13295" y="15329"/>
                </a:cubicBezTo>
                <a:cubicBezTo>
                  <a:pt x="13303" y="15321"/>
                  <a:pt x="13312" y="15312"/>
                  <a:pt x="13320" y="15304"/>
                </a:cubicBezTo>
              </a:path>
              <a:path w="5855" h="2878">
                <a:moveTo>
                  <a:pt x="13643" y="14610"/>
                </a:moveTo>
                <a:cubicBezTo>
                  <a:pt x="13766" y="14557"/>
                  <a:pt x="13859" y="14577"/>
                  <a:pt x="13965" y="14536"/>
                </a:cubicBezTo>
                <a:cubicBezTo>
                  <a:pt x="13973" y="14528"/>
                  <a:pt x="13982" y="14519"/>
                  <a:pt x="13990" y="14511"/>
                </a:cubicBezTo>
              </a:path>
              <a:path w="5855" h="2878">
                <a:moveTo>
                  <a:pt x="13667" y="14784"/>
                </a:moveTo>
                <a:cubicBezTo>
                  <a:pt x="13667" y="14930"/>
                  <a:pt x="13658" y="14978"/>
                  <a:pt x="13692" y="15081"/>
                </a:cubicBezTo>
                <a:cubicBezTo>
                  <a:pt x="13692" y="15106"/>
                  <a:pt x="13692" y="15114"/>
                  <a:pt x="13717" y="15106"/>
                </a:cubicBezTo>
                <a:cubicBezTo>
                  <a:pt x="13750" y="15095"/>
                  <a:pt x="13740" y="15092"/>
                  <a:pt x="13767" y="15056"/>
                </a:cubicBezTo>
              </a:path>
              <a:path w="5855" h="2878">
                <a:moveTo>
                  <a:pt x="13866" y="14660"/>
                </a:moveTo>
                <a:cubicBezTo>
                  <a:pt x="13874" y="14643"/>
                  <a:pt x="13883" y="14627"/>
                  <a:pt x="13891" y="14610"/>
                </a:cubicBezTo>
                <a:cubicBezTo>
                  <a:pt x="13904" y="14650"/>
                  <a:pt x="13915" y="14666"/>
                  <a:pt x="13915" y="14734"/>
                </a:cubicBezTo>
                <a:cubicBezTo>
                  <a:pt x="13915" y="14831"/>
                  <a:pt x="13942" y="14964"/>
                  <a:pt x="13965" y="15056"/>
                </a:cubicBezTo>
                <a:cubicBezTo>
                  <a:pt x="13979" y="15112"/>
                  <a:pt x="14027" y="15154"/>
                  <a:pt x="14039" y="15205"/>
                </a:cubicBezTo>
              </a:path>
              <a:path w="5855" h="2878">
                <a:moveTo>
                  <a:pt x="14412" y="14486"/>
                </a:moveTo>
                <a:cubicBezTo>
                  <a:pt x="14412" y="14548"/>
                  <a:pt x="14396" y="14573"/>
                  <a:pt x="14387" y="14635"/>
                </a:cubicBezTo>
                <a:cubicBezTo>
                  <a:pt x="14373" y="14733"/>
                  <a:pt x="14355" y="14835"/>
                  <a:pt x="14337" y="14932"/>
                </a:cubicBezTo>
                <a:cubicBezTo>
                  <a:pt x="14304" y="15106"/>
                  <a:pt x="14231" y="15278"/>
                  <a:pt x="14188" y="15453"/>
                </a:cubicBezTo>
                <a:cubicBezTo>
                  <a:pt x="14154" y="15592"/>
                  <a:pt x="14109" y="15717"/>
                  <a:pt x="14064" y="15850"/>
                </a:cubicBezTo>
                <a:cubicBezTo>
                  <a:pt x="14026" y="15964"/>
                  <a:pt x="14002" y="16083"/>
                  <a:pt x="13965" y="16197"/>
                </a:cubicBezTo>
                <a:cubicBezTo>
                  <a:pt x="13935" y="16289"/>
                  <a:pt x="13904" y="16382"/>
                  <a:pt x="13866" y="16470"/>
                </a:cubicBezTo>
                <a:cubicBezTo>
                  <a:pt x="13861" y="16482"/>
                  <a:pt x="13813" y="16568"/>
                  <a:pt x="13866" y="16545"/>
                </a:cubicBezTo>
                <a:cubicBezTo>
                  <a:pt x="13882" y="16528"/>
                  <a:pt x="13899" y="16512"/>
                  <a:pt x="13915" y="16495"/>
                </a:cubicBezTo>
              </a:path>
              <a:path w="5855" h="2878">
                <a:moveTo>
                  <a:pt x="14337" y="15850"/>
                </a:moveTo>
                <a:cubicBezTo>
                  <a:pt x="14321" y="15914"/>
                  <a:pt x="14317" y="15891"/>
                  <a:pt x="14337" y="15949"/>
                </a:cubicBezTo>
                <a:cubicBezTo>
                  <a:pt x="14362" y="16024"/>
                  <a:pt x="14360" y="16059"/>
                  <a:pt x="14436" y="16123"/>
                </a:cubicBezTo>
                <a:cubicBezTo>
                  <a:pt x="14477" y="16158"/>
                  <a:pt x="14553" y="16209"/>
                  <a:pt x="14610" y="16197"/>
                </a:cubicBezTo>
                <a:cubicBezTo>
                  <a:pt x="14664" y="16171"/>
                  <a:pt x="14684" y="16159"/>
                  <a:pt x="14709" y="16123"/>
                </a:cubicBezTo>
              </a:path>
              <a:path w="5855" h="2878">
                <a:moveTo>
                  <a:pt x="14808" y="15577"/>
                </a:moveTo>
                <a:cubicBezTo>
                  <a:pt x="14709" y="15591"/>
                  <a:pt x="14730" y="15655"/>
                  <a:pt x="14709" y="15751"/>
                </a:cubicBezTo>
                <a:cubicBezTo>
                  <a:pt x="14668" y="15938"/>
                  <a:pt x="14684" y="16130"/>
                  <a:pt x="14684" y="16321"/>
                </a:cubicBezTo>
                <a:cubicBezTo>
                  <a:pt x="14684" y="16591"/>
                  <a:pt x="14655" y="16847"/>
                  <a:pt x="14635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054160" y="2232000"/>
            <a:ext cx="4224240" cy="268200"/>
          </a:xfrm>
          <a:custGeom>
            <a:avLst/>
            <a:gdLst/>
            <a:ahLst/>
            <a:rect l="l" t="t" r="r" b="b"/>
            <a:pathLst>
              <a:path w="11734" h="745">
                <a:moveTo>
                  <a:pt x="17438" y="6921"/>
                </a:moveTo>
                <a:cubicBezTo>
                  <a:pt x="17245" y="6930"/>
                  <a:pt x="17084" y="6940"/>
                  <a:pt x="16892" y="6921"/>
                </a:cubicBezTo>
                <a:cubicBezTo>
                  <a:pt x="16701" y="6902"/>
                  <a:pt x="16513" y="6873"/>
                  <a:pt x="16321" y="6846"/>
                </a:cubicBezTo>
                <a:cubicBezTo>
                  <a:pt x="16064" y="6810"/>
                  <a:pt x="15807" y="6772"/>
                  <a:pt x="15553" y="6722"/>
                </a:cubicBezTo>
                <a:cubicBezTo>
                  <a:pt x="15240" y="6661"/>
                  <a:pt x="14925" y="6624"/>
                  <a:pt x="14610" y="6573"/>
                </a:cubicBezTo>
                <a:cubicBezTo>
                  <a:pt x="13971" y="6469"/>
                  <a:pt x="13319" y="6410"/>
                  <a:pt x="12675" y="6350"/>
                </a:cubicBezTo>
                <a:cubicBezTo>
                  <a:pt x="12179" y="6303"/>
                  <a:pt x="11683" y="6289"/>
                  <a:pt x="11187" y="6251"/>
                </a:cubicBezTo>
                <a:cubicBezTo>
                  <a:pt x="10791" y="6220"/>
                  <a:pt x="10393" y="6205"/>
                  <a:pt x="9996" y="6201"/>
                </a:cubicBezTo>
                <a:cubicBezTo>
                  <a:pt x="9119" y="6192"/>
                  <a:pt x="8242" y="6215"/>
                  <a:pt x="7367" y="6226"/>
                </a:cubicBezTo>
                <a:cubicBezTo>
                  <a:pt x="7092" y="6229"/>
                  <a:pt x="6821" y="6253"/>
                  <a:pt x="6548" y="6276"/>
                </a:cubicBezTo>
                <a:cubicBezTo>
                  <a:pt x="6334" y="6294"/>
                  <a:pt x="6120" y="6298"/>
                  <a:pt x="5904" y="6300"/>
                </a:cubicBezTo>
                <a:cubicBezTo>
                  <a:pt x="5829" y="6301"/>
                  <a:pt x="5805" y="6300"/>
                  <a:pt x="5730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  Cos x(Cos x – 1)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160720" y="1455840"/>
            <a:ext cx="635040" cy="839520"/>
          </a:xfrm>
          <a:custGeom>
            <a:avLst/>
            <a:gdLst/>
            <a:ahLst/>
            <a:rect l="l" t="t" r="r" b="b"/>
            <a:pathLst>
              <a:path w="1762" h="2333">
                <a:moveTo>
                  <a:pt x="7739" y="4068"/>
                </a:moveTo>
                <a:cubicBezTo>
                  <a:pt x="7691" y="4128"/>
                  <a:pt x="7685" y="4130"/>
                  <a:pt x="7640" y="4192"/>
                </a:cubicBezTo>
                <a:cubicBezTo>
                  <a:pt x="7567" y="4292"/>
                  <a:pt x="7490" y="4389"/>
                  <a:pt x="7417" y="4490"/>
                </a:cubicBezTo>
                <a:cubicBezTo>
                  <a:pt x="7318" y="4626"/>
                  <a:pt x="7224" y="4782"/>
                  <a:pt x="7119" y="4911"/>
                </a:cubicBezTo>
                <a:cubicBezTo>
                  <a:pt x="6994" y="5064"/>
                  <a:pt x="6886" y="5221"/>
                  <a:pt x="6772" y="5383"/>
                </a:cubicBezTo>
                <a:cubicBezTo>
                  <a:pt x="6650" y="5557"/>
                  <a:pt x="6521" y="5750"/>
                  <a:pt x="6375" y="5904"/>
                </a:cubicBezTo>
                <a:cubicBezTo>
                  <a:pt x="6332" y="5949"/>
                  <a:pt x="6305" y="5984"/>
                  <a:pt x="6276" y="6028"/>
                </a:cubicBezTo>
                <a:cubicBezTo>
                  <a:pt x="6263" y="6009"/>
                  <a:pt x="6236" y="5997"/>
                  <a:pt x="6226" y="5953"/>
                </a:cubicBezTo>
                <a:cubicBezTo>
                  <a:pt x="6226" y="5928"/>
                  <a:pt x="6226" y="5920"/>
                  <a:pt x="6226" y="5904"/>
                </a:cubicBezTo>
              </a:path>
              <a:path w="1762" h="2333">
                <a:moveTo>
                  <a:pt x="6127" y="5755"/>
                </a:moveTo>
                <a:cubicBezTo>
                  <a:pt x="6108" y="5862"/>
                  <a:pt x="6072" y="5949"/>
                  <a:pt x="6052" y="6052"/>
                </a:cubicBezTo>
                <a:cubicBezTo>
                  <a:pt x="6039" y="6121"/>
                  <a:pt x="6008" y="6181"/>
                  <a:pt x="6003" y="6251"/>
                </a:cubicBezTo>
                <a:cubicBezTo>
                  <a:pt x="6000" y="6293"/>
                  <a:pt x="5988" y="6350"/>
                  <a:pt x="6028" y="6375"/>
                </a:cubicBezTo>
                <a:cubicBezTo>
                  <a:pt x="6082" y="6410"/>
                  <a:pt x="6197" y="6334"/>
                  <a:pt x="6251" y="6325"/>
                </a:cubicBezTo>
                <a:cubicBezTo>
                  <a:pt x="6340" y="6309"/>
                  <a:pt x="6440" y="6279"/>
                  <a:pt x="6524" y="6251"/>
                </a:cubicBezTo>
                <a:cubicBezTo>
                  <a:pt x="6583" y="6231"/>
                  <a:pt x="6608" y="6226"/>
                  <a:pt x="6672" y="6226"/>
                </a:cubicBezTo>
                <a:cubicBezTo>
                  <a:pt x="6624" y="6226"/>
                  <a:pt x="6622" y="6230"/>
                  <a:pt x="6573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133640" y="2697120"/>
            <a:ext cx="2090520" cy="465120"/>
          </a:xfrm>
          <a:custGeom>
            <a:avLst/>
            <a:gdLst/>
            <a:ahLst/>
            <a:rect l="l" t="t" r="r" b="b"/>
            <a:pathLst>
              <a:path w="5805" h="1291">
                <a:moveTo>
                  <a:pt x="3746" y="7516"/>
                </a:moveTo>
                <a:cubicBezTo>
                  <a:pt x="3746" y="7590"/>
                  <a:pt x="3746" y="7665"/>
                  <a:pt x="3746" y="7739"/>
                </a:cubicBezTo>
                <a:cubicBezTo>
                  <a:pt x="3731" y="7698"/>
                  <a:pt x="3734" y="7659"/>
                  <a:pt x="3721" y="7615"/>
                </a:cubicBezTo>
                <a:cubicBezTo>
                  <a:pt x="3712" y="7584"/>
                  <a:pt x="3685" y="7502"/>
                  <a:pt x="3646" y="7491"/>
                </a:cubicBezTo>
                <a:cubicBezTo>
                  <a:pt x="3568" y="7468"/>
                  <a:pt x="3501" y="7518"/>
                  <a:pt x="3448" y="7565"/>
                </a:cubicBezTo>
                <a:cubicBezTo>
                  <a:pt x="3362" y="7642"/>
                  <a:pt x="3328" y="7716"/>
                  <a:pt x="3274" y="7813"/>
                </a:cubicBezTo>
                <a:cubicBezTo>
                  <a:pt x="3224" y="7903"/>
                  <a:pt x="3166" y="8006"/>
                  <a:pt x="3150" y="8111"/>
                </a:cubicBezTo>
                <a:cubicBezTo>
                  <a:pt x="3135" y="8214"/>
                  <a:pt x="3161" y="8315"/>
                  <a:pt x="3200" y="8409"/>
                </a:cubicBezTo>
                <a:cubicBezTo>
                  <a:pt x="3236" y="8496"/>
                  <a:pt x="3320" y="8538"/>
                  <a:pt x="3398" y="8582"/>
                </a:cubicBezTo>
                <a:cubicBezTo>
                  <a:pt x="3462" y="8618"/>
                  <a:pt x="3573" y="8622"/>
                  <a:pt x="3646" y="8607"/>
                </a:cubicBezTo>
                <a:cubicBezTo>
                  <a:pt x="3742" y="8575"/>
                  <a:pt x="3785" y="8556"/>
                  <a:pt x="3845" y="8508"/>
                </a:cubicBezTo>
              </a:path>
              <a:path w="5805" h="1291">
                <a:moveTo>
                  <a:pt x="4266" y="7789"/>
                </a:moveTo>
                <a:cubicBezTo>
                  <a:pt x="4224" y="7875"/>
                  <a:pt x="4202" y="7951"/>
                  <a:pt x="4167" y="8037"/>
                </a:cubicBezTo>
                <a:cubicBezTo>
                  <a:pt x="4131" y="8126"/>
                  <a:pt x="4122" y="8239"/>
                  <a:pt x="4118" y="8334"/>
                </a:cubicBezTo>
                <a:cubicBezTo>
                  <a:pt x="4114" y="8428"/>
                  <a:pt x="4180" y="8517"/>
                  <a:pt x="4266" y="8558"/>
                </a:cubicBezTo>
                <a:cubicBezTo>
                  <a:pt x="4325" y="8586"/>
                  <a:pt x="4464" y="8542"/>
                  <a:pt x="4514" y="8508"/>
                </a:cubicBezTo>
                <a:cubicBezTo>
                  <a:pt x="4578" y="8465"/>
                  <a:pt x="4672" y="8361"/>
                  <a:pt x="4688" y="8285"/>
                </a:cubicBezTo>
                <a:cubicBezTo>
                  <a:pt x="4705" y="8202"/>
                  <a:pt x="4695" y="8087"/>
                  <a:pt x="4663" y="8012"/>
                </a:cubicBezTo>
                <a:cubicBezTo>
                  <a:pt x="4623" y="7918"/>
                  <a:pt x="4591" y="7917"/>
                  <a:pt x="4514" y="7863"/>
                </a:cubicBezTo>
                <a:cubicBezTo>
                  <a:pt x="4459" y="7824"/>
                  <a:pt x="4436" y="7813"/>
                  <a:pt x="4366" y="7813"/>
                </a:cubicBezTo>
                <a:cubicBezTo>
                  <a:pt x="4300" y="7813"/>
                  <a:pt x="4316" y="7874"/>
                  <a:pt x="4366" y="7888"/>
                </a:cubicBezTo>
                <a:cubicBezTo>
                  <a:pt x="4382" y="7888"/>
                  <a:pt x="4399" y="7888"/>
                  <a:pt x="4415" y="7888"/>
                </a:cubicBezTo>
              </a:path>
              <a:path w="5805" h="1291">
                <a:moveTo>
                  <a:pt x="5358" y="7714"/>
                </a:moveTo>
                <a:cubicBezTo>
                  <a:pt x="5260" y="7736"/>
                  <a:pt x="5152" y="7759"/>
                  <a:pt x="5060" y="7789"/>
                </a:cubicBezTo>
                <a:cubicBezTo>
                  <a:pt x="5007" y="7806"/>
                  <a:pt x="4974" y="7850"/>
                  <a:pt x="4936" y="7888"/>
                </a:cubicBezTo>
                <a:cubicBezTo>
                  <a:pt x="4983" y="7935"/>
                  <a:pt x="5035" y="7948"/>
                  <a:pt x="5085" y="7987"/>
                </a:cubicBezTo>
                <a:cubicBezTo>
                  <a:pt x="5163" y="8047"/>
                  <a:pt x="5264" y="8086"/>
                  <a:pt x="5333" y="8161"/>
                </a:cubicBezTo>
                <a:cubicBezTo>
                  <a:pt x="5382" y="8214"/>
                  <a:pt x="5484" y="8331"/>
                  <a:pt x="5407" y="8409"/>
                </a:cubicBezTo>
                <a:cubicBezTo>
                  <a:pt x="5360" y="8457"/>
                  <a:pt x="5244" y="8487"/>
                  <a:pt x="5184" y="8508"/>
                </a:cubicBezTo>
                <a:cubicBezTo>
                  <a:pt x="5095" y="8539"/>
                  <a:pt x="5041" y="8542"/>
                  <a:pt x="4961" y="8533"/>
                </a:cubicBezTo>
                <a:cubicBezTo>
                  <a:pt x="4861" y="8522"/>
                  <a:pt x="4932" y="8489"/>
                  <a:pt x="4986" y="8458"/>
                </a:cubicBezTo>
              </a:path>
              <a:path w="5805" h="1291">
                <a:moveTo>
                  <a:pt x="6226" y="7789"/>
                </a:moveTo>
                <a:cubicBezTo>
                  <a:pt x="6284" y="7932"/>
                  <a:pt x="6338" y="8037"/>
                  <a:pt x="6424" y="8161"/>
                </a:cubicBezTo>
                <a:cubicBezTo>
                  <a:pt x="6489" y="8255"/>
                  <a:pt x="6567" y="8328"/>
                  <a:pt x="6648" y="8409"/>
                </a:cubicBezTo>
                <a:cubicBezTo>
                  <a:pt x="6706" y="8467"/>
                  <a:pt x="6763" y="8525"/>
                  <a:pt x="6821" y="8582"/>
                </a:cubicBezTo>
                <a:cubicBezTo>
                  <a:pt x="6821" y="8511"/>
                  <a:pt x="6804" y="8473"/>
                  <a:pt x="6772" y="8409"/>
                </a:cubicBezTo>
              </a:path>
              <a:path w="5805" h="1291">
                <a:moveTo>
                  <a:pt x="6697" y="7863"/>
                </a:moveTo>
                <a:cubicBezTo>
                  <a:pt x="6670" y="8012"/>
                  <a:pt x="6600" y="8058"/>
                  <a:pt x="6499" y="8186"/>
                </a:cubicBezTo>
                <a:cubicBezTo>
                  <a:pt x="6415" y="8293"/>
                  <a:pt x="6326" y="8368"/>
                  <a:pt x="6226" y="8458"/>
                </a:cubicBezTo>
                <a:cubicBezTo>
                  <a:pt x="6141" y="8534"/>
                  <a:pt x="6066" y="8611"/>
                  <a:pt x="5978" y="8682"/>
                </a:cubicBezTo>
                <a:cubicBezTo>
                  <a:pt x="5933" y="8718"/>
                  <a:pt x="5907" y="8742"/>
                  <a:pt x="5879" y="8781"/>
                </a:cubicBezTo>
                <a:cubicBezTo>
                  <a:pt x="5860" y="8808"/>
                  <a:pt x="5890" y="8770"/>
                  <a:pt x="5904" y="8756"/>
                </a:cubicBezTo>
              </a:path>
              <a:path w="5805" h="1291">
                <a:moveTo>
                  <a:pt x="7169" y="8062"/>
                </a:moveTo>
                <a:cubicBezTo>
                  <a:pt x="7263" y="8070"/>
                  <a:pt x="7343" y="8086"/>
                  <a:pt x="7441" y="8086"/>
                </a:cubicBezTo>
                <a:cubicBezTo>
                  <a:pt x="7540" y="8086"/>
                  <a:pt x="7640" y="8086"/>
                  <a:pt x="7739" y="8086"/>
                </a:cubicBezTo>
                <a:cubicBezTo>
                  <a:pt x="7691" y="8110"/>
                  <a:pt x="7677" y="8118"/>
                  <a:pt x="7640" y="8111"/>
                </a:cubicBezTo>
              </a:path>
              <a:path w="5805" h="1291">
                <a:moveTo>
                  <a:pt x="7218" y="8285"/>
                </a:moveTo>
                <a:cubicBezTo>
                  <a:pt x="7288" y="8311"/>
                  <a:pt x="7341" y="8310"/>
                  <a:pt x="7417" y="8310"/>
                </a:cubicBezTo>
                <a:cubicBezTo>
                  <a:pt x="7502" y="8310"/>
                  <a:pt x="7563" y="8314"/>
                  <a:pt x="7640" y="8285"/>
                </a:cubicBezTo>
              </a:path>
              <a:path w="5805" h="1291">
                <a:moveTo>
                  <a:pt x="8310" y="7863"/>
                </a:moveTo>
                <a:cubicBezTo>
                  <a:pt x="8268" y="7905"/>
                  <a:pt x="8241" y="7937"/>
                  <a:pt x="8210" y="7987"/>
                </a:cubicBezTo>
                <a:cubicBezTo>
                  <a:pt x="8158" y="8070"/>
                  <a:pt x="8101" y="8161"/>
                  <a:pt x="8086" y="8260"/>
                </a:cubicBezTo>
                <a:cubicBezTo>
                  <a:pt x="8069" y="8370"/>
                  <a:pt x="8093" y="8462"/>
                  <a:pt x="8161" y="8533"/>
                </a:cubicBezTo>
                <a:cubicBezTo>
                  <a:pt x="8234" y="8610"/>
                  <a:pt x="8305" y="8629"/>
                  <a:pt x="8409" y="8632"/>
                </a:cubicBezTo>
                <a:cubicBezTo>
                  <a:pt x="8535" y="8636"/>
                  <a:pt x="8626" y="8599"/>
                  <a:pt x="8731" y="8533"/>
                </a:cubicBezTo>
                <a:cubicBezTo>
                  <a:pt x="8841" y="8464"/>
                  <a:pt x="8888" y="8432"/>
                  <a:pt x="8930" y="8310"/>
                </a:cubicBezTo>
                <a:cubicBezTo>
                  <a:pt x="8965" y="8208"/>
                  <a:pt x="8930" y="8083"/>
                  <a:pt x="8880" y="7987"/>
                </a:cubicBezTo>
                <a:cubicBezTo>
                  <a:pt x="8837" y="7905"/>
                  <a:pt x="8738" y="7807"/>
                  <a:pt x="8657" y="7764"/>
                </a:cubicBezTo>
                <a:cubicBezTo>
                  <a:pt x="8575" y="7720"/>
                  <a:pt x="8500" y="7714"/>
                  <a:pt x="8409" y="7714"/>
                </a:cubicBezTo>
                <a:cubicBezTo>
                  <a:pt x="8356" y="7714"/>
                  <a:pt x="8349" y="7715"/>
                  <a:pt x="8334" y="7764"/>
                </a:cubicBezTo>
                <a:cubicBezTo>
                  <a:pt x="8334" y="7789"/>
                  <a:pt x="8334" y="7797"/>
                  <a:pt x="8334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660840" y="2813040"/>
            <a:ext cx="447480" cy="25884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10393" y="8037"/>
                </a:moveTo>
                <a:cubicBezTo>
                  <a:pt x="10316" y="8136"/>
                  <a:pt x="10209" y="8236"/>
                  <a:pt x="10170" y="8359"/>
                </a:cubicBezTo>
                <a:cubicBezTo>
                  <a:pt x="10140" y="8454"/>
                  <a:pt x="10199" y="8473"/>
                  <a:pt x="10269" y="8508"/>
                </a:cubicBezTo>
                <a:cubicBezTo>
                  <a:pt x="10336" y="8542"/>
                  <a:pt x="10443" y="8510"/>
                  <a:pt x="10517" y="8483"/>
                </a:cubicBezTo>
                <a:cubicBezTo>
                  <a:pt x="10575" y="8462"/>
                  <a:pt x="10630" y="8371"/>
                  <a:pt x="10641" y="8310"/>
                </a:cubicBezTo>
                <a:cubicBezTo>
                  <a:pt x="10652" y="8248"/>
                  <a:pt x="10621" y="8150"/>
                  <a:pt x="10567" y="8111"/>
                </a:cubicBezTo>
                <a:cubicBezTo>
                  <a:pt x="10511" y="8071"/>
                  <a:pt x="10459" y="8062"/>
                  <a:pt x="10393" y="8062"/>
                </a:cubicBezTo>
                <a:cubicBezTo>
                  <a:pt x="10331" y="8062"/>
                  <a:pt x="10456" y="8097"/>
                  <a:pt x="10517" y="8111"/>
                </a:cubicBezTo>
              </a:path>
              <a:path w="1241" h="721">
                <a:moveTo>
                  <a:pt x="10889" y="8285"/>
                </a:moveTo>
                <a:cubicBezTo>
                  <a:pt x="10924" y="8411"/>
                  <a:pt x="10939" y="8433"/>
                  <a:pt x="10939" y="8533"/>
                </a:cubicBezTo>
                <a:cubicBezTo>
                  <a:pt x="10897" y="8512"/>
                  <a:pt x="10868" y="8466"/>
                  <a:pt x="10864" y="8409"/>
                </a:cubicBezTo>
                <a:cubicBezTo>
                  <a:pt x="10858" y="8319"/>
                  <a:pt x="10909" y="8229"/>
                  <a:pt x="10964" y="8161"/>
                </a:cubicBezTo>
                <a:cubicBezTo>
                  <a:pt x="11032" y="8076"/>
                  <a:pt x="11123" y="8021"/>
                  <a:pt x="11212" y="7962"/>
                </a:cubicBezTo>
                <a:cubicBezTo>
                  <a:pt x="11284" y="7914"/>
                  <a:pt x="11347" y="7870"/>
                  <a:pt x="11410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803840" y="1465200"/>
            <a:ext cx="2455920" cy="1633680"/>
          </a:xfrm>
          <a:custGeom>
            <a:avLst/>
            <a:gdLst/>
            <a:ahLst/>
            <a:rect l="l" t="t" r="r" b="b"/>
            <a:pathLst>
              <a:path w="6822" h="4540">
                <a:moveTo>
                  <a:pt x="13345" y="4068"/>
                </a:moveTo>
                <a:cubicBezTo>
                  <a:pt x="13397" y="4159"/>
                  <a:pt x="13445" y="4248"/>
                  <a:pt x="13494" y="4341"/>
                </a:cubicBezTo>
                <a:cubicBezTo>
                  <a:pt x="13575" y="4494"/>
                  <a:pt x="13648" y="4654"/>
                  <a:pt x="13717" y="4812"/>
                </a:cubicBezTo>
                <a:cubicBezTo>
                  <a:pt x="13826" y="5060"/>
                  <a:pt x="13924" y="5310"/>
                  <a:pt x="14039" y="5556"/>
                </a:cubicBezTo>
                <a:cubicBezTo>
                  <a:pt x="14130" y="5751"/>
                  <a:pt x="14193" y="5961"/>
                  <a:pt x="14288" y="6152"/>
                </a:cubicBezTo>
                <a:cubicBezTo>
                  <a:pt x="14357" y="6290"/>
                  <a:pt x="14418" y="6473"/>
                  <a:pt x="14511" y="6598"/>
                </a:cubicBezTo>
                <a:cubicBezTo>
                  <a:pt x="14569" y="6676"/>
                  <a:pt x="14630" y="6741"/>
                  <a:pt x="14684" y="6821"/>
                </a:cubicBezTo>
                <a:cubicBezTo>
                  <a:pt x="14707" y="6844"/>
                  <a:pt x="14715" y="6848"/>
                  <a:pt x="14709" y="6871"/>
                </a:cubicBezTo>
              </a:path>
              <a:path w="6822" h="4540">
                <a:moveTo>
                  <a:pt x="14114" y="6846"/>
                </a:moveTo>
                <a:cubicBezTo>
                  <a:pt x="14177" y="6985"/>
                  <a:pt x="14241" y="6967"/>
                  <a:pt x="14362" y="7045"/>
                </a:cubicBezTo>
                <a:cubicBezTo>
                  <a:pt x="14434" y="7091"/>
                  <a:pt x="14495" y="7150"/>
                  <a:pt x="14585" y="7169"/>
                </a:cubicBezTo>
                <a:cubicBezTo>
                  <a:pt x="14637" y="7180"/>
                  <a:pt x="14685" y="7198"/>
                  <a:pt x="14734" y="7169"/>
                </a:cubicBezTo>
                <a:cubicBezTo>
                  <a:pt x="14783" y="7140"/>
                  <a:pt x="14809" y="7044"/>
                  <a:pt x="14833" y="6995"/>
                </a:cubicBezTo>
                <a:cubicBezTo>
                  <a:pt x="14875" y="6910"/>
                  <a:pt x="14902" y="6847"/>
                  <a:pt x="14957" y="6772"/>
                </a:cubicBezTo>
                <a:cubicBezTo>
                  <a:pt x="15014" y="6694"/>
                  <a:pt x="15031" y="6627"/>
                  <a:pt x="15106" y="6573"/>
                </a:cubicBezTo>
              </a:path>
              <a:path w="6822" h="4540">
                <a:moveTo>
                  <a:pt x="14833" y="7838"/>
                </a:moveTo>
                <a:cubicBezTo>
                  <a:pt x="14856" y="7861"/>
                  <a:pt x="14864" y="7865"/>
                  <a:pt x="14858" y="7888"/>
                </a:cubicBezTo>
                <a:cubicBezTo>
                  <a:pt x="14848" y="7850"/>
                  <a:pt x="14835" y="7820"/>
                  <a:pt x="14808" y="7789"/>
                </a:cubicBezTo>
                <a:cubicBezTo>
                  <a:pt x="14757" y="7731"/>
                  <a:pt x="14766" y="7694"/>
                  <a:pt x="14684" y="7689"/>
                </a:cubicBezTo>
                <a:cubicBezTo>
                  <a:pt x="14606" y="7684"/>
                  <a:pt x="14564" y="7701"/>
                  <a:pt x="14511" y="7764"/>
                </a:cubicBezTo>
                <a:cubicBezTo>
                  <a:pt x="14422" y="7868"/>
                  <a:pt x="14367" y="7925"/>
                  <a:pt x="14362" y="8062"/>
                </a:cubicBezTo>
                <a:cubicBezTo>
                  <a:pt x="14359" y="8155"/>
                  <a:pt x="14351" y="8249"/>
                  <a:pt x="14387" y="8334"/>
                </a:cubicBezTo>
                <a:cubicBezTo>
                  <a:pt x="14436" y="8451"/>
                  <a:pt x="14520" y="8453"/>
                  <a:pt x="14635" y="8458"/>
                </a:cubicBezTo>
                <a:cubicBezTo>
                  <a:pt x="14707" y="8461"/>
                  <a:pt x="14800" y="8429"/>
                  <a:pt x="14858" y="8384"/>
                </a:cubicBezTo>
                <a:cubicBezTo>
                  <a:pt x="14908" y="8334"/>
                  <a:pt x="14924" y="8318"/>
                  <a:pt x="14957" y="8285"/>
                </a:cubicBezTo>
              </a:path>
              <a:path w="6822" h="4540">
                <a:moveTo>
                  <a:pt x="15081" y="7888"/>
                </a:moveTo>
                <a:cubicBezTo>
                  <a:pt x="15053" y="7985"/>
                  <a:pt x="14978" y="8149"/>
                  <a:pt x="15007" y="8260"/>
                </a:cubicBezTo>
                <a:cubicBezTo>
                  <a:pt x="15029" y="8342"/>
                  <a:pt x="15071" y="8364"/>
                  <a:pt x="15131" y="8409"/>
                </a:cubicBezTo>
                <a:cubicBezTo>
                  <a:pt x="15191" y="8454"/>
                  <a:pt x="15259" y="8436"/>
                  <a:pt x="15329" y="8409"/>
                </a:cubicBezTo>
                <a:cubicBezTo>
                  <a:pt x="15430" y="8370"/>
                  <a:pt x="15508" y="8251"/>
                  <a:pt x="15553" y="8161"/>
                </a:cubicBezTo>
                <a:cubicBezTo>
                  <a:pt x="15592" y="8083"/>
                  <a:pt x="15581" y="8006"/>
                  <a:pt x="15528" y="7938"/>
                </a:cubicBezTo>
                <a:cubicBezTo>
                  <a:pt x="15483" y="7881"/>
                  <a:pt x="15353" y="7832"/>
                  <a:pt x="15280" y="7838"/>
                </a:cubicBezTo>
                <a:cubicBezTo>
                  <a:pt x="15220" y="7843"/>
                  <a:pt x="15078" y="7861"/>
                  <a:pt x="15032" y="7913"/>
                </a:cubicBezTo>
                <a:cubicBezTo>
                  <a:pt x="14981" y="7972"/>
                  <a:pt x="15109" y="7984"/>
                  <a:pt x="15131" y="7987"/>
                </a:cubicBezTo>
              </a:path>
              <a:path w="6822" h="4540">
                <a:moveTo>
                  <a:pt x="15999" y="7789"/>
                </a:moveTo>
                <a:cubicBezTo>
                  <a:pt x="15908" y="7796"/>
                  <a:pt x="15813" y="7805"/>
                  <a:pt x="15726" y="7838"/>
                </a:cubicBezTo>
                <a:cubicBezTo>
                  <a:pt x="15677" y="7863"/>
                  <a:pt x="15660" y="7872"/>
                  <a:pt x="15627" y="7888"/>
                </a:cubicBezTo>
                <a:cubicBezTo>
                  <a:pt x="15640" y="7954"/>
                  <a:pt x="15671" y="8017"/>
                  <a:pt x="15726" y="8062"/>
                </a:cubicBezTo>
                <a:cubicBezTo>
                  <a:pt x="15801" y="8123"/>
                  <a:pt x="15931" y="8195"/>
                  <a:pt x="15974" y="8285"/>
                </a:cubicBezTo>
                <a:cubicBezTo>
                  <a:pt x="16002" y="8343"/>
                  <a:pt x="16004" y="8411"/>
                  <a:pt x="15925" y="8434"/>
                </a:cubicBezTo>
                <a:cubicBezTo>
                  <a:pt x="15849" y="8456"/>
                  <a:pt x="15738" y="8426"/>
                  <a:pt x="15677" y="8409"/>
                </a:cubicBezTo>
                <a:cubicBezTo>
                  <a:pt x="15608" y="8390"/>
                  <a:pt x="15695" y="8352"/>
                  <a:pt x="15726" y="8334"/>
                </a:cubicBezTo>
              </a:path>
              <a:path w="6822" h="4540">
                <a:moveTo>
                  <a:pt x="16446" y="7789"/>
                </a:moveTo>
                <a:cubicBezTo>
                  <a:pt x="16499" y="7909"/>
                  <a:pt x="16549" y="8026"/>
                  <a:pt x="16619" y="8136"/>
                </a:cubicBezTo>
                <a:cubicBezTo>
                  <a:pt x="16676" y="8226"/>
                  <a:pt x="16743" y="8318"/>
                  <a:pt x="16818" y="8384"/>
                </a:cubicBezTo>
                <a:cubicBezTo>
                  <a:pt x="16876" y="8435"/>
                  <a:pt x="16965" y="8488"/>
                  <a:pt x="16991" y="8458"/>
                </a:cubicBezTo>
                <a:cubicBezTo>
                  <a:pt x="17021" y="8429"/>
                  <a:pt x="17026" y="8415"/>
                  <a:pt x="16991" y="8384"/>
                </a:cubicBezTo>
              </a:path>
              <a:path w="6822" h="4540">
                <a:moveTo>
                  <a:pt x="16867" y="7789"/>
                </a:moveTo>
                <a:cubicBezTo>
                  <a:pt x="16729" y="7968"/>
                  <a:pt x="16592" y="8141"/>
                  <a:pt x="16446" y="8310"/>
                </a:cubicBezTo>
                <a:cubicBezTo>
                  <a:pt x="16409" y="8353"/>
                  <a:pt x="16352" y="8402"/>
                  <a:pt x="16346" y="8458"/>
                </a:cubicBezTo>
                <a:cubicBezTo>
                  <a:pt x="16339" y="8521"/>
                  <a:pt x="16425" y="8445"/>
                  <a:pt x="16446" y="8434"/>
                </a:cubicBezTo>
              </a:path>
              <a:path w="6822" h="4540">
                <a:moveTo>
                  <a:pt x="17090" y="8136"/>
                </a:moveTo>
                <a:cubicBezTo>
                  <a:pt x="17219" y="8136"/>
                  <a:pt x="17335" y="8116"/>
                  <a:pt x="17462" y="8111"/>
                </a:cubicBezTo>
                <a:cubicBezTo>
                  <a:pt x="17580" y="8107"/>
                  <a:pt x="17671" y="8096"/>
                  <a:pt x="17785" y="8062"/>
                </a:cubicBezTo>
              </a:path>
              <a:path w="6822" h="4540">
                <a:moveTo>
                  <a:pt x="17983" y="7590"/>
                </a:moveTo>
                <a:cubicBezTo>
                  <a:pt x="17961" y="7706"/>
                  <a:pt x="17955" y="7823"/>
                  <a:pt x="17934" y="7938"/>
                </a:cubicBezTo>
                <a:cubicBezTo>
                  <a:pt x="17911" y="8061"/>
                  <a:pt x="17889" y="8185"/>
                  <a:pt x="17884" y="8310"/>
                </a:cubicBezTo>
                <a:cubicBezTo>
                  <a:pt x="17881" y="8404"/>
                  <a:pt x="17887" y="8472"/>
                  <a:pt x="17909" y="8558"/>
                </a:cubicBezTo>
                <a:cubicBezTo>
                  <a:pt x="17926" y="8624"/>
                  <a:pt x="17953" y="8546"/>
                  <a:pt x="17983" y="8508"/>
                </a:cubicBezTo>
              </a:path>
              <a:path w="6822" h="4540">
                <a:moveTo>
                  <a:pt x="18479" y="8062"/>
                </a:moveTo>
                <a:cubicBezTo>
                  <a:pt x="18608" y="8049"/>
                  <a:pt x="18767" y="8061"/>
                  <a:pt x="18876" y="7987"/>
                </a:cubicBezTo>
              </a:path>
              <a:path w="6822" h="4540">
                <a:moveTo>
                  <a:pt x="18504" y="8260"/>
                </a:moveTo>
                <a:cubicBezTo>
                  <a:pt x="18604" y="8280"/>
                  <a:pt x="18723" y="8304"/>
                  <a:pt x="18827" y="8285"/>
                </a:cubicBezTo>
                <a:cubicBezTo>
                  <a:pt x="18901" y="8260"/>
                  <a:pt x="18926" y="8251"/>
                  <a:pt x="18976" y="8235"/>
                </a:cubicBezTo>
              </a:path>
              <a:path w="6822" h="4540">
                <a:moveTo>
                  <a:pt x="19422" y="7764"/>
                </a:moveTo>
                <a:cubicBezTo>
                  <a:pt x="19351" y="7912"/>
                  <a:pt x="19280" y="8024"/>
                  <a:pt x="19273" y="8186"/>
                </a:cubicBezTo>
                <a:cubicBezTo>
                  <a:pt x="19268" y="8291"/>
                  <a:pt x="19329" y="8385"/>
                  <a:pt x="19397" y="8458"/>
                </a:cubicBezTo>
                <a:cubicBezTo>
                  <a:pt x="19462" y="8527"/>
                  <a:pt x="19533" y="8552"/>
                  <a:pt x="19621" y="8582"/>
                </a:cubicBezTo>
                <a:cubicBezTo>
                  <a:pt x="19748" y="8626"/>
                  <a:pt x="19888" y="8590"/>
                  <a:pt x="19993" y="8508"/>
                </a:cubicBezTo>
                <a:cubicBezTo>
                  <a:pt x="20083" y="8438"/>
                  <a:pt x="20106" y="8364"/>
                  <a:pt x="20141" y="8260"/>
                </a:cubicBezTo>
                <a:cubicBezTo>
                  <a:pt x="20171" y="8171"/>
                  <a:pt x="20187" y="8073"/>
                  <a:pt x="20141" y="7987"/>
                </a:cubicBezTo>
                <a:cubicBezTo>
                  <a:pt x="20090" y="7893"/>
                  <a:pt x="20044" y="7831"/>
                  <a:pt x="19943" y="7789"/>
                </a:cubicBezTo>
                <a:cubicBezTo>
                  <a:pt x="19889" y="7767"/>
                  <a:pt x="19808" y="7721"/>
                  <a:pt x="19745" y="7739"/>
                </a:cubicBezTo>
                <a:cubicBezTo>
                  <a:pt x="19705" y="7751"/>
                  <a:pt x="19693" y="7781"/>
                  <a:pt x="19670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000840" y="3313080"/>
            <a:ext cx="206280" cy="231840"/>
          </a:xfrm>
          <a:custGeom>
            <a:avLst/>
            <a:gdLst/>
            <a:ahLst/>
            <a:rect l="l" t="t" r="r" b="b"/>
            <a:pathLst>
              <a:path w="571" h="645">
                <a:moveTo>
                  <a:pt x="16966" y="9203"/>
                </a:moveTo>
                <a:cubicBezTo>
                  <a:pt x="16966" y="9377"/>
                  <a:pt x="16989" y="9497"/>
                  <a:pt x="17016" y="9674"/>
                </a:cubicBezTo>
                <a:cubicBezTo>
                  <a:pt x="17025" y="9735"/>
                  <a:pt x="17029" y="9788"/>
                  <a:pt x="17041" y="9847"/>
                </a:cubicBezTo>
              </a:path>
              <a:path w="571" h="645">
                <a:moveTo>
                  <a:pt x="16669" y="9475"/>
                </a:moveTo>
                <a:cubicBezTo>
                  <a:pt x="16734" y="9524"/>
                  <a:pt x="16804" y="9541"/>
                  <a:pt x="16892" y="9550"/>
                </a:cubicBezTo>
                <a:cubicBezTo>
                  <a:pt x="17009" y="9561"/>
                  <a:pt x="17127" y="9551"/>
                  <a:pt x="17239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02240" y="3348000"/>
            <a:ext cx="27000" cy="206280"/>
          </a:xfrm>
          <a:custGeom>
            <a:avLst/>
            <a:gdLst/>
            <a:ahLst/>
            <a:rect l="l" t="t" r="r" b="b"/>
            <a:pathLst>
              <a:path w="75" h="571">
                <a:moveTo>
                  <a:pt x="17835" y="9302"/>
                </a:moveTo>
                <a:cubicBezTo>
                  <a:pt x="17819" y="9416"/>
                  <a:pt x="17790" y="9536"/>
                  <a:pt x="17785" y="9649"/>
                </a:cubicBezTo>
                <a:cubicBezTo>
                  <a:pt x="17783" y="9698"/>
                  <a:pt x="17764" y="9865"/>
                  <a:pt x="17810" y="9872"/>
                </a:cubicBezTo>
                <a:cubicBezTo>
                  <a:pt x="17826" y="9872"/>
                  <a:pt x="17843" y="9872"/>
                  <a:pt x="17859" y="98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956280" y="3340080"/>
            <a:ext cx="28584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19521" y="9575"/>
                </a:moveTo>
                <a:cubicBezTo>
                  <a:pt x="19508" y="9628"/>
                  <a:pt x="19434" y="9819"/>
                  <a:pt x="19472" y="9897"/>
                </a:cubicBezTo>
                <a:cubicBezTo>
                  <a:pt x="19494" y="9920"/>
                  <a:pt x="19502" y="9925"/>
                  <a:pt x="19496" y="9947"/>
                </a:cubicBezTo>
              </a:path>
              <a:path w="795" h="770">
                <a:moveTo>
                  <a:pt x="19323" y="9624"/>
                </a:moveTo>
                <a:cubicBezTo>
                  <a:pt x="19425" y="9650"/>
                  <a:pt x="19515" y="9649"/>
                  <a:pt x="19621" y="9649"/>
                </a:cubicBezTo>
                <a:cubicBezTo>
                  <a:pt x="19696" y="9649"/>
                  <a:pt x="19722" y="9649"/>
                  <a:pt x="19769" y="9624"/>
                </a:cubicBezTo>
              </a:path>
              <a:path w="795" h="770">
                <a:moveTo>
                  <a:pt x="20092" y="9277"/>
                </a:moveTo>
                <a:cubicBezTo>
                  <a:pt x="20092" y="9478"/>
                  <a:pt x="20093" y="9680"/>
                  <a:pt x="20117" y="9872"/>
                </a:cubicBezTo>
                <a:cubicBezTo>
                  <a:pt x="20126" y="9944"/>
                  <a:pt x="20116" y="9983"/>
                  <a:pt x="20092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84200" y="3705120"/>
            <a:ext cx="1679760" cy="590760"/>
          </a:xfrm>
          <a:custGeom>
            <a:avLst/>
            <a:gdLst/>
            <a:ahLst/>
            <a:rect l="l" t="t" r="r" b="b"/>
            <a:pathLst>
              <a:path w="4664" h="1638">
                <a:moveTo>
                  <a:pt x="3944" y="10368"/>
                </a:moveTo>
                <a:cubicBezTo>
                  <a:pt x="3944" y="10443"/>
                  <a:pt x="3968" y="10474"/>
                  <a:pt x="3994" y="10542"/>
                </a:cubicBezTo>
                <a:cubicBezTo>
                  <a:pt x="4038" y="10657"/>
                  <a:pt x="4115" y="10753"/>
                  <a:pt x="4167" y="10864"/>
                </a:cubicBezTo>
                <a:cubicBezTo>
                  <a:pt x="4240" y="11022"/>
                  <a:pt x="4309" y="11118"/>
                  <a:pt x="4440" y="11237"/>
                </a:cubicBezTo>
                <a:cubicBezTo>
                  <a:pt x="4442" y="11239"/>
                  <a:pt x="4570" y="11357"/>
                  <a:pt x="4589" y="11311"/>
                </a:cubicBezTo>
                <a:cubicBezTo>
                  <a:pt x="4589" y="11270"/>
                  <a:pt x="4589" y="11262"/>
                  <a:pt x="4589" y="11237"/>
                </a:cubicBezTo>
              </a:path>
              <a:path w="4664" h="1638">
                <a:moveTo>
                  <a:pt x="4366" y="10443"/>
                </a:moveTo>
                <a:cubicBezTo>
                  <a:pt x="4260" y="10698"/>
                  <a:pt x="4095" y="10903"/>
                  <a:pt x="3969" y="11137"/>
                </a:cubicBezTo>
                <a:cubicBezTo>
                  <a:pt x="3944" y="11184"/>
                  <a:pt x="3929" y="11260"/>
                  <a:pt x="3870" y="11286"/>
                </a:cubicBezTo>
                <a:cubicBezTo>
                  <a:pt x="3862" y="11286"/>
                  <a:pt x="3853" y="11286"/>
                  <a:pt x="3845" y="11286"/>
                </a:cubicBezTo>
                <a:cubicBezTo>
                  <a:pt x="3880" y="11240"/>
                  <a:pt x="3911" y="11191"/>
                  <a:pt x="3944" y="11137"/>
                </a:cubicBezTo>
              </a:path>
              <a:path w="4664" h="1638">
                <a:moveTo>
                  <a:pt x="4614" y="10765"/>
                </a:moveTo>
                <a:cubicBezTo>
                  <a:pt x="4733" y="10760"/>
                  <a:pt x="4823" y="10740"/>
                  <a:pt x="4936" y="10740"/>
                </a:cubicBezTo>
                <a:cubicBezTo>
                  <a:pt x="4944" y="10740"/>
                  <a:pt x="4953" y="10740"/>
                  <a:pt x="4961" y="10740"/>
                </a:cubicBezTo>
              </a:path>
              <a:path w="4664" h="1638">
                <a:moveTo>
                  <a:pt x="4663" y="10939"/>
                </a:moveTo>
                <a:cubicBezTo>
                  <a:pt x="4724" y="10962"/>
                  <a:pt x="4794" y="10979"/>
                  <a:pt x="4862" y="10964"/>
                </a:cubicBezTo>
                <a:cubicBezTo>
                  <a:pt x="4944" y="10936"/>
                  <a:pt x="4976" y="10926"/>
                  <a:pt x="5035" y="10914"/>
                </a:cubicBezTo>
              </a:path>
              <a:path w="4664" h="1638">
                <a:moveTo>
                  <a:pt x="5209" y="10418"/>
                </a:moveTo>
                <a:cubicBezTo>
                  <a:pt x="5259" y="10393"/>
                  <a:pt x="5353" y="10339"/>
                  <a:pt x="5407" y="10344"/>
                </a:cubicBezTo>
                <a:cubicBezTo>
                  <a:pt x="5521" y="10354"/>
                  <a:pt x="5637" y="10368"/>
                  <a:pt x="5755" y="10368"/>
                </a:cubicBezTo>
                <a:cubicBezTo>
                  <a:pt x="5763" y="10368"/>
                  <a:pt x="5771" y="10368"/>
                  <a:pt x="5779" y="10368"/>
                </a:cubicBezTo>
              </a:path>
              <a:path w="4664" h="1638">
                <a:moveTo>
                  <a:pt x="5457" y="10344"/>
                </a:moveTo>
                <a:cubicBezTo>
                  <a:pt x="5405" y="10447"/>
                  <a:pt x="5407" y="10500"/>
                  <a:pt x="5407" y="10616"/>
                </a:cubicBezTo>
                <a:cubicBezTo>
                  <a:pt x="5407" y="10645"/>
                  <a:pt x="5386" y="10846"/>
                  <a:pt x="5432" y="10840"/>
                </a:cubicBezTo>
                <a:cubicBezTo>
                  <a:pt x="5455" y="10817"/>
                  <a:pt x="5463" y="10813"/>
                  <a:pt x="5457" y="10790"/>
                </a:cubicBezTo>
              </a:path>
              <a:path w="4664" h="1638">
                <a:moveTo>
                  <a:pt x="5631" y="10443"/>
                </a:moveTo>
                <a:cubicBezTo>
                  <a:pt x="5631" y="10561"/>
                  <a:pt x="5614" y="10634"/>
                  <a:pt x="5606" y="10740"/>
                </a:cubicBezTo>
                <a:cubicBezTo>
                  <a:pt x="5606" y="10743"/>
                  <a:pt x="5630" y="10839"/>
                  <a:pt x="5631" y="10840"/>
                </a:cubicBezTo>
                <a:cubicBezTo>
                  <a:pt x="5639" y="10840"/>
                  <a:pt x="5647" y="10840"/>
                  <a:pt x="5655" y="10840"/>
                </a:cubicBezTo>
              </a:path>
              <a:path w="4664" h="1638">
                <a:moveTo>
                  <a:pt x="5978" y="10294"/>
                </a:moveTo>
                <a:cubicBezTo>
                  <a:pt x="6000" y="10415"/>
                  <a:pt x="5973" y="10446"/>
                  <a:pt x="5928" y="10567"/>
                </a:cubicBezTo>
                <a:cubicBezTo>
                  <a:pt x="5883" y="10685"/>
                  <a:pt x="5839" y="10820"/>
                  <a:pt x="5804" y="10939"/>
                </a:cubicBezTo>
                <a:cubicBezTo>
                  <a:pt x="5762" y="11082"/>
                  <a:pt x="5726" y="11220"/>
                  <a:pt x="5680" y="11361"/>
                </a:cubicBezTo>
                <a:cubicBezTo>
                  <a:pt x="5656" y="11436"/>
                  <a:pt x="5635" y="11482"/>
                  <a:pt x="5631" y="11559"/>
                </a:cubicBezTo>
                <a:cubicBezTo>
                  <a:pt x="5628" y="11616"/>
                  <a:pt x="5618" y="11597"/>
                  <a:pt x="5655" y="11584"/>
                </a:cubicBezTo>
              </a:path>
              <a:path w="4664" h="1638">
                <a:moveTo>
                  <a:pt x="5978" y="11137"/>
                </a:moveTo>
                <a:cubicBezTo>
                  <a:pt x="6125" y="11122"/>
                  <a:pt x="6159" y="11087"/>
                  <a:pt x="6226" y="11212"/>
                </a:cubicBezTo>
                <a:cubicBezTo>
                  <a:pt x="6269" y="11292"/>
                  <a:pt x="6289" y="11325"/>
                  <a:pt x="6251" y="11410"/>
                </a:cubicBezTo>
                <a:cubicBezTo>
                  <a:pt x="6226" y="11466"/>
                  <a:pt x="6191" y="11537"/>
                  <a:pt x="6152" y="11584"/>
                </a:cubicBezTo>
                <a:cubicBezTo>
                  <a:pt x="6113" y="11622"/>
                  <a:pt x="6096" y="11624"/>
                  <a:pt x="6102" y="11658"/>
                </a:cubicBezTo>
                <a:cubicBezTo>
                  <a:pt x="6149" y="11670"/>
                  <a:pt x="6192" y="11700"/>
                  <a:pt x="6251" y="11683"/>
                </a:cubicBezTo>
                <a:cubicBezTo>
                  <a:pt x="6318" y="11664"/>
                  <a:pt x="6379" y="11651"/>
                  <a:pt x="6449" y="11633"/>
                </a:cubicBezTo>
              </a:path>
              <a:path w="4664" h="1638">
                <a:moveTo>
                  <a:pt x="6697" y="11559"/>
                </a:moveTo>
                <a:cubicBezTo>
                  <a:pt x="6662" y="11694"/>
                  <a:pt x="6648" y="11754"/>
                  <a:pt x="6648" y="11881"/>
                </a:cubicBezTo>
                <a:cubicBezTo>
                  <a:pt x="6648" y="11906"/>
                  <a:pt x="6648" y="11914"/>
                  <a:pt x="6648" y="11931"/>
                </a:cubicBezTo>
                <a:cubicBezTo>
                  <a:pt x="6691" y="11920"/>
                  <a:pt x="6713" y="11890"/>
                  <a:pt x="6747" y="11857"/>
                </a:cubicBezTo>
              </a:path>
              <a:path w="4664" h="1638">
                <a:moveTo>
                  <a:pt x="6970" y="10468"/>
                </a:moveTo>
                <a:cubicBezTo>
                  <a:pt x="7070" y="10468"/>
                  <a:pt x="7197" y="10431"/>
                  <a:pt x="7243" y="10542"/>
                </a:cubicBezTo>
                <a:cubicBezTo>
                  <a:pt x="7266" y="10598"/>
                  <a:pt x="7206" y="10621"/>
                  <a:pt x="7169" y="10641"/>
                </a:cubicBezTo>
                <a:cubicBezTo>
                  <a:pt x="7114" y="10670"/>
                  <a:pt x="7081" y="10666"/>
                  <a:pt x="7020" y="10666"/>
                </a:cubicBezTo>
                <a:cubicBezTo>
                  <a:pt x="7029" y="10702"/>
                  <a:pt x="7068" y="10758"/>
                  <a:pt x="7094" y="10790"/>
                </a:cubicBezTo>
                <a:cubicBezTo>
                  <a:pt x="7139" y="10844"/>
                  <a:pt x="7225" y="10890"/>
                  <a:pt x="7243" y="10964"/>
                </a:cubicBezTo>
                <a:cubicBezTo>
                  <a:pt x="7258" y="11028"/>
                  <a:pt x="7197" y="11054"/>
                  <a:pt x="7144" y="11063"/>
                </a:cubicBezTo>
                <a:cubicBezTo>
                  <a:pt x="7087" y="11073"/>
                  <a:pt x="7021" y="11035"/>
                  <a:pt x="6970" y="11013"/>
                </a:cubicBezTo>
                <a:cubicBezTo>
                  <a:pt x="6984" y="10943"/>
                  <a:pt x="7018" y="10916"/>
                  <a:pt x="7069" y="10864"/>
                </a:cubicBezTo>
              </a:path>
              <a:path w="4664" h="1638">
                <a:moveTo>
                  <a:pt x="7491" y="10567"/>
                </a:moveTo>
                <a:cubicBezTo>
                  <a:pt x="7616" y="10545"/>
                  <a:pt x="7715" y="10517"/>
                  <a:pt x="7838" y="10517"/>
                </a:cubicBezTo>
                <a:cubicBezTo>
                  <a:pt x="7880" y="10517"/>
                  <a:pt x="7879" y="10502"/>
                  <a:pt x="7888" y="10468"/>
                </a:cubicBezTo>
              </a:path>
              <a:path w="4664" h="1638">
                <a:moveTo>
                  <a:pt x="7590" y="10542"/>
                </a:moveTo>
                <a:cubicBezTo>
                  <a:pt x="7551" y="10637"/>
                  <a:pt x="7493" y="10733"/>
                  <a:pt x="7516" y="10840"/>
                </a:cubicBezTo>
                <a:cubicBezTo>
                  <a:pt x="7528" y="10898"/>
                  <a:pt x="7500" y="10971"/>
                  <a:pt x="7541" y="11013"/>
                </a:cubicBezTo>
                <a:cubicBezTo>
                  <a:pt x="7565" y="11013"/>
                  <a:pt x="7573" y="11013"/>
                  <a:pt x="7565" y="10988"/>
                </a:cubicBezTo>
              </a:path>
              <a:path w="4664" h="1638">
                <a:moveTo>
                  <a:pt x="7689" y="10567"/>
                </a:moveTo>
                <a:cubicBezTo>
                  <a:pt x="7723" y="10694"/>
                  <a:pt x="7720" y="10742"/>
                  <a:pt x="7714" y="10864"/>
                </a:cubicBezTo>
                <a:cubicBezTo>
                  <a:pt x="7712" y="10913"/>
                  <a:pt x="7655" y="11008"/>
                  <a:pt x="7714" y="11038"/>
                </a:cubicBezTo>
                <a:cubicBezTo>
                  <a:pt x="7739" y="11038"/>
                  <a:pt x="7747" y="11038"/>
                  <a:pt x="7764" y="11038"/>
                </a:cubicBezTo>
              </a:path>
              <a:path w="4664" h="1638">
                <a:moveTo>
                  <a:pt x="8235" y="10592"/>
                </a:moveTo>
                <a:cubicBezTo>
                  <a:pt x="8134" y="10749"/>
                  <a:pt x="8062" y="10892"/>
                  <a:pt x="7987" y="11063"/>
                </a:cubicBezTo>
                <a:cubicBezTo>
                  <a:pt x="7930" y="11194"/>
                  <a:pt x="7884" y="11335"/>
                  <a:pt x="7813" y="11460"/>
                </a:cubicBezTo>
                <a:cubicBezTo>
                  <a:pt x="7755" y="11562"/>
                  <a:pt x="7731" y="11686"/>
                  <a:pt x="7665" y="11782"/>
                </a:cubicBezTo>
                <a:cubicBezTo>
                  <a:pt x="7640" y="11819"/>
                  <a:pt x="7594" y="11893"/>
                  <a:pt x="7689" y="11757"/>
                </a:cubicBezTo>
              </a:path>
              <a:path w="4664" h="1638">
                <a:moveTo>
                  <a:pt x="8086" y="11361"/>
                </a:moveTo>
                <a:cubicBezTo>
                  <a:pt x="8138" y="11363"/>
                  <a:pt x="8365" y="11324"/>
                  <a:pt x="8334" y="11460"/>
                </a:cubicBezTo>
                <a:cubicBezTo>
                  <a:pt x="8316" y="11540"/>
                  <a:pt x="8199" y="11621"/>
                  <a:pt x="8136" y="11658"/>
                </a:cubicBezTo>
                <a:cubicBezTo>
                  <a:pt x="8097" y="11681"/>
                  <a:pt x="8075" y="11680"/>
                  <a:pt x="8062" y="11733"/>
                </a:cubicBezTo>
                <a:cubicBezTo>
                  <a:pt x="8119" y="11775"/>
                  <a:pt x="8167" y="11763"/>
                  <a:pt x="8235" y="11782"/>
                </a:cubicBezTo>
                <a:cubicBezTo>
                  <a:pt x="8319" y="11806"/>
                  <a:pt x="8392" y="11807"/>
                  <a:pt x="8483" y="11807"/>
                </a:cubicBezTo>
                <a:cubicBezTo>
                  <a:pt x="8522" y="11807"/>
                  <a:pt x="8508" y="11790"/>
                  <a:pt x="8508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3911760"/>
            <a:ext cx="1089360" cy="320400"/>
          </a:xfrm>
          <a:custGeom>
            <a:avLst/>
            <a:gdLst/>
            <a:ahLst/>
            <a:rect l="l" t="t" r="r" b="b"/>
            <a:pathLst>
              <a:path w="3027" h="894">
                <a:moveTo>
                  <a:pt x="16470" y="11013"/>
                </a:moveTo>
                <a:cubicBezTo>
                  <a:pt x="16433" y="11118"/>
                  <a:pt x="16421" y="11122"/>
                  <a:pt x="16421" y="11212"/>
                </a:cubicBezTo>
                <a:cubicBezTo>
                  <a:pt x="16421" y="11153"/>
                  <a:pt x="16405" y="11109"/>
                  <a:pt x="16396" y="11063"/>
                </a:cubicBezTo>
                <a:cubicBezTo>
                  <a:pt x="16380" y="10981"/>
                  <a:pt x="16364" y="10922"/>
                  <a:pt x="16272" y="10889"/>
                </a:cubicBezTo>
                <a:cubicBezTo>
                  <a:pt x="16196" y="10862"/>
                  <a:pt x="16088" y="10845"/>
                  <a:pt x="16024" y="10914"/>
                </a:cubicBezTo>
                <a:cubicBezTo>
                  <a:pt x="15938" y="11007"/>
                  <a:pt x="15947" y="11101"/>
                  <a:pt x="15925" y="11212"/>
                </a:cubicBezTo>
                <a:cubicBezTo>
                  <a:pt x="15900" y="11337"/>
                  <a:pt x="15900" y="11413"/>
                  <a:pt x="15949" y="11534"/>
                </a:cubicBezTo>
                <a:cubicBezTo>
                  <a:pt x="15977" y="11603"/>
                  <a:pt x="16017" y="11669"/>
                  <a:pt x="16098" y="11683"/>
                </a:cubicBezTo>
                <a:cubicBezTo>
                  <a:pt x="16180" y="11697"/>
                  <a:pt x="16301" y="11677"/>
                  <a:pt x="16371" y="11633"/>
                </a:cubicBezTo>
                <a:cubicBezTo>
                  <a:pt x="16426" y="11579"/>
                  <a:pt x="16448" y="11560"/>
                  <a:pt x="16495" y="11534"/>
                </a:cubicBezTo>
              </a:path>
              <a:path w="3027" h="894">
                <a:moveTo>
                  <a:pt x="16743" y="11212"/>
                </a:moveTo>
                <a:cubicBezTo>
                  <a:pt x="16735" y="11263"/>
                  <a:pt x="16681" y="11447"/>
                  <a:pt x="16694" y="11509"/>
                </a:cubicBezTo>
                <a:cubicBezTo>
                  <a:pt x="16713" y="11595"/>
                  <a:pt x="16746" y="11658"/>
                  <a:pt x="16842" y="11683"/>
                </a:cubicBezTo>
                <a:cubicBezTo>
                  <a:pt x="16918" y="11703"/>
                  <a:pt x="16959" y="11667"/>
                  <a:pt x="17016" y="11633"/>
                </a:cubicBezTo>
                <a:cubicBezTo>
                  <a:pt x="17093" y="11588"/>
                  <a:pt x="17151" y="11503"/>
                  <a:pt x="17165" y="11410"/>
                </a:cubicBezTo>
                <a:cubicBezTo>
                  <a:pt x="17174" y="11353"/>
                  <a:pt x="17154" y="11216"/>
                  <a:pt x="17090" y="11187"/>
                </a:cubicBezTo>
                <a:cubicBezTo>
                  <a:pt x="17040" y="11165"/>
                  <a:pt x="16865" y="11101"/>
                  <a:pt x="16793" y="11137"/>
                </a:cubicBezTo>
                <a:cubicBezTo>
                  <a:pt x="16765" y="11165"/>
                  <a:pt x="16761" y="11174"/>
                  <a:pt x="16818" y="11162"/>
                </a:cubicBezTo>
              </a:path>
              <a:path w="3027" h="894">
                <a:moveTo>
                  <a:pt x="17438" y="11088"/>
                </a:moveTo>
                <a:cubicBezTo>
                  <a:pt x="17354" y="11127"/>
                  <a:pt x="17261" y="11154"/>
                  <a:pt x="17190" y="11212"/>
                </a:cubicBezTo>
                <a:cubicBezTo>
                  <a:pt x="17210" y="11281"/>
                  <a:pt x="17271" y="11312"/>
                  <a:pt x="17338" y="11361"/>
                </a:cubicBezTo>
                <a:cubicBezTo>
                  <a:pt x="17448" y="11442"/>
                  <a:pt x="17514" y="11495"/>
                  <a:pt x="17587" y="11609"/>
                </a:cubicBezTo>
                <a:cubicBezTo>
                  <a:pt x="17532" y="11652"/>
                  <a:pt x="17459" y="11697"/>
                  <a:pt x="17388" y="11708"/>
                </a:cubicBezTo>
                <a:cubicBezTo>
                  <a:pt x="17293" y="11723"/>
                  <a:pt x="17195" y="11713"/>
                  <a:pt x="17115" y="11658"/>
                </a:cubicBezTo>
                <a:cubicBezTo>
                  <a:pt x="17049" y="11612"/>
                  <a:pt x="17081" y="11595"/>
                  <a:pt x="17115" y="11534"/>
                </a:cubicBezTo>
              </a:path>
              <a:path w="3027" h="894">
                <a:moveTo>
                  <a:pt x="17835" y="11237"/>
                </a:moveTo>
                <a:cubicBezTo>
                  <a:pt x="17867" y="11402"/>
                  <a:pt x="17893" y="11406"/>
                  <a:pt x="17959" y="11534"/>
                </a:cubicBezTo>
                <a:cubicBezTo>
                  <a:pt x="18007" y="11627"/>
                  <a:pt x="18047" y="11642"/>
                  <a:pt x="18132" y="11708"/>
                </a:cubicBezTo>
                <a:cubicBezTo>
                  <a:pt x="18168" y="11736"/>
                  <a:pt x="18224" y="11755"/>
                  <a:pt x="18256" y="11708"/>
                </a:cubicBezTo>
                <a:cubicBezTo>
                  <a:pt x="18299" y="11623"/>
                  <a:pt x="18313" y="11567"/>
                  <a:pt x="18306" y="11485"/>
                </a:cubicBezTo>
              </a:path>
              <a:path w="3027" h="894">
                <a:moveTo>
                  <a:pt x="18107" y="11162"/>
                </a:moveTo>
                <a:cubicBezTo>
                  <a:pt x="17994" y="11308"/>
                  <a:pt x="17898" y="11452"/>
                  <a:pt x="17810" y="11609"/>
                </a:cubicBezTo>
                <a:cubicBezTo>
                  <a:pt x="17804" y="11619"/>
                  <a:pt x="17670" y="11798"/>
                  <a:pt x="17735" y="11733"/>
                </a:cubicBezTo>
              </a:path>
              <a:path w="3027" h="894">
                <a:moveTo>
                  <a:pt x="18554" y="11336"/>
                </a:moveTo>
                <a:cubicBezTo>
                  <a:pt x="18637" y="11336"/>
                  <a:pt x="18719" y="11336"/>
                  <a:pt x="18802" y="11336"/>
                </a:cubicBezTo>
              </a:path>
              <a:path w="3027" h="894">
                <a:moveTo>
                  <a:pt x="18430" y="11534"/>
                </a:moveTo>
                <a:cubicBezTo>
                  <a:pt x="18531" y="11590"/>
                  <a:pt x="18630" y="11604"/>
                  <a:pt x="18752" y="11584"/>
                </a:cubicBezTo>
                <a:cubicBezTo>
                  <a:pt x="18834" y="11557"/>
                  <a:pt x="18867" y="11546"/>
                  <a:pt x="18926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35840" y="3919680"/>
            <a:ext cx="28440" cy="349200"/>
          </a:xfrm>
          <a:custGeom>
            <a:avLst/>
            <a:gdLst/>
            <a:ahLst/>
            <a:rect l="l" t="t" r="r" b="b"/>
            <a:pathLst>
              <a:path w="76" h="969">
                <a:moveTo>
                  <a:pt x="19546" y="10889"/>
                </a:moveTo>
                <a:cubicBezTo>
                  <a:pt x="19577" y="11014"/>
                  <a:pt x="19549" y="11108"/>
                  <a:pt x="19546" y="11237"/>
                </a:cubicBezTo>
                <a:cubicBezTo>
                  <a:pt x="19543" y="11351"/>
                  <a:pt x="19531" y="11476"/>
                  <a:pt x="19571" y="11584"/>
                </a:cubicBezTo>
                <a:cubicBezTo>
                  <a:pt x="19597" y="11655"/>
                  <a:pt x="19617" y="11731"/>
                  <a:pt x="19621" y="11807"/>
                </a:cubicBezTo>
                <a:cubicBezTo>
                  <a:pt x="19621" y="11824"/>
                  <a:pt x="19621" y="11840"/>
                  <a:pt x="19621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5911920" y="4483080"/>
            <a:ext cx="1517760" cy="455760"/>
          </a:xfrm>
          <a:custGeom>
            <a:avLst/>
            <a:gdLst/>
            <a:ahLst/>
            <a:rect l="l" t="t" r="r" b="b"/>
            <a:pathLst>
              <a:path w="4218" h="1266">
                <a:moveTo>
                  <a:pt x="16520" y="12576"/>
                </a:moveTo>
                <a:cubicBezTo>
                  <a:pt x="16532" y="12626"/>
                  <a:pt x="16551" y="12671"/>
                  <a:pt x="16570" y="12725"/>
                </a:cubicBezTo>
                <a:cubicBezTo>
                  <a:pt x="16606" y="12831"/>
                  <a:pt x="16650" y="12922"/>
                  <a:pt x="16694" y="13022"/>
                </a:cubicBezTo>
                <a:cubicBezTo>
                  <a:pt x="16740" y="13127"/>
                  <a:pt x="16770" y="13183"/>
                  <a:pt x="16867" y="13246"/>
                </a:cubicBezTo>
                <a:cubicBezTo>
                  <a:pt x="16974" y="13315"/>
                  <a:pt x="17008" y="13319"/>
                  <a:pt x="17115" y="13271"/>
                </a:cubicBezTo>
              </a:path>
              <a:path w="4218" h="1266">
                <a:moveTo>
                  <a:pt x="16942" y="12626"/>
                </a:moveTo>
                <a:cubicBezTo>
                  <a:pt x="16875" y="12717"/>
                  <a:pt x="16806" y="12803"/>
                  <a:pt x="16743" y="12898"/>
                </a:cubicBezTo>
                <a:cubicBezTo>
                  <a:pt x="16669" y="13010"/>
                  <a:pt x="16609" y="13151"/>
                  <a:pt x="16495" y="13221"/>
                </a:cubicBezTo>
                <a:cubicBezTo>
                  <a:pt x="16487" y="13226"/>
                  <a:pt x="16379" y="13313"/>
                  <a:pt x="16446" y="13246"/>
                </a:cubicBezTo>
              </a:path>
              <a:path w="4218" h="1266">
                <a:moveTo>
                  <a:pt x="17338" y="12898"/>
                </a:moveTo>
                <a:cubicBezTo>
                  <a:pt x="17437" y="12898"/>
                  <a:pt x="17537" y="12898"/>
                  <a:pt x="17636" y="12898"/>
                </a:cubicBezTo>
              </a:path>
              <a:path w="4218" h="1266">
                <a:moveTo>
                  <a:pt x="17314" y="13097"/>
                </a:moveTo>
                <a:cubicBezTo>
                  <a:pt x="17418" y="13105"/>
                  <a:pt x="17504" y="13122"/>
                  <a:pt x="17611" y="13122"/>
                </a:cubicBezTo>
                <a:cubicBezTo>
                  <a:pt x="17652" y="13122"/>
                  <a:pt x="17694" y="13122"/>
                  <a:pt x="17735" y="13122"/>
                </a:cubicBezTo>
              </a:path>
              <a:path w="4218" h="1266">
                <a:moveTo>
                  <a:pt x="18306" y="12576"/>
                </a:moveTo>
                <a:cubicBezTo>
                  <a:pt x="18306" y="12633"/>
                  <a:pt x="18284" y="12648"/>
                  <a:pt x="18256" y="12700"/>
                </a:cubicBezTo>
                <a:cubicBezTo>
                  <a:pt x="18221" y="12766"/>
                  <a:pt x="18186" y="12824"/>
                  <a:pt x="18182" y="12898"/>
                </a:cubicBezTo>
                <a:cubicBezTo>
                  <a:pt x="18179" y="12945"/>
                  <a:pt x="18186" y="13087"/>
                  <a:pt x="18231" y="13122"/>
                </a:cubicBezTo>
                <a:cubicBezTo>
                  <a:pt x="18297" y="13174"/>
                  <a:pt x="18411" y="13247"/>
                  <a:pt x="18504" y="13221"/>
                </a:cubicBezTo>
                <a:cubicBezTo>
                  <a:pt x="18582" y="13199"/>
                  <a:pt x="18636" y="13136"/>
                  <a:pt x="18678" y="13072"/>
                </a:cubicBezTo>
                <a:cubicBezTo>
                  <a:pt x="18730" y="12993"/>
                  <a:pt x="18711" y="12904"/>
                  <a:pt x="18703" y="12824"/>
                </a:cubicBezTo>
                <a:cubicBezTo>
                  <a:pt x="18693" y="12721"/>
                  <a:pt x="18675" y="12688"/>
                  <a:pt x="18604" y="12626"/>
                </a:cubicBezTo>
                <a:cubicBezTo>
                  <a:pt x="18524" y="12555"/>
                  <a:pt x="18470" y="12563"/>
                  <a:pt x="18380" y="12526"/>
                </a:cubicBezTo>
                <a:cubicBezTo>
                  <a:pt x="18320" y="12501"/>
                  <a:pt x="18316" y="12512"/>
                  <a:pt x="18256" y="12526"/>
                </a:cubicBezTo>
              </a:path>
              <a:path w="4218" h="1266">
                <a:moveTo>
                  <a:pt x="19025" y="13320"/>
                </a:moveTo>
                <a:cubicBezTo>
                  <a:pt x="19004" y="13432"/>
                  <a:pt x="18976" y="13537"/>
                  <a:pt x="18951" y="13643"/>
                </a:cubicBezTo>
                <a:cubicBezTo>
                  <a:pt x="18946" y="13664"/>
                  <a:pt x="18951" y="13695"/>
                  <a:pt x="18951" y="13717"/>
                </a:cubicBezTo>
              </a:path>
              <a:path w="4218" h="1266">
                <a:moveTo>
                  <a:pt x="19248" y="12601"/>
                </a:moveTo>
                <a:cubicBezTo>
                  <a:pt x="19376" y="12555"/>
                  <a:pt x="19386" y="12536"/>
                  <a:pt x="19496" y="12576"/>
                </a:cubicBezTo>
                <a:cubicBezTo>
                  <a:pt x="19612" y="12618"/>
                  <a:pt x="19650" y="12699"/>
                  <a:pt x="19670" y="12824"/>
                </a:cubicBezTo>
                <a:cubicBezTo>
                  <a:pt x="19685" y="12917"/>
                  <a:pt x="19668" y="13016"/>
                  <a:pt x="19621" y="13097"/>
                </a:cubicBezTo>
                <a:cubicBezTo>
                  <a:pt x="19578" y="13170"/>
                  <a:pt x="19484" y="13194"/>
                  <a:pt x="19447" y="13246"/>
                </a:cubicBezTo>
                <a:cubicBezTo>
                  <a:pt x="19447" y="13271"/>
                  <a:pt x="19447" y="13279"/>
                  <a:pt x="19422" y="13271"/>
                </a:cubicBezTo>
                <a:cubicBezTo>
                  <a:pt x="19422" y="13233"/>
                  <a:pt x="19406" y="13167"/>
                  <a:pt x="19447" y="13146"/>
                </a:cubicBezTo>
                <a:cubicBezTo>
                  <a:pt x="19494" y="13123"/>
                  <a:pt x="19580" y="13153"/>
                  <a:pt x="19621" y="13171"/>
                </a:cubicBezTo>
                <a:cubicBezTo>
                  <a:pt x="19705" y="13209"/>
                  <a:pt x="19750" y="13221"/>
                  <a:pt x="19844" y="13221"/>
                </a:cubicBezTo>
                <a:cubicBezTo>
                  <a:pt x="19957" y="13221"/>
                  <a:pt x="19972" y="13164"/>
                  <a:pt x="20017" y="13072"/>
                </a:cubicBezTo>
              </a:path>
              <a:path w="4218" h="1266">
                <a:moveTo>
                  <a:pt x="20042" y="12477"/>
                </a:moveTo>
                <a:cubicBezTo>
                  <a:pt x="20140" y="12477"/>
                  <a:pt x="20305" y="12504"/>
                  <a:pt x="20389" y="12452"/>
                </a:cubicBezTo>
              </a:path>
              <a:path w="4218" h="1266">
                <a:moveTo>
                  <a:pt x="20067" y="12700"/>
                </a:moveTo>
                <a:cubicBezTo>
                  <a:pt x="20051" y="12830"/>
                  <a:pt x="20042" y="12943"/>
                  <a:pt x="20042" y="13072"/>
                </a:cubicBezTo>
                <a:cubicBezTo>
                  <a:pt x="20042" y="13120"/>
                  <a:pt x="20059" y="13130"/>
                  <a:pt x="20092" y="13146"/>
                </a:cubicBezTo>
              </a:path>
              <a:path w="4218" h="1266">
                <a:moveTo>
                  <a:pt x="20315" y="12601"/>
                </a:moveTo>
                <a:cubicBezTo>
                  <a:pt x="20321" y="12722"/>
                  <a:pt x="20328" y="12886"/>
                  <a:pt x="20389" y="12998"/>
                </a:cubicBezTo>
                <a:cubicBezTo>
                  <a:pt x="20450" y="13111"/>
                  <a:pt x="20537" y="13197"/>
                  <a:pt x="20638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Page 400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#1-5,11-23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80880" y="533520"/>
          <a:ext cx="86108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610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11240" y="1608120"/>
            <a:ext cx="5813640" cy="874800"/>
          </a:xfrm>
          <a:custGeom>
            <a:avLst/>
            <a:gdLst/>
            <a:ahLst/>
            <a:rect l="l" t="t" r="r" b="b"/>
            <a:pathLst>
              <a:path w="16149" h="2432">
                <a:moveTo>
                  <a:pt x="5308" y="4539"/>
                </a:moveTo>
                <a:cubicBezTo>
                  <a:pt x="5401" y="4481"/>
                  <a:pt x="5424" y="4469"/>
                  <a:pt x="5531" y="4465"/>
                </a:cubicBezTo>
                <a:cubicBezTo>
                  <a:pt x="5601" y="4462"/>
                  <a:pt x="5668" y="4455"/>
                  <a:pt x="5730" y="4490"/>
                </a:cubicBezTo>
                <a:cubicBezTo>
                  <a:pt x="5773" y="4514"/>
                  <a:pt x="5829" y="4556"/>
                  <a:pt x="5829" y="4614"/>
                </a:cubicBezTo>
                <a:cubicBezTo>
                  <a:pt x="5829" y="4708"/>
                  <a:pt x="5755" y="4862"/>
                  <a:pt x="5705" y="4936"/>
                </a:cubicBezTo>
                <a:cubicBezTo>
                  <a:pt x="5623" y="5058"/>
                  <a:pt x="5546" y="5177"/>
                  <a:pt x="5482" y="5308"/>
                </a:cubicBezTo>
                <a:cubicBezTo>
                  <a:pt x="5444" y="5385"/>
                  <a:pt x="5364" y="5513"/>
                  <a:pt x="5383" y="5606"/>
                </a:cubicBezTo>
                <a:cubicBezTo>
                  <a:pt x="5413" y="5755"/>
                  <a:pt x="5720" y="5747"/>
                  <a:pt x="5779" y="5755"/>
                </a:cubicBezTo>
                <a:cubicBezTo>
                  <a:pt x="5883" y="5769"/>
                  <a:pt x="6002" y="5777"/>
                  <a:pt x="6102" y="5804"/>
                </a:cubicBezTo>
                <a:cubicBezTo>
                  <a:pt x="6185" y="5827"/>
                  <a:pt x="6253" y="5829"/>
                  <a:pt x="6325" y="5879"/>
                </a:cubicBezTo>
                <a:cubicBezTo>
                  <a:pt x="6362" y="5904"/>
                  <a:pt x="6336" y="5879"/>
                  <a:pt x="6350" y="5928"/>
                </a:cubicBezTo>
              </a:path>
              <a:path w="16149" h="2432">
                <a:moveTo>
                  <a:pt x="7069" y="5234"/>
                </a:moveTo>
                <a:cubicBezTo>
                  <a:pt x="6995" y="5206"/>
                  <a:pt x="6968" y="5200"/>
                  <a:pt x="6896" y="5234"/>
                </a:cubicBezTo>
                <a:cubicBezTo>
                  <a:pt x="6810" y="5275"/>
                  <a:pt x="6748" y="5307"/>
                  <a:pt x="6672" y="5358"/>
                </a:cubicBezTo>
                <a:cubicBezTo>
                  <a:pt x="6629" y="5380"/>
                  <a:pt x="6618" y="5384"/>
                  <a:pt x="6598" y="5407"/>
                </a:cubicBezTo>
                <a:cubicBezTo>
                  <a:pt x="6614" y="5455"/>
                  <a:pt x="6647" y="5439"/>
                  <a:pt x="6697" y="5457"/>
                </a:cubicBezTo>
                <a:cubicBezTo>
                  <a:pt x="6761" y="5480"/>
                  <a:pt x="6838" y="5494"/>
                  <a:pt x="6896" y="5531"/>
                </a:cubicBezTo>
                <a:cubicBezTo>
                  <a:pt x="6927" y="5551"/>
                  <a:pt x="7023" y="5627"/>
                  <a:pt x="7045" y="5655"/>
                </a:cubicBezTo>
                <a:cubicBezTo>
                  <a:pt x="7074" y="5692"/>
                  <a:pt x="7075" y="5745"/>
                  <a:pt x="7045" y="5779"/>
                </a:cubicBezTo>
                <a:cubicBezTo>
                  <a:pt x="6966" y="5868"/>
                  <a:pt x="6826" y="5867"/>
                  <a:pt x="6722" y="5879"/>
                </a:cubicBezTo>
                <a:cubicBezTo>
                  <a:pt x="6616" y="5891"/>
                  <a:pt x="6657" y="5851"/>
                  <a:pt x="6697" y="5829"/>
                </a:cubicBezTo>
                <a:cubicBezTo>
                  <a:pt x="6705" y="5821"/>
                  <a:pt x="6714" y="5812"/>
                  <a:pt x="6722" y="5804"/>
                </a:cubicBezTo>
              </a:path>
              <a:path w="16149" h="2432">
                <a:moveTo>
                  <a:pt x="7243" y="5556"/>
                </a:moveTo>
                <a:cubicBezTo>
                  <a:pt x="7337" y="5556"/>
                  <a:pt x="7429" y="5567"/>
                  <a:pt x="7516" y="5531"/>
                </a:cubicBezTo>
                <a:cubicBezTo>
                  <a:pt x="7574" y="5507"/>
                  <a:pt x="7649" y="5514"/>
                  <a:pt x="7689" y="5457"/>
                </a:cubicBezTo>
                <a:cubicBezTo>
                  <a:pt x="7715" y="5420"/>
                  <a:pt x="7754" y="5373"/>
                  <a:pt x="7764" y="5333"/>
                </a:cubicBezTo>
                <a:cubicBezTo>
                  <a:pt x="7698" y="5267"/>
                  <a:pt x="7681" y="5301"/>
                  <a:pt x="7590" y="5333"/>
                </a:cubicBezTo>
                <a:cubicBezTo>
                  <a:pt x="7472" y="5374"/>
                  <a:pt x="7404" y="5443"/>
                  <a:pt x="7317" y="5531"/>
                </a:cubicBezTo>
                <a:cubicBezTo>
                  <a:pt x="7265" y="5583"/>
                  <a:pt x="7142" y="5688"/>
                  <a:pt x="7169" y="5779"/>
                </a:cubicBezTo>
                <a:cubicBezTo>
                  <a:pt x="7186" y="5837"/>
                  <a:pt x="7271" y="5851"/>
                  <a:pt x="7317" y="5854"/>
                </a:cubicBezTo>
                <a:cubicBezTo>
                  <a:pt x="7429" y="5860"/>
                  <a:pt x="7533" y="5843"/>
                  <a:pt x="7640" y="5829"/>
                </a:cubicBezTo>
                <a:cubicBezTo>
                  <a:pt x="7691" y="5829"/>
                  <a:pt x="7710" y="5828"/>
                  <a:pt x="7739" y="5804"/>
                </a:cubicBezTo>
              </a:path>
              <a:path w="16149" h="2432">
                <a:moveTo>
                  <a:pt x="8359" y="5383"/>
                </a:moveTo>
                <a:cubicBezTo>
                  <a:pt x="8349" y="5321"/>
                  <a:pt x="8343" y="5301"/>
                  <a:pt x="8260" y="5283"/>
                </a:cubicBezTo>
                <a:cubicBezTo>
                  <a:pt x="8157" y="5261"/>
                  <a:pt x="8094" y="5304"/>
                  <a:pt x="8012" y="5358"/>
                </a:cubicBezTo>
                <a:cubicBezTo>
                  <a:pt x="7918" y="5420"/>
                  <a:pt x="7839" y="5518"/>
                  <a:pt x="7813" y="5631"/>
                </a:cubicBezTo>
                <a:cubicBezTo>
                  <a:pt x="7792" y="5721"/>
                  <a:pt x="7884" y="5791"/>
                  <a:pt x="7962" y="5804"/>
                </a:cubicBezTo>
                <a:cubicBezTo>
                  <a:pt x="8087" y="5824"/>
                  <a:pt x="8209" y="5822"/>
                  <a:pt x="8334" y="5854"/>
                </a:cubicBezTo>
                <a:cubicBezTo>
                  <a:pt x="8425" y="5878"/>
                  <a:pt x="8521" y="5911"/>
                  <a:pt x="8607" y="5879"/>
                </a:cubicBezTo>
                <a:cubicBezTo>
                  <a:pt x="8624" y="5871"/>
                  <a:pt x="8640" y="5862"/>
                  <a:pt x="8657" y="5854"/>
                </a:cubicBezTo>
              </a:path>
              <a:path w="16149" h="2432">
                <a:moveTo>
                  <a:pt x="8855" y="4837"/>
                </a:moveTo>
                <a:cubicBezTo>
                  <a:pt x="8937" y="4858"/>
                  <a:pt x="8953" y="4866"/>
                  <a:pt x="9004" y="4862"/>
                </a:cubicBezTo>
                <a:cubicBezTo>
                  <a:pt x="9004" y="4914"/>
                  <a:pt x="8998" y="4973"/>
                  <a:pt x="8954" y="5011"/>
                </a:cubicBezTo>
                <a:cubicBezTo>
                  <a:pt x="8910" y="5048"/>
                  <a:pt x="8842" y="5082"/>
                  <a:pt x="8806" y="5110"/>
                </a:cubicBezTo>
                <a:cubicBezTo>
                  <a:pt x="8798" y="5118"/>
                  <a:pt x="8789" y="5127"/>
                  <a:pt x="8781" y="5135"/>
                </a:cubicBezTo>
                <a:cubicBezTo>
                  <a:pt x="8831" y="5200"/>
                  <a:pt x="8860" y="5184"/>
                  <a:pt x="8954" y="5184"/>
                </a:cubicBezTo>
                <a:cubicBezTo>
                  <a:pt x="9037" y="5184"/>
                  <a:pt x="9120" y="5184"/>
                  <a:pt x="9203" y="5184"/>
                </a:cubicBezTo>
              </a:path>
              <a:path w="16149" h="2432">
                <a:moveTo>
                  <a:pt x="9401" y="5259"/>
                </a:moveTo>
                <a:cubicBezTo>
                  <a:pt x="9430" y="5389"/>
                  <a:pt x="9454" y="5493"/>
                  <a:pt x="9525" y="5606"/>
                </a:cubicBezTo>
                <a:cubicBezTo>
                  <a:pt x="9580" y="5692"/>
                  <a:pt x="9651" y="5766"/>
                  <a:pt x="9699" y="5854"/>
                </a:cubicBezTo>
                <a:cubicBezTo>
                  <a:pt x="9720" y="5898"/>
                  <a:pt x="9723" y="5910"/>
                  <a:pt x="9748" y="5928"/>
                </a:cubicBezTo>
              </a:path>
              <a:path w="16149" h="2432">
                <a:moveTo>
                  <a:pt x="9872" y="5259"/>
                </a:moveTo>
                <a:cubicBezTo>
                  <a:pt x="9647" y="5460"/>
                  <a:pt x="9510" y="5630"/>
                  <a:pt x="9327" y="5854"/>
                </a:cubicBezTo>
                <a:cubicBezTo>
                  <a:pt x="9269" y="5925"/>
                  <a:pt x="9242" y="5949"/>
                  <a:pt x="9203" y="6028"/>
                </a:cubicBezTo>
              </a:path>
              <a:path w="16149" h="2432">
                <a:moveTo>
                  <a:pt x="10815" y="4490"/>
                </a:moveTo>
                <a:cubicBezTo>
                  <a:pt x="10752" y="4560"/>
                  <a:pt x="10676" y="4621"/>
                  <a:pt x="10616" y="4688"/>
                </a:cubicBezTo>
                <a:cubicBezTo>
                  <a:pt x="10491" y="4828"/>
                  <a:pt x="10420" y="4970"/>
                  <a:pt x="10344" y="5135"/>
                </a:cubicBezTo>
                <a:cubicBezTo>
                  <a:pt x="10259" y="5318"/>
                  <a:pt x="10203" y="5503"/>
                  <a:pt x="10195" y="5705"/>
                </a:cubicBezTo>
                <a:cubicBezTo>
                  <a:pt x="10189" y="5855"/>
                  <a:pt x="10180" y="6034"/>
                  <a:pt x="10244" y="6176"/>
                </a:cubicBezTo>
                <a:cubicBezTo>
                  <a:pt x="10276" y="6247"/>
                  <a:pt x="10323" y="6342"/>
                  <a:pt x="10393" y="6350"/>
                </a:cubicBezTo>
                <a:cubicBezTo>
                  <a:pt x="10410" y="6350"/>
                  <a:pt x="10426" y="6350"/>
                  <a:pt x="10443" y="6350"/>
                </a:cubicBezTo>
              </a:path>
              <a:path w="16149" h="2432">
                <a:moveTo>
                  <a:pt x="10964" y="4961"/>
                </a:moveTo>
                <a:cubicBezTo>
                  <a:pt x="10999" y="5058"/>
                  <a:pt x="10967" y="5129"/>
                  <a:pt x="10964" y="5234"/>
                </a:cubicBezTo>
                <a:cubicBezTo>
                  <a:pt x="10961" y="5345"/>
                  <a:pt x="10956" y="5471"/>
                  <a:pt x="10939" y="5581"/>
                </a:cubicBezTo>
                <a:cubicBezTo>
                  <a:pt x="10921" y="5696"/>
                  <a:pt x="10871" y="5814"/>
                  <a:pt x="10864" y="5928"/>
                </a:cubicBezTo>
                <a:cubicBezTo>
                  <a:pt x="10864" y="5945"/>
                  <a:pt x="10864" y="5961"/>
                  <a:pt x="10864" y="5978"/>
                </a:cubicBezTo>
                <a:cubicBezTo>
                  <a:pt x="10917" y="5978"/>
                  <a:pt x="10926" y="5966"/>
                  <a:pt x="10964" y="5928"/>
                </a:cubicBezTo>
              </a:path>
              <a:path w="16149" h="2432">
                <a:moveTo>
                  <a:pt x="11237" y="5631"/>
                </a:moveTo>
                <a:cubicBezTo>
                  <a:pt x="11392" y="5603"/>
                  <a:pt x="11526" y="5581"/>
                  <a:pt x="11683" y="5581"/>
                </a:cubicBezTo>
                <a:cubicBezTo>
                  <a:pt x="11767" y="5581"/>
                  <a:pt x="11827" y="5566"/>
                  <a:pt x="11906" y="5556"/>
                </a:cubicBezTo>
              </a:path>
              <a:path w="16149" h="2432">
                <a:moveTo>
                  <a:pt x="12179" y="5283"/>
                </a:moveTo>
                <a:cubicBezTo>
                  <a:pt x="12121" y="5307"/>
                  <a:pt x="11958" y="5351"/>
                  <a:pt x="11931" y="5432"/>
                </a:cubicBezTo>
                <a:cubicBezTo>
                  <a:pt x="11915" y="5480"/>
                  <a:pt x="11967" y="5532"/>
                  <a:pt x="12005" y="5556"/>
                </a:cubicBezTo>
                <a:cubicBezTo>
                  <a:pt x="12082" y="5606"/>
                  <a:pt x="12175" y="5614"/>
                  <a:pt x="12254" y="5655"/>
                </a:cubicBezTo>
                <a:cubicBezTo>
                  <a:pt x="12347" y="5703"/>
                  <a:pt x="12448" y="5737"/>
                  <a:pt x="12526" y="5804"/>
                </a:cubicBezTo>
                <a:cubicBezTo>
                  <a:pt x="12581" y="5851"/>
                  <a:pt x="12552" y="5897"/>
                  <a:pt x="12502" y="5928"/>
                </a:cubicBezTo>
                <a:cubicBezTo>
                  <a:pt x="12438" y="5968"/>
                  <a:pt x="12352" y="6000"/>
                  <a:pt x="12278" y="6003"/>
                </a:cubicBezTo>
                <a:cubicBezTo>
                  <a:pt x="12150" y="6009"/>
                  <a:pt x="12171" y="5952"/>
                  <a:pt x="12204" y="5854"/>
                </a:cubicBezTo>
              </a:path>
              <a:path w="16149" h="2432">
                <a:moveTo>
                  <a:pt x="12700" y="5482"/>
                </a:moveTo>
                <a:cubicBezTo>
                  <a:pt x="12717" y="5578"/>
                  <a:pt x="12714" y="5691"/>
                  <a:pt x="12750" y="5779"/>
                </a:cubicBezTo>
                <a:cubicBezTo>
                  <a:pt x="12767" y="5821"/>
                  <a:pt x="12794" y="5863"/>
                  <a:pt x="12799" y="5904"/>
                </a:cubicBezTo>
                <a:cubicBezTo>
                  <a:pt x="12799" y="5936"/>
                  <a:pt x="12799" y="5936"/>
                  <a:pt x="12799" y="5879"/>
                </a:cubicBezTo>
              </a:path>
              <a:path w="16149" h="2432">
                <a:moveTo>
                  <a:pt x="12650" y="5110"/>
                </a:moveTo>
                <a:cubicBezTo>
                  <a:pt x="12634" y="5110"/>
                  <a:pt x="12617" y="5110"/>
                  <a:pt x="12601" y="5110"/>
                </a:cubicBezTo>
              </a:path>
              <a:path w="16149" h="2432">
                <a:moveTo>
                  <a:pt x="12849" y="5531"/>
                </a:moveTo>
                <a:cubicBezTo>
                  <a:pt x="12865" y="5636"/>
                  <a:pt x="12876" y="5731"/>
                  <a:pt x="12898" y="5829"/>
                </a:cubicBezTo>
                <a:cubicBezTo>
                  <a:pt x="12911" y="5887"/>
                  <a:pt x="12878" y="5895"/>
                  <a:pt x="12874" y="5928"/>
                </a:cubicBezTo>
                <a:cubicBezTo>
                  <a:pt x="12874" y="5953"/>
                  <a:pt x="12874" y="5961"/>
                  <a:pt x="12849" y="5953"/>
                </a:cubicBezTo>
                <a:cubicBezTo>
                  <a:pt x="12849" y="5886"/>
                  <a:pt x="12888" y="5846"/>
                  <a:pt x="12898" y="5779"/>
                </a:cubicBezTo>
                <a:cubicBezTo>
                  <a:pt x="12912" y="5685"/>
                  <a:pt x="12918" y="5592"/>
                  <a:pt x="12973" y="5507"/>
                </a:cubicBezTo>
                <a:cubicBezTo>
                  <a:pt x="12996" y="5484"/>
                  <a:pt x="13004" y="5480"/>
                  <a:pt x="12998" y="5457"/>
                </a:cubicBezTo>
                <a:cubicBezTo>
                  <a:pt x="13051" y="5457"/>
                  <a:pt x="13059" y="5469"/>
                  <a:pt x="13097" y="5507"/>
                </a:cubicBezTo>
                <a:cubicBezTo>
                  <a:pt x="13173" y="5583"/>
                  <a:pt x="13201" y="5661"/>
                  <a:pt x="13246" y="5755"/>
                </a:cubicBezTo>
                <a:cubicBezTo>
                  <a:pt x="13269" y="5803"/>
                  <a:pt x="13305" y="5859"/>
                  <a:pt x="13320" y="5904"/>
                </a:cubicBezTo>
                <a:cubicBezTo>
                  <a:pt x="13329" y="5931"/>
                  <a:pt x="13338" y="5950"/>
                  <a:pt x="13345" y="5978"/>
                </a:cubicBezTo>
              </a:path>
              <a:path w="16149" h="2432">
                <a:moveTo>
                  <a:pt x="13419" y="4911"/>
                </a:moveTo>
                <a:cubicBezTo>
                  <a:pt x="13517" y="4911"/>
                  <a:pt x="13578" y="4915"/>
                  <a:pt x="13667" y="4936"/>
                </a:cubicBezTo>
                <a:cubicBezTo>
                  <a:pt x="13711" y="4946"/>
                  <a:pt x="13696" y="4980"/>
                  <a:pt x="13667" y="5011"/>
                </a:cubicBezTo>
                <a:cubicBezTo>
                  <a:pt x="13602" y="5081"/>
                  <a:pt x="13554" y="5159"/>
                  <a:pt x="13494" y="5234"/>
                </a:cubicBezTo>
                <a:cubicBezTo>
                  <a:pt x="13472" y="5261"/>
                  <a:pt x="13444" y="5308"/>
                  <a:pt x="13494" y="5333"/>
                </a:cubicBezTo>
                <a:cubicBezTo>
                  <a:pt x="13547" y="5360"/>
                  <a:pt x="13685" y="5333"/>
                  <a:pt x="13742" y="5333"/>
                </a:cubicBezTo>
              </a:path>
              <a:path w="16149" h="2432">
                <a:moveTo>
                  <a:pt x="13791" y="5457"/>
                </a:moveTo>
                <a:cubicBezTo>
                  <a:pt x="13850" y="5562"/>
                  <a:pt x="13908" y="5653"/>
                  <a:pt x="13965" y="5755"/>
                </a:cubicBezTo>
                <a:cubicBezTo>
                  <a:pt x="13994" y="5807"/>
                  <a:pt x="14043" y="5876"/>
                  <a:pt x="14064" y="5928"/>
                </a:cubicBezTo>
                <a:cubicBezTo>
                  <a:pt x="14064" y="5936"/>
                  <a:pt x="14064" y="5945"/>
                  <a:pt x="14064" y="5953"/>
                </a:cubicBezTo>
              </a:path>
              <a:path w="16149" h="2432">
                <a:moveTo>
                  <a:pt x="14089" y="5482"/>
                </a:moveTo>
                <a:cubicBezTo>
                  <a:pt x="14025" y="5592"/>
                  <a:pt x="13957" y="5694"/>
                  <a:pt x="13891" y="5804"/>
                </a:cubicBezTo>
                <a:cubicBezTo>
                  <a:pt x="13851" y="5871"/>
                  <a:pt x="13790" y="6013"/>
                  <a:pt x="13717" y="6052"/>
                </a:cubicBezTo>
                <a:cubicBezTo>
                  <a:pt x="13709" y="6052"/>
                  <a:pt x="13700" y="6052"/>
                  <a:pt x="13692" y="6052"/>
                </a:cubicBezTo>
              </a:path>
              <a:path w="16149" h="2432">
                <a:moveTo>
                  <a:pt x="14089" y="4490"/>
                </a:moveTo>
                <a:cubicBezTo>
                  <a:pt x="14166" y="4524"/>
                  <a:pt x="14234" y="4558"/>
                  <a:pt x="14288" y="4638"/>
                </a:cubicBezTo>
                <a:cubicBezTo>
                  <a:pt x="14394" y="4795"/>
                  <a:pt x="14474" y="5001"/>
                  <a:pt x="14511" y="5184"/>
                </a:cubicBezTo>
                <a:cubicBezTo>
                  <a:pt x="14549" y="5374"/>
                  <a:pt x="14524" y="5519"/>
                  <a:pt x="14486" y="5705"/>
                </a:cubicBezTo>
                <a:cubicBezTo>
                  <a:pt x="14447" y="5897"/>
                  <a:pt x="14359" y="6107"/>
                  <a:pt x="14263" y="6276"/>
                </a:cubicBezTo>
                <a:cubicBezTo>
                  <a:pt x="14178" y="6425"/>
                  <a:pt x="14054" y="6552"/>
                  <a:pt x="13965" y="6697"/>
                </a:cubicBezTo>
                <a:cubicBezTo>
                  <a:pt x="13914" y="6780"/>
                  <a:pt x="13871" y="6823"/>
                  <a:pt x="13816" y="6896"/>
                </a:cubicBezTo>
              </a:path>
              <a:path w="16149" h="2432">
                <a:moveTo>
                  <a:pt x="14784" y="5804"/>
                </a:moveTo>
                <a:cubicBezTo>
                  <a:pt x="14846" y="5820"/>
                  <a:pt x="14882" y="5829"/>
                  <a:pt x="14957" y="5829"/>
                </a:cubicBezTo>
                <a:cubicBezTo>
                  <a:pt x="15059" y="5829"/>
                  <a:pt x="15151" y="5854"/>
                  <a:pt x="15255" y="5854"/>
                </a:cubicBezTo>
                <a:cubicBezTo>
                  <a:pt x="15316" y="5854"/>
                  <a:pt x="15399" y="5854"/>
                  <a:pt x="15453" y="5829"/>
                </a:cubicBezTo>
                <a:cubicBezTo>
                  <a:pt x="15504" y="5805"/>
                  <a:pt x="15514" y="5784"/>
                  <a:pt x="15577" y="5779"/>
                </a:cubicBezTo>
                <a:cubicBezTo>
                  <a:pt x="15637" y="5774"/>
                  <a:pt x="15693" y="5738"/>
                  <a:pt x="15751" y="5730"/>
                </a:cubicBezTo>
                <a:cubicBezTo>
                  <a:pt x="15821" y="5721"/>
                  <a:pt x="15878" y="5705"/>
                  <a:pt x="15949" y="5705"/>
                </a:cubicBezTo>
              </a:path>
              <a:path w="16149" h="2432">
                <a:moveTo>
                  <a:pt x="16049" y="5631"/>
                </a:moveTo>
                <a:cubicBezTo>
                  <a:pt x="15981" y="5611"/>
                  <a:pt x="15971" y="5622"/>
                  <a:pt x="15900" y="5655"/>
                </a:cubicBezTo>
                <a:cubicBezTo>
                  <a:pt x="15833" y="5687"/>
                  <a:pt x="15807" y="5707"/>
                  <a:pt x="15801" y="5779"/>
                </a:cubicBezTo>
                <a:cubicBezTo>
                  <a:pt x="15796" y="5839"/>
                  <a:pt x="15882" y="5857"/>
                  <a:pt x="15925" y="5879"/>
                </a:cubicBezTo>
                <a:cubicBezTo>
                  <a:pt x="16032" y="5933"/>
                  <a:pt x="16133" y="5945"/>
                  <a:pt x="16222" y="6028"/>
                </a:cubicBezTo>
                <a:cubicBezTo>
                  <a:pt x="16274" y="6077"/>
                  <a:pt x="16363" y="6149"/>
                  <a:pt x="16297" y="6226"/>
                </a:cubicBezTo>
                <a:cubicBezTo>
                  <a:pt x="16268" y="6260"/>
                  <a:pt x="16120" y="6314"/>
                  <a:pt x="16073" y="6325"/>
                </a:cubicBezTo>
                <a:cubicBezTo>
                  <a:pt x="16032" y="6334"/>
                  <a:pt x="15977" y="6308"/>
                  <a:pt x="15974" y="6276"/>
                </a:cubicBezTo>
                <a:cubicBezTo>
                  <a:pt x="15974" y="6259"/>
                  <a:pt x="15974" y="6243"/>
                  <a:pt x="15974" y="6226"/>
                </a:cubicBezTo>
              </a:path>
              <a:path w="16149" h="2432">
                <a:moveTo>
                  <a:pt x="16470" y="5804"/>
                </a:moveTo>
                <a:cubicBezTo>
                  <a:pt x="16485" y="5910"/>
                  <a:pt x="16495" y="5997"/>
                  <a:pt x="16495" y="6102"/>
                </a:cubicBezTo>
                <a:cubicBezTo>
                  <a:pt x="16495" y="6162"/>
                  <a:pt x="16502" y="6158"/>
                  <a:pt x="16470" y="6201"/>
                </a:cubicBezTo>
              </a:path>
              <a:path w="16149" h="2432">
                <a:moveTo>
                  <a:pt x="16371" y="5407"/>
                </a:moveTo>
                <a:cubicBezTo>
                  <a:pt x="16346" y="5407"/>
                  <a:pt x="16338" y="5407"/>
                  <a:pt x="16371" y="5407"/>
                </a:cubicBezTo>
              </a:path>
              <a:path w="16149" h="2432">
                <a:moveTo>
                  <a:pt x="16619" y="5730"/>
                </a:moveTo>
                <a:cubicBezTo>
                  <a:pt x="16636" y="5793"/>
                  <a:pt x="16651" y="5850"/>
                  <a:pt x="16669" y="5904"/>
                </a:cubicBezTo>
                <a:cubicBezTo>
                  <a:pt x="16669" y="5937"/>
                  <a:pt x="16669" y="5953"/>
                  <a:pt x="16669" y="5978"/>
                </a:cubicBezTo>
                <a:cubicBezTo>
                  <a:pt x="16669" y="5903"/>
                  <a:pt x="16672" y="5852"/>
                  <a:pt x="16694" y="5779"/>
                </a:cubicBezTo>
                <a:cubicBezTo>
                  <a:pt x="16723" y="5684"/>
                  <a:pt x="16774" y="5591"/>
                  <a:pt x="16892" y="5581"/>
                </a:cubicBezTo>
                <a:cubicBezTo>
                  <a:pt x="16987" y="5573"/>
                  <a:pt x="16980" y="5709"/>
                  <a:pt x="16991" y="5755"/>
                </a:cubicBezTo>
                <a:cubicBezTo>
                  <a:pt x="17004" y="5812"/>
                  <a:pt x="17008" y="5959"/>
                  <a:pt x="17041" y="6003"/>
                </a:cubicBezTo>
                <a:cubicBezTo>
                  <a:pt x="17076" y="6003"/>
                  <a:pt x="17089" y="5994"/>
                  <a:pt x="17090" y="5953"/>
                </a:cubicBezTo>
              </a:path>
              <a:path w="16149" h="2432">
                <a:moveTo>
                  <a:pt x="16966" y="5135"/>
                </a:moveTo>
                <a:cubicBezTo>
                  <a:pt x="17015" y="5067"/>
                  <a:pt x="17094" y="5028"/>
                  <a:pt x="17190" y="5035"/>
                </a:cubicBezTo>
                <a:cubicBezTo>
                  <a:pt x="17236" y="5038"/>
                  <a:pt x="17409" y="5059"/>
                  <a:pt x="17438" y="5110"/>
                </a:cubicBezTo>
                <a:cubicBezTo>
                  <a:pt x="17478" y="5179"/>
                  <a:pt x="17442" y="5265"/>
                  <a:pt x="17413" y="5333"/>
                </a:cubicBezTo>
                <a:cubicBezTo>
                  <a:pt x="17386" y="5396"/>
                  <a:pt x="17306" y="5444"/>
                  <a:pt x="17289" y="5507"/>
                </a:cubicBezTo>
                <a:cubicBezTo>
                  <a:pt x="17267" y="5590"/>
                  <a:pt x="17298" y="5663"/>
                  <a:pt x="17363" y="5705"/>
                </a:cubicBezTo>
                <a:cubicBezTo>
                  <a:pt x="17461" y="5768"/>
                  <a:pt x="17576" y="5755"/>
                  <a:pt x="17686" y="5755"/>
                </a:cubicBezTo>
              </a:path>
              <a:path w="16149" h="2432">
                <a:moveTo>
                  <a:pt x="17909" y="5556"/>
                </a:moveTo>
                <a:cubicBezTo>
                  <a:pt x="17986" y="5643"/>
                  <a:pt x="18026" y="5716"/>
                  <a:pt x="18058" y="5829"/>
                </a:cubicBezTo>
                <a:cubicBezTo>
                  <a:pt x="18093" y="5954"/>
                  <a:pt x="18175" y="6051"/>
                  <a:pt x="18207" y="6176"/>
                </a:cubicBezTo>
                <a:cubicBezTo>
                  <a:pt x="18207" y="6201"/>
                  <a:pt x="18207" y="6209"/>
                  <a:pt x="18231" y="6201"/>
                </a:cubicBezTo>
              </a:path>
              <a:path w="16149" h="2432">
                <a:moveTo>
                  <a:pt x="18380" y="5779"/>
                </a:moveTo>
                <a:cubicBezTo>
                  <a:pt x="18178" y="5966"/>
                  <a:pt x="17963" y="6140"/>
                  <a:pt x="17760" y="6325"/>
                </a:cubicBezTo>
                <a:cubicBezTo>
                  <a:pt x="17712" y="6369"/>
                  <a:pt x="17627" y="6447"/>
                  <a:pt x="17587" y="6474"/>
                </a:cubicBezTo>
                <a:cubicBezTo>
                  <a:pt x="17579" y="6474"/>
                  <a:pt x="17570" y="6474"/>
                  <a:pt x="17562" y="6474"/>
                </a:cubicBezTo>
              </a:path>
              <a:path w="16149" h="2432">
                <a:moveTo>
                  <a:pt x="18554" y="5928"/>
                </a:moveTo>
                <a:cubicBezTo>
                  <a:pt x="18642" y="5896"/>
                  <a:pt x="18667" y="5917"/>
                  <a:pt x="18752" y="5928"/>
                </a:cubicBezTo>
                <a:cubicBezTo>
                  <a:pt x="18841" y="5939"/>
                  <a:pt x="18914" y="5908"/>
                  <a:pt x="19000" y="5904"/>
                </a:cubicBezTo>
                <a:cubicBezTo>
                  <a:pt x="19017" y="5904"/>
                  <a:pt x="19033" y="5904"/>
                  <a:pt x="19050" y="5904"/>
                </a:cubicBezTo>
              </a:path>
              <a:path w="16149" h="2432">
                <a:moveTo>
                  <a:pt x="19496" y="5680"/>
                </a:moveTo>
                <a:cubicBezTo>
                  <a:pt x="19405" y="5699"/>
                  <a:pt x="19408" y="5734"/>
                  <a:pt x="19348" y="5804"/>
                </a:cubicBezTo>
                <a:cubicBezTo>
                  <a:pt x="19311" y="5848"/>
                  <a:pt x="19177" y="5985"/>
                  <a:pt x="19199" y="6052"/>
                </a:cubicBezTo>
                <a:cubicBezTo>
                  <a:pt x="19227" y="6139"/>
                  <a:pt x="19304" y="6339"/>
                  <a:pt x="19447" y="6276"/>
                </a:cubicBezTo>
                <a:cubicBezTo>
                  <a:pt x="19551" y="6230"/>
                  <a:pt x="19679" y="6173"/>
                  <a:pt x="19769" y="6102"/>
                </a:cubicBezTo>
                <a:cubicBezTo>
                  <a:pt x="19817" y="6064"/>
                  <a:pt x="19902" y="5938"/>
                  <a:pt x="19893" y="5879"/>
                </a:cubicBezTo>
                <a:cubicBezTo>
                  <a:pt x="19885" y="5830"/>
                  <a:pt x="19818" y="5764"/>
                  <a:pt x="19769" y="5755"/>
                </a:cubicBezTo>
                <a:cubicBezTo>
                  <a:pt x="19688" y="5740"/>
                  <a:pt x="19656" y="5784"/>
                  <a:pt x="19596" y="5804"/>
                </a:cubicBezTo>
                <a:cubicBezTo>
                  <a:pt x="19553" y="5818"/>
                  <a:pt x="19562" y="5798"/>
                  <a:pt x="19521" y="5829"/>
                </a:cubicBezTo>
              </a:path>
              <a:path w="16149" h="2432">
                <a:moveTo>
                  <a:pt x="19124" y="5779"/>
                </a:moveTo>
                <a:cubicBezTo>
                  <a:pt x="19107" y="5745"/>
                  <a:pt x="19083" y="5796"/>
                  <a:pt x="19050" y="5829"/>
                </a:cubicBezTo>
                <a:cubicBezTo>
                  <a:pt x="18979" y="5900"/>
                  <a:pt x="18946" y="5931"/>
                  <a:pt x="18926" y="6028"/>
                </a:cubicBezTo>
                <a:cubicBezTo>
                  <a:pt x="18914" y="6087"/>
                  <a:pt x="18898" y="6141"/>
                  <a:pt x="18926" y="6201"/>
                </a:cubicBezTo>
                <a:cubicBezTo>
                  <a:pt x="18958" y="6270"/>
                  <a:pt x="19038" y="6273"/>
                  <a:pt x="19100" y="6276"/>
                </a:cubicBezTo>
                <a:cubicBezTo>
                  <a:pt x="19116" y="6276"/>
                  <a:pt x="19133" y="6276"/>
                  <a:pt x="19149" y="6276"/>
                </a:cubicBezTo>
              </a:path>
              <a:path w="16149" h="2432">
                <a:moveTo>
                  <a:pt x="20265" y="5730"/>
                </a:moveTo>
                <a:cubicBezTo>
                  <a:pt x="20212" y="5730"/>
                  <a:pt x="20192" y="5731"/>
                  <a:pt x="20141" y="5755"/>
                </a:cubicBezTo>
                <a:cubicBezTo>
                  <a:pt x="20064" y="5792"/>
                  <a:pt x="19977" y="5821"/>
                  <a:pt x="19943" y="5904"/>
                </a:cubicBezTo>
                <a:cubicBezTo>
                  <a:pt x="19930" y="5936"/>
                  <a:pt x="19960" y="5996"/>
                  <a:pt x="19993" y="6003"/>
                </a:cubicBezTo>
                <a:cubicBezTo>
                  <a:pt x="20081" y="6022"/>
                  <a:pt x="20134" y="5996"/>
                  <a:pt x="20216" y="6052"/>
                </a:cubicBezTo>
                <a:cubicBezTo>
                  <a:pt x="20275" y="6092"/>
                  <a:pt x="20248" y="6173"/>
                  <a:pt x="20241" y="6226"/>
                </a:cubicBezTo>
                <a:cubicBezTo>
                  <a:pt x="20235" y="6269"/>
                  <a:pt x="20211" y="6329"/>
                  <a:pt x="20166" y="6350"/>
                </a:cubicBezTo>
                <a:cubicBezTo>
                  <a:pt x="20094" y="6385"/>
                  <a:pt x="20020" y="6375"/>
                  <a:pt x="19943" y="6375"/>
                </a:cubicBezTo>
                <a:cubicBezTo>
                  <a:pt x="19900" y="6375"/>
                  <a:pt x="19902" y="6359"/>
                  <a:pt x="19893" y="6325"/>
                </a:cubicBezTo>
              </a:path>
              <a:path w="16149" h="2432">
                <a:moveTo>
                  <a:pt x="20389" y="5432"/>
                </a:moveTo>
                <a:cubicBezTo>
                  <a:pt x="20476" y="5432"/>
                  <a:pt x="20542" y="5424"/>
                  <a:pt x="20613" y="5482"/>
                </a:cubicBezTo>
                <a:cubicBezTo>
                  <a:pt x="20659" y="5520"/>
                  <a:pt x="20635" y="5560"/>
                  <a:pt x="20613" y="5606"/>
                </a:cubicBezTo>
                <a:cubicBezTo>
                  <a:pt x="20592" y="5650"/>
                  <a:pt x="20541" y="5685"/>
                  <a:pt x="20538" y="5730"/>
                </a:cubicBezTo>
                <a:cubicBezTo>
                  <a:pt x="20531" y="5833"/>
                  <a:pt x="20590" y="5844"/>
                  <a:pt x="20687" y="5854"/>
                </a:cubicBezTo>
                <a:cubicBezTo>
                  <a:pt x="20744" y="5860"/>
                  <a:pt x="20804" y="5854"/>
                  <a:pt x="20861" y="5854"/>
                </a:cubicBezTo>
              </a:path>
              <a:path w="16149" h="2432">
                <a:moveTo>
                  <a:pt x="20985" y="5680"/>
                </a:moveTo>
                <a:cubicBezTo>
                  <a:pt x="21068" y="5764"/>
                  <a:pt x="21126" y="5830"/>
                  <a:pt x="21183" y="5928"/>
                </a:cubicBezTo>
                <a:cubicBezTo>
                  <a:pt x="21244" y="6034"/>
                  <a:pt x="21279" y="6145"/>
                  <a:pt x="21332" y="6251"/>
                </a:cubicBezTo>
                <a:cubicBezTo>
                  <a:pt x="21383" y="6352"/>
                  <a:pt x="21394" y="6450"/>
                  <a:pt x="21431" y="6548"/>
                </a:cubicBezTo>
                <a:cubicBezTo>
                  <a:pt x="21454" y="6571"/>
                  <a:pt x="21462" y="6575"/>
                  <a:pt x="21456" y="6598"/>
                </a:cubicBezTo>
              </a:path>
              <a:path w="16149" h="2432">
                <a:moveTo>
                  <a:pt x="21382" y="5829"/>
                </a:moveTo>
                <a:cubicBezTo>
                  <a:pt x="21373" y="5978"/>
                  <a:pt x="21335" y="6095"/>
                  <a:pt x="21258" y="6226"/>
                </a:cubicBezTo>
                <a:cubicBezTo>
                  <a:pt x="21147" y="6416"/>
                  <a:pt x="20989" y="6571"/>
                  <a:pt x="20861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2562120" y="2633760"/>
            <a:ext cx="1947960" cy="573120"/>
          </a:xfrm>
          <a:custGeom>
            <a:avLst/>
            <a:gdLst/>
            <a:ahLst/>
            <a:rect l="l" t="t" r="r" b="b"/>
            <a:pathLst>
              <a:path w="5408" h="1589">
                <a:moveTo>
                  <a:pt x="7144" y="7541"/>
                </a:moveTo>
                <a:cubicBezTo>
                  <a:pt x="7144" y="7494"/>
                  <a:pt x="7119" y="7368"/>
                  <a:pt x="7169" y="7342"/>
                </a:cubicBezTo>
                <a:cubicBezTo>
                  <a:pt x="7202" y="7325"/>
                  <a:pt x="7275" y="7305"/>
                  <a:pt x="7317" y="7317"/>
                </a:cubicBezTo>
                <a:cubicBezTo>
                  <a:pt x="7358" y="7329"/>
                  <a:pt x="7441" y="7383"/>
                  <a:pt x="7466" y="7417"/>
                </a:cubicBezTo>
                <a:cubicBezTo>
                  <a:pt x="7534" y="7512"/>
                  <a:pt x="7516" y="7630"/>
                  <a:pt x="7516" y="7739"/>
                </a:cubicBezTo>
                <a:cubicBezTo>
                  <a:pt x="7516" y="7900"/>
                  <a:pt x="7494" y="8074"/>
                  <a:pt x="7367" y="8186"/>
                </a:cubicBezTo>
                <a:cubicBezTo>
                  <a:pt x="7310" y="8236"/>
                  <a:pt x="7264" y="8283"/>
                  <a:pt x="7193" y="8235"/>
                </a:cubicBezTo>
                <a:cubicBezTo>
                  <a:pt x="7135" y="8196"/>
                  <a:pt x="7156" y="8022"/>
                  <a:pt x="7144" y="7962"/>
                </a:cubicBezTo>
                <a:cubicBezTo>
                  <a:pt x="7130" y="7893"/>
                  <a:pt x="7092" y="7880"/>
                  <a:pt x="7144" y="7863"/>
                </a:cubicBezTo>
                <a:cubicBezTo>
                  <a:pt x="7165" y="7895"/>
                  <a:pt x="7223" y="7922"/>
                  <a:pt x="7268" y="7962"/>
                </a:cubicBezTo>
                <a:cubicBezTo>
                  <a:pt x="7368" y="8051"/>
                  <a:pt x="7440" y="8129"/>
                  <a:pt x="7516" y="8235"/>
                </a:cubicBezTo>
                <a:cubicBezTo>
                  <a:pt x="7539" y="8267"/>
                  <a:pt x="7572" y="8346"/>
                  <a:pt x="7590" y="8310"/>
                </a:cubicBezTo>
                <a:cubicBezTo>
                  <a:pt x="7607" y="8277"/>
                  <a:pt x="7603" y="8296"/>
                  <a:pt x="7615" y="8260"/>
                </a:cubicBezTo>
              </a:path>
              <a:path w="5408" h="1589">
                <a:moveTo>
                  <a:pt x="7938" y="7789"/>
                </a:moveTo>
                <a:cubicBezTo>
                  <a:pt x="7893" y="7814"/>
                  <a:pt x="7796" y="7851"/>
                  <a:pt x="7764" y="7888"/>
                </a:cubicBezTo>
                <a:cubicBezTo>
                  <a:pt x="7749" y="7905"/>
                  <a:pt x="7747" y="7914"/>
                  <a:pt x="7739" y="7938"/>
                </a:cubicBezTo>
                <a:cubicBezTo>
                  <a:pt x="7771" y="7977"/>
                  <a:pt x="7793" y="8034"/>
                  <a:pt x="7838" y="8062"/>
                </a:cubicBezTo>
                <a:cubicBezTo>
                  <a:pt x="7891" y="8095"/>
                  <a:pt x="7976" y="8180"/>
                  <a:pt x="8012" y="8235"/>
                </a:cubicBezTo>
                <a:cubicBezTo>
                  <a:pt x="8039" y="8275"/>
                  <a:pt x="7935" y="8368"/>
                  <a:pt x="7913" y="8384"/>
                </a:cubicBezTo>
                <a:cubicBezTo>
                  <a:pt x="7870" y="8415"/>
                  <a:pt x="7837" y="8409"/>
                  <a:pt x="7789" y="8409"/>
                </a:cubicBezTo>
                <a:cubicBezTo>
                  <a:pt x="7789" y="8376"/>
                  <a:pt x="7789" y="8343"/>
                  <a:pt x="7789" y="8310"/>
                </a:cubicBezTo>
              </a:path>
              <a:path w="5408" h="1589">
                <a:moveTo>
                  <a:pt x="8111" y="8111"/>
                </a:moveTo>
                <a:cubicBezTo>
                  <a:pt x="8225" y="8128"/>
                  <a:pt x="8306" y="8157"/>
                  <a:pt x="8409" y="8111"/>
                </a:cubicBezTo>
                <a:cubicBezTo>
                  <a:pt x="8478" y="8080"/>
                  <a:pt x="8541" y="8015"/>
                  <a:pt x="8558" y="7938"/>
                </a:cubicBezTo>
                <a:cubicBezTo>
                  <a:pt x="8570" y="7885"/>
                  <a:pt x="8557" y="7852"/>
                  <a:pt x="8533" y="7813"/>
                </a:cubicBezTo>
                <a:cubicBezTo>
                  <a:pt x="8459" y="7784"/>
                  <a:pt x="8365" y="7838"/>
                  <a:pt x="8310" y="7913"/>
                </a:cubicBezTo>
                <a:cubicBezTo>
                  <a:pt x="8209" y="8051"/>
                  <a:pt x="8097" y="8310"/>
                  <a:pt x="8136" y="8483"/>
                </a:cubicBezTo>
                <a:cubicBezTo>
                  <a:pt x="8159" y="8586"/>
                  <a:pt x="8246" y="8718"/>
                  <a:pt x="8359" y="8706"/>
                </a:cubicBezTo>
                <a:cubicBezTo>
                  <a:pt x="8525" y="8688"/>
                  <a:pt x="8571" y="8562"/>
                  <a:pt x="8657" y="8434"/>
                </a:cubicBezTo>
              </a:path>
              <a:path w="5408" h="1589">
                <a:moveTo>
                  <a:pt x="9004" y="7987"/>
                </a:moveTo>
                <a:cubicBezTo>
                  <a:pt x="8974" y="7949"/>
                  <a:pt x="8926" y="7872"/>
                  <a:pt x="8855" y="7913"/>
                </a:cubicBezTo>
                <a:cubicBezTo>
                  <a:pt x="8768" y="7964"/>
                  <a:pt x="8709" y="8096"/>
                  <a:pt x="8682" y="8186"/>
                </a:cubicBezTo>
                <a:cubicBezTo>
                  <a:pt x="8645" y="8311"/>
                  <a:pt x="8613" y="8543"/>
                  <a:pt x="8706" y="8657"/>
                </a:cubicBezTo>
                <a:cubicBezTo>
                  <a:pt x="8745" y="8705"/>
                  <a:pt x="8863" y="8690"/>
                  <a:pt x="8905" y="8657"/>
                </a:cubicBezTo>
                <a:cubicBezTo>
                  <a:pt x="8988" y="8592"/>
                  <a:pt x="9035" y="8489"/>
                  <a:pt x="9103" y="8409"/>
                </a:cubicBezTo>
              </a:path>
              <a:path w="5408" h="1589">
                <a:moveTo>
                  <a:pt x="9054" y="7615"/>
                </a:moveTo>
                <a:cubicBezTo>
                  <a:pt x="9134" y="7571"/>
                  <a:pt x="9189" y="7536"/>
                  <a:pt x="9277" y="7590"/>
                </a:cubicBezTo>
                <a:cubicBezTo>
                  <a:pt x="9343" y="7631"/>
                  <a:pt x="9336" y="7751"/>
                  <a:pt x="9327" y="7813"/>
                </a:cubicBezTo>
                <a:cubicBezTo>
                  <a:pt x="9314" y="7902"/>
                  <a:pt x="9217" y="8074"/>
                  <a:pt x="9252" y="8161"/>
                </a:cubicBezTo>
                <a:cubicBezTo>
                  <a:pt x="9263" y="8189"/>
                  <a:pt x="9353" y="8179"/>
                  <a:pt x="9376" y="8186"/>
                </a:cubicBezTo>
                <a:cubicBezTo>
                  <a:pt x="9435" y="8203"/>
                  <a:pt x="9462" y="8210"/>
                  <a:pt x="9525" y="8210"/>
                </a:cubicBezTo>
              </a:path>
              <a:path w="5408" h="1589">
                <a:moveTo>
                  <a:pt x="9798" y="7962"/>
                </a:moveTo>
                <a:cubicBezTo>
                  <a:pt x="9865" y="8110"/>
                  <a:pt x="9920" y="8289"/>
                  <a:pt x="9996" y="8434"/>
                </a:cubicBezTo>
                <a:cubicBezTo>
                  <a:pt x="10016" y="8473"/>
                  <a:pt x="10071" y="8585"/>
                  <a:pt x="10120" y="8607"/>
                </a:cubicBezTo>
                <a:cubicBezTo>
                  <a:pt x="10153" y="8607"/>
                  <a:pt x="10161" y="8599"/>
                  <a:pt x="10145" y="8558"/>
                </a:cubicBezTo>
              </a:path>
              <a:path w="5408" h="1589">
                <a:moveTo>
                  <a:pt x="10120" y="7987"/>
                </a:moveTo>
                <a:cubicBezTo>
                  <a:pt x="10029" y="8188"/>
                  <a:pt x="9928" y="8365"/>
                  <a:pt x="9823" y="8558"/>
                </a:cubicBezTo>
                <a:cubicBezTo>
                  <a:pt x="9768" y="8659"/>
                  <a:pt x="9712" y="8783"/>
                  <a:pt x="9674" y="8880"/>
                </a:cubicBezTo>
              </a:path>
              <a:path w="5408" h="1589">
                <a:moveTo>
                  <a:pt x="10740" y="7565"/>
                </a:moveTo>
                <a:cubicBezTo>
                  <a:pt x="10664" y="7642"/>
                  <a:pt x="10619" y="7699"/>
                  <a:pt x="10567" y="7789"/>
                </a:cubicBezTo>
                <a:cubicBezTo>
                  <a:pt x="10501" y="7903"/>
                  <a:pt x="10475" y="8007"/>
                  <a:pt x="10443" y="8136"/>
                </a:cubicBezTo>
                <a:cubicBezTo>
                  <a:pt x="10407" y="8280"/>
                  <a:pt x="10428" y="8393"/>
                  <a:pt x="10443" y="8533"/>
                </a:cubicBezTo>
                <a:cubicBezTo>
                  <a:pt x="10452" y="8615"/>
                  <a:pt x="10466" y="8704"/>
                  <a:pt x="10492" y="8781"/>
                </a:cubicBezTo>
                <a:cubicBezTo>
                  <a:pt x="10510" y="8834"/>
                  <a:pt x="10554" y="8867"/>
                  <a:pt x="10592" y="8905"/>
                </a:cubicBezTo>
              </a:path>
              <a:path w="5408" h="1589">
                <a:moveTo>
                  <a:pt x="11038" y="7913"/>
                </a:moveTo>
                <a:cubicBezTo>
                  <a:pt x="11019" y="7900"/>
                  <a:pt x="10987" y="7891"/>
                  <a:pt x="10964" y="7938"/>
                </a:cubicBezTo>
                <a:cubicBezTo>
                  <a:pt x="10915" y="8036"/>
                  <a:pt x="10895" y="8152"/>
                  <a:pt x="10864" y="8260"/>
                </a:cubicBezTo>
                <a:cubicBezTo>
                  <a:pt x="10835" y="8361"/>
                  <a:pt x="10823" y="8460"/>
                  <a:pt x="10864" y="8558"/>
                </a:cubicBezTo>
                <a:cubicBezTo>
                  <a:pt x="10888" y="8615"/>
                  <a:pt x="10906" y="8668"/>
                  <a:pt x="10964" y="8682"/>
                </a:cubicBezTo>
                <a:cubicBezTo>
                  <a:pt x="11048" y="8629"/>
                  <a:pt x="11132" y="8542"/>
                  <a:pt x="11187" y="8458"/>
                </a:cubicBezTo>
                <a:cubicBezTo>
                  <a:pt x="11267" y="8337"/>
                  <a:pt x="11282" y="8245"/>
                  <a:pt x="11311" y="8111"/>
                </a:cubicBezTo>
                <a:cubicBezTo>
                  <a:pt x="11331" y="8019"/>
                  <a:pt x="11330" y="7890"/>
                  <a:pt x="11187" y="7913"/>
                </a:cubicBezTo>
                <a:cubicBezTo>
                  <a:pt x="11155" y="7918"/>
                  <a:pt x="11030" y="7937"/>
                  <a:pt x="11013" y="7962"/>
                </a:cubicBezTo>
                <a:cubicBezTo>
                  <a:pt x="11013" y="7987"/>
                  <a:pt x="11013" y="7995"/>
                  <a:pt x="11038" y="7987"/>
                </a:cubicBezTo>
              </a:path>
              <a:path w="5408" h="1589">
                <a:moveTo>
                  <a:pt x="11485" y="7938"/>
                </a:moveTo>
                <a:cubicBezTo>
                  <a:pt x="11421" y="8000"/>
                  <a:pt x="11396" y="8042"/>
                  <a:pt x="11361" y="8111"/>
                </a:cubicBezTo>
                <a:cubicBezTo>
                  <a:pt x="11335" y="8163"/>
                  <a:pt x="11358" y="8165"/>
                  <a:pt x="11410" y="8186"/>
                </a:cubicBezTo>
                <a:cubicBezTo>
                  <a:pt x="11478" y="8214"/>
                  <a:pt x="11551" y="8229"/>
                  <a:pt x="11609" y="8260"/>
                </a:cubicBezTo>
                <a:cubicBezTo>
                  <a:pt x="11668" y="8292"/>
                  <a:pt x="11727" y="8339"/>
                  <a:pt x="11658" y="8409"/>
                </a:cubicBezTo>
                <a:cubicBezTo>
                  <a:pt x="11604" y="8464"/>
                  <a:pt x="11504" y="8519"/>
                  <a:pt x="11435" y="8558"/>
                </a:cubicBezTo>
                <a:cubicBezTo>
                  <a:pt x="11377" y="8591"/>
                  <a:pt x="11335" y="8594"/>
                  <a:pt x="11286" y="8558"/>
                </a:cubicBezTo>
              </a:path>
              <a:path w="5408" h="1589">
                <a:moveTo>
                  <a:pt x="10964" y="7665"/>
                </a:moveTo>
                <a:cubicBezTo>
                  <a:pt x="10912" y="7636"/>
                  <a:pt x="10896" y="7618"/>
                  <a:pt x="10840" y="7615"/>
                </a:cubicBezTo>
                <a:cubicBezTo>
                  <a:pt x="10787" y="7612"/>
                  <a:pt x="10786" y="7628"/>
                  <a:pt x="10765" y="7640"/>
                </a:cubicBezTo>
                <a:cubicBezTo>
                  <a:pt x="10733" y="7657"/>
                  <a:pt x="10700" y="7669"/>
                  <a:pt x="10666" y="7689"/>
                </a:cubicBezTo>
                <a:cubicBezTo>
                  <a:pt x="10615" y="7719"/>
                  <a:pt x="10585" y="7747"/>
                  <a:pt x="10542" y="7789"/>
                </a:cubicBezTo>
                <a:cubicBezTo>
                  <a:pt x="10489" y="7841"/>
                  <a:pt x="10472" y="7908"/>
                  <a:pt x="10443" y="7962"/>
                </a:cubicBezTo>
                <a:cubicBezTo>
                  <a:pt x="10423" y="7998"/>
                  <a:pt x="10400" y="8065"/>
                  <a:pt x="10393" y="8111"/>
                </a:cubicBezTo>
                <a:cubicBezTo>
                  <a:pt x="10380" y="8194"/>
                  <a:pt x="10406" y="8260"/>
                  <a:pt x="10418" y="8334"/>
                </a:cubicBezTo>
                <a:cubicBezTo>
                  <a:pt x="10429" y="8403"/>
                  <a:pt x="10426" y="8467"/>
                  <a:pt x="10443" y="8533"/>
                </a:cubicBezTo>
                <a:cubicBezTo>
                  <a:pt x="10463" y="8608"/>
                  <a:pt x="10501" y="8682"/>
                  <a:pt x="10517" y="8756"/>
                </a:cubicBezTo>
                <a:cubicBezTo>
                  <a:pt x="10532" y="8822"/>
                  <a:pt x="10542" y="8829"/>
                  <a:pt x="10592" y="8880"/>
                </a:cubicBezTo>
                <a:cubicBezTo>
                  <a:pt x="10631" y="8919"/>
                  <a:pt x="10687" y="8905"/>
                  <a:pt x="10740" y="8905"/>
                </a:cubicBezTo>
                <a:cubicBezTo>
                  <a:pt x="10828" y="8905"/>
                  <a:pt x="10909" y="8867"/>
                  <a:pt x="10988" y="8830"/>
                </a:cubicBezTo>
                <a:cubicBezTo>
                  <a:pt x="11029" y="8810"/>
                  <a:pt x="11035" y="8802"/>
                  <a:pt x="11063" y="8806"/>
                </a:cubicBezTo>
              </a:path>
              <a:path w="5408" h="1589">
                <a:moveTo>
                  <a:pt x="11807" y="7615"/>
                </a:moveTo>
                <a:cubicBezTo>
                  <a:pt x="11846" y="7576"/>
                  <a:pt x="11876" y="7554"/>
                  <a:pt x="11931" y="7541"/>
                </a:cubicBezTo>
                <a:cubicBezTo>
                  <a:pt x="11976" y="7530"/>
                  <a:pt x="12034" y="7543"/>
                  <a:pt x="12055" y="7590"/>
                </a:cubicBezTo>
                <a:cubicBezTo>
                  <a:pt x="12088" y="7664"/>
                  <a:pt x="12014" y="7714"/>
                  <a:pt x="11981" y="7764"/>
                </a:cubicBezTo>
                <a:cubicBezTo>
                  <a:pt x="11941" y="7824"/>
                  <a:pt x="11907" y="7824"/>
                  <a:pt x="11857" y="7863"/>
                </a:cubicBezTo>
                <a:cubicBezTo>
                  <a:pt x="11907" y="7876"/>
                  <a:pt x="11920" y="7888"/>
                  <a:pt x="11981" y="7888"/>
                </a:cubicBezTo>
                <a:cubicBezTo>
                  <a:pt x="12063" y="7888"/>
                  <a:pt x="12080" y="7888"/>
                  <a:pt x="12129" y="7888"/>
                </a:cubicBezTo>
              </a:path>
              <a:path w="5408" h="1589">
                <a:moveTo>
                  <a:pt x="12278" y="7962"/>
                </a:moveTo>
                <a:cubicBezTo>
                  <a:pt x="12311" y="8072"/>
                  <a:pt x="12329" y="8160"/>
                  <a:pt x="12378" y="8260"/>
                </a:cubicBezTo>
                <a:cubicBezTo>
                  <a:pt x="12406" y="8316"/>
                  <a:pt x="12455" y="8379"/>
                  <a:pt x="12477" y="8434"/>
                </a:cubicBezTo>
                <a:cubicBezTo>
                  <a:pt x="12490" y="8465"/>
                  <a:pt x="12481" y="8501"/>
                  <a:pt x="12502" y="8458"/>
                </a:cubicBezTo>
              </a:path>
              <a:path w="5408" h="1589">
                <a:moveTo>
                  <a:pt x="12526" y="8012"/>
                </a:moveTo>
                <a:cubicBezTo>
                  <a:pt x="12434" y="8070"/>
                  <a:pt x="12420" y="8128"/>
                  <a:pt x="12353" y="8210"/>
                </a:cubicBezTo>
                <a:cubicBezTo>
                  <a:pt x="12289" y="8290"/>
                  <a:pt x="12239" y="8375"/>
                  <a:pt x="12179" y="8458"/>
                </a:cubicBezTo>
                <a:cubicBezTo>
                  <a:pt x="12171" y="8466"/>
                  <a:pt x="12162" y="8475"/>
                  <a:pt x="12154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4697280" y="2803680"/>
            <a:ext cx="1919520" cy="447480"/>
          </a:xfrm>
          <a:custGeom>
            <a:avLst/>
            <a:gdLst/>
            <a:ahLst/>
            <a:rect l="l" t="t" r="r" b="b"/>
            <a:pathLst>
              <a:path w="5334" h="1241">
                <a:moveTo>
                  <a:pt x="13047" y="8210"/>
                </a:moveTo>
                <a:cubicBezTo>
                  <a:pt x="13101" y="8179"/>
                  <a:pt x="13161" y="8181"/>
                  <a:pt x="13221" y="8161"/>
                </a:cubicBezTo>
                <a:cubicBezTo>
                  <a:pt x="13283" y="8140"/>
                  <a:pt x="13354" y="8115"/>
                  <a:pt x="13419" y="8111"/>
                </a:cubicBezTo>
                <a:cubicBezTo>
                  <a:pt x="13487" y="8106"/>
                  <a:pt x="13540" y="8126"/>
                  <a:pt x="13593" y="8086"/>
                </a:cubicBezTo>
              </a:path>
              <a:path w="5334" h="1241">
                <a:moveTo>
                  <a:pt x="13891" y="7913"/>
                </a:moveTo>
                <a:cubicBezTo>
                  <a:pt x="13839" y="7913"/>
                  <a:pt x="13780" y="7918"/>
                  <a:pt x="13742" y="7962"/>
                </a:cubicBezTo>
                <a:cubicBezTo>
                  <a:pt x="13704" y="8006"/>
                  <a:pt x="13667" y="8028"/>
                  <a:pt x="13667" y="8086"/>
                </a:cubicBezTo>
                <a:cubicBezTo>
                  <a:pt x="13667" y="8129"/>
                  <a:pt x="13730" y="8121"/>
                  <a:pt x="13767" y="8136"/>
                </a:cubicBezTo>
                <a:cubicBezTo>
                  <a:pt x="13842" y="8166"/>
                  <a:pt x="13897" y="8162"/>
                  <a:pt x="13965" y="8210"/>
                </a:cubicBezTo>
                <a:cubicBezTo>
                  <a:pt x="13998" y="8233"/>
                  <a:pt x="14119" y="8325"/>
                  <a:pt x="14114" y="8384"/>
                </a:cubicBezTo>
                <a:cubicBezTo>
                  <a:pt x="14111" y="8418"/>
                  <a:pt x="14013" y="8471"/>
                  <a:pt x="13990" y="8483"/>
                </a:cubicBezTo>
                <a:cubicBezTo>
                  <a:pt x="13931" y="8515"/>
                  <a:pt x="13881" y="8508"/>
                  <a:pt x="13816" y="8508"/>
                </a:cubicBezTo>
                <a:cubicBezTo>
                  <a:pt x="13764" y="8508"/>
                  <a:pt x="13767" y="8510"/>
                  <a:pt x="13767" y="8458"/>
                </a:cubicBezTo>
              </a:path>
              <a:path w="5334" h="1241">
                <a:moveTo>
                  <a:pt x="14213" y="8086"/>
                </a:moveTo>
                <a:cubicBezTo>
                  <a:pt x="14213" y="8175"/>
                  <a:pt x="14227" y="8252"/>
                  <a:pt x="14238" y="8334"/>
                </a:cubicBezTo>
                <a:cubicBezTo>
                  <a:pt x="14247" y="8405"/>
                  <a:pt x="14237" y="8445"/>
                  <a:pt x="14213" y="8508"/>
                </a:cubicBezTo>
              </a:path>
              <a:path w="5334" h="1241">
                <a:moveTo>
                  <a:pt x="14163" y="7913"/>
                </a:moveTo>
                <a:cubicBezTo>
                  <a:pt x="14163" y="7938"/>
                  <a:pt x="14163" y="7946"/>
                  <a:pt x="14163" y="7962"/>
                </a:cubicBezTo>
              </a:path>
              <a:path w="5334" h="1241">
                <a:moveTo>
                  <a:pt x="14436" y="8136"/>
                </a:moveTo>
                <a:cubicBezTo>
                  <a:pt x="14419" y="8235"/>
                  <a:pt x="14412" y="8311"/>
                  <a:pt x="14412" y="8409"/>
                </a:cubicBezTo>
                <a:cubicBezTo>
                  <a:pt x="14412" y="8451"/>
                  <a:pt x="14422" y="8447"/>
                  <a:pt x="14387" y="8458"/>
                </a:cubicBezTo>
                <a:cubicBezTo>
                  <a:pt x="14397" y="8383"/>
                  <a:pt x="14427" y="8329"/>
                  <a:pt x="14461" y="8260"/>
                </a:cubicBezTo>
                <a:cubicBezTo>
                  <a:pt x="14483" y="8216"/>
                  <a:pt x="14486" y="8205"/>
                  <a:pt x="14511" y="8186"/>
                </a:cubicBezTo>
                <a:cubicBezTo>
                  <a:pt x="14590" y="8186"/>
                  <a:pt x="14590" y="8220"/>
                  <a:pt x="14610" y="8285"/>
                </a:cubicBezTo>
                <a:cubicBezTo>
                  <a:pt x="14635" y="8366"/>
                  <a:pt x="14654" y="8451"/>
                  <a:pt x="14660" y="8533"/>
                </a:cubicBezTo>
                <a:cubicBezTo>
                  <a:pt x="14667" y="8627"/>
                  <a:pt x="14677" y="8526"/>
                  <a:pt x="14684" y="8483"/>
                </a:cubicBezTo>
                <a:cubicBezTo>
                  <a:pt x="14684" y="8467"/>
                  <a:pt x="14684" y="8450"/>
                  <a:pt x="14684" y="8434"/>
                </a:cubicBezTo>
              </a:path>
              <a:path w="5334" h="1241">
                <a:moveTo>
                  <a:pt x="14784" y="7838"/>
                </a:moveTo>
                <a:cubicBezTo>
                  <a:pt x="14793" y="7809"/>
                  <a:pt x="14847" y="7796"/>
                  <a:pt x="14883" y="7789"/>
                </a:cubicBezTo>
                <a:cubicBezTo>
                  <a:pt x="14914" y="7783"/>
                  <a:pt x="14991" y="7807"/>
                  <a:pt x="15007" y="7838"/>
                </a:cubicBezTo>
                <a:cubicBezTo>
                  <a:pt x="15027" y="7878"/>
                  <a:pt x="14973" y="7932"/>
                  <a:pt x="14957" y="7962"/>
                </a:cubicBezTo>
                <a:cubicBezTo>
                  <a:pt x="14929" y="8014"/>
                  <a:pt x="14863" y="8084"/>
                  <a:pt x="14932" y="8136"/>
                </a:cubicBezTo>
                <a:cubicBezTo>
                  <a:pt x="14943" y="8144"/>
                  <a:pt x="15018" y="8159"/>
                  <a:pt x="15032" y="8161"/>
                </a:cubicBezTo>
                <a:cubicBezTo>
                  <a:pt x="15056" y="8164"/>
                  <a:pt x="15082" y="8161"/>
                  <a:pt x="15106" y="8161"/>
                </a:cubicBezTo>
              </a:path>
              <a:path w="5334" h="1241">
                <a:moveTo>
                  <a:pt x="15280" y="8260"/>
                </a:moveTo>
                <a:cubicBezTo>
                  <a:pt x="15297" y="8340"/>
                  <a:pt x="15304" y="8434"/>
                  <a:pt x="15329" y="8508"/>
                </a:cubicBezTo>
                <a:cubicBezTo>
                  <a:pt x="15342" y="8547"/>
                  <a:pt x="15385" y="8625"/>
                  <a:pt x="15404" y="8657"/>
                </a:cubicBezTo>
                <a:cubicBezTo>
                  <a:pt x="15427" y="8695"/>
                  <a:pt x="15434" y="8796"/>
                  <a:pt x="15453" y="8756"/>
                </a:cubicBezTo>
                <a:cubicBezTo>
                  <a:pt x="15453" y="8723"/>
                  <a:pt x="15453" y="8707"/>
                  <a:pt x="15453" y="8682"/>
                </a:cubicBezTo>
              </a:path>
              <a:path w="5334" h="1241">
                <a:moveTo>
                  <a:pt x="15503" y="8334"/>
                </a:moveTo>
                <a:cubicBezTo>
                  <a:pt x="15409" y="8447"/>
                  <a:pt x="15303" y="8553"/>
                  <a:pt x="15230" y="8682"/>
                </a:cubicBezTo>
                <a:cubicBezTo>
                  <a:pt x="15181" y="8768"/>
                  <a:pt x="15147" y="8844"/>
                  <a:pt x="15056" y="8880"/>
                </a:cubicBezTo>
              </a:path>
              <a:path w="5334" h="1241">
                <a:moveTo>
                  <a:pt x="15652" y="8434"/>
                </a:moveTo>
                <a:cubicBezTo>
                  <a:pt x="15777" y="8434"/>
                  <a:pt x="15882" y="8440"/>
                  <a:pt x="15999" y="8458"/>
                </a:cubicBezTo>
                <a:cubicBezTo>
                  <a:pt x="16062" y="8467"/>
                  <a:pt x="16134" y="8458"/>
                  <a:pt x="16197" y="8458"/>
                </a:cubicBezTo>
              </a:path>
              <a:path w="5334" h="1241">
                <a:moveTo>
                  <a:pt x="16594" y="8310"/>
                </a:moveTo>
                <a:cubicBezTo>
                  <a:pt x="16449" y="8408"/>
                  <a:pt x="16337" y="8439"/>
                  <a:pt x="16321" y="8607"/>
                </a:cubicBezTo>
                <a:cubicBezTo>
                  <a:pt x="16312" y="8702"/>
                  <a:pt x="16312" y="8758"/>
                  <a:pt x="16396" y="8806"/>
                </a:cubicBezTo>
                <a:cubicBezTo>
                  <a:pt x="16473" y="8850"/>
                  <a:pt x="16538" y="8815"/>
                  <a:pt x="16619" y="8806"/>
                </a:cubicBezTo>
              </a:path>
              <a:path w="5334" h="1241">
                <a:moveTo>
                  <a:pt x="17041" y="8409"/>
                </a:moveTo>
                <a:cubicBezTo>
                  <a:pt x="16985" y="8367"/>
                  <a:pt x="16979" y="8402"/>
                  <a:pt x="16917" y="8434"/>
                </a:cubicBezTo>
                <a:cubicBezTo>
                  <a:pt x="16836" y="8476"/>
                  <a:pt x="16779" y="8572"/>
                  <a:pt x="16743" y="8657"/>
                </a:cubicBezTo>
                <a:cubicBezTo>
                  <a:pt x="16724" y="8703"/>
                  <a:pt x="16685" y="8819"/>
                  <a:pt x="16743" y="8855"/>
                </a:cubicBezTo>
                <a:cubicBezTo>
                  <a:pt x="16801" y="8891"/>
                  <a:pt x="16901" y="8831"/>
                  <a:pt x="16942" y="8806"/>
                </a:cubicBezTo>
                <a:cubicBezTo>
                  <a:pt x="17046" y="8742"/>
                  <a:pt x="17186" y="8663"/>
                  <a:pt x="17214" y="8533"/>
                </a:cubicBezTo>
                <a:cubicBezTo>
                  <a:pt x="17214" y="8516"/>
                  <a:pt x="17214" y="8500"/>
                  <a:pt x="17214" y="8483"/>
                </a:cubicBezTo>
                <a:cubicBezTo>
                  <a:pt x="17165" y="8453"/>
                  <a:pt x="17081" y="8422"/>
                  <a:pt x="17016" y="8434"/>
                </a:cubicBezTo>
                <a:cubicBezTo>
                  <a:pt x="16975" y="8453"/>
                  <a:pt x="16969" y="8461"/>
                  <a:pt x="16942" y="8458"/>
                </a:cubicBezTo>
              </a:path>
              <a:path w="5334" h="1241">
                <a:moveTo>
                  <a:pt x="17338" y="8384"/>
                </a:moveTo>
                <a:cubicBezTo>
                  <a:pt x="17291" y="8409"/>
                  <a:pt x="17238" y="8446"/>
                  <a:pt x="17190" y="8458"/>
                </a:cubicBezTo>
                <a:cubicBezTo>
                  <a:pt x="17201" y="8504"/>
                  <a:pt x="17236" y="8545"/>
                  <a:pt x="17289" y="8558"/>
                </a:cubicBezTo>
                <a:cubicBezTo>
                  <a:pt x="17353" y="8573"/>
                  <a:pt x="17439" y="8575"/>
                  <a:pt x="17487" y="8632"/>
                </a:cubicBezTo>
                <a:cubicBezTo>
                  <a:pt x="17545" y="8700"/>
                  <a:pt x="17502" y="8849"/>
                  <a:pt x="17438" y="8905"/>
                </a:cubicBezTo>
                <a:cubicBezTo>
                  <a:pt x="17390" y="8946"/>
                  <a:pt x="17250" y="8942"/>
                  <a:pt x="17190" y="8930"/>
                </a:cubicBezTo>
                <a:cubicBezTo>
                  <a:pt x="17095" y="8912"/>
                  <a:pt x="17094" y="8878"/>
                  <a:pt x="17115" y="8806"/>
                </a:cubicBezTo>
              </a:path>
              <a:path w="5334" h="1241">
                <a:moveTo>
                  <a:pt x="17512" y="8186"/>
                </a:moveTo>
                <a:cubicBezTo>
                  <a:pt x="17632" y="8186"/>
                  <a:pt x="17704" y="8186"/>
                  <a:pt x="17810" y="8210"/>
                </a:cubicBezTo>
                <a:cubicBezTo>
                  <a:pt x="17831" y="8215"/>
                  <a:pt x="17857" y="8254"/>
                  <a:pt x="17835" y="8285"/>
                </a:cubicBezTo>
                <a:cubicBezTo>
                  <a:pt x="17798" y="8336"/>
                  <a:pt x="17718" y="8370"/>
                  <a:pt x="17711" y="8434"/>
                </a:cubicBezTo>
                <a:cubicBezTo>
                  <a:pt x="17706" y="8478"/>
                  <a:pt x="17772" y="8524"/>
                  <a:pt x="17810" y="8533"/>
                </a:cubicBezTo>
                <a:cubicBezTo>
                  <a:pt x="17889" y="8552"/>
                  <a:pt x="17960" y="8546"/>
                  <a:pt x="18033" y="8533"/>
                </a:cubicBezTo>
              </a:path>
              <a:path w="5334" h="1241">
                <a:moveTo>
                  <a:pt x="18107" y="8483"/>
                </a:moveTo>
                <a:cubicBezTo>
                  <a:pt x="18143" y="8573"/>
                  <a:pt x="18169" y="8666"/>
                  <a:pt x="18207" y="8756"/>
                </a:cubicBezTo>
                <a:cubicBezTo>
                  <a:pt x="18225" y="8799"/>
                  <a:pt x="18259" y="8869"/>
                  <a:pt x="18281" y="8905"/>
                </a:cubicBezTo>
                <a:cubicBezTo>
                  <a:pt x="18309" y="8952"/>
                  <a:pt x="18327" y="8927"/>
                  <a:pt x="18355" y="8905"/>
                </a:cubicBezTo>
              </a:path>
              <a:path w="5334" h="1241">
                <a:moveTo>
                  <a:pt x="18380" y="8582"/>
                </a:moveTo>
                <a:cubicBezTo>
                  <a:pt x="18326" y="8723"/>
                  <a:pt x="18283" y="8838"/>
                  <a:pt x="18182" y="8954"/>
                </a:cubicBezTo>
                <a:cubicBezTo>
                  <a:pt x="18157" y="8979"/>
                  <a:pt x="18132" y="9004"/>
                  <a:pt x="1810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830160" y="3732120"/>
            <a:ext cx="1482840" cy="750960"/>
          </a:xfrm>
          <a:custGeom>
            <a:avLst/>
            <a:gdLst/>
            <a:ahLst/>
            <a:rect l="l" t="t" r="r" b="b"/>
            <a:pathLst>
              <a:path w="4118" h="2085">
                <a:moveTo>
                  <a:pt x="2332" y="11361"/>
                </a:moveTo>
                <a:cubicBezTo>
                  <a:pt x="2319" y="11304"/>
                  <a:pt x="2291" y="11270"/>
                  <a:pt x="2332" y="11212"/>
                </a:cubicBezTo>
                <a:cubicBezTo>
                  <a:pt x="2364" y="11166"/>
                  <a:pt x="2506" y="11083"/>
                  <a:pt x="2555" y="11063"/>
                </a:cubicBezTo>
                <a:cubicBezTo>
                  <a:pt x="2636" y="11030"/>
                  <a:pt x="2756" y="10987"/>
                  <a:pt x="2828" y="11063"/>
                </a:cubicBezTo>
                <a:cubicBezTo>
                  <a:pt x="2901" y="11141"/>
                  <a:pt x="2820" y="11292"/>
                  <a:pt x="2778" y="11361"/>
                </a:cubicBezTo>
                <a:cubicBezTo>
                  <a:pt x="2722" y="11454"/>
                  <a:pt x="2600" y="11561"/>
                  <a:pt x="2555" y="11633"/>
                </a:cubicBezTo>
                <a:cubicBezTo>
                  <a:pt x="2555" y="11641"/>
                  <a:pt x="2555" y="11650"/>
                  <a:pt x="2555" y="11658"/>
                </a:cubicBezTo>
                <a:cubicBezTo>
                  <a:pt x="2645" y="11617"/>
                  <a:pt x="2719" y="11569"/>
                  <a:pt x="2828" y="11584"/>
                </a:cubicBezTo>
                <a:cubicBezTo>
                  <a:pt x="2946" y="11600"/>
                  <a:pt x="3035" y="11724"/>
                  <a:pt x="3051" y="11832"/>
                </a:cubicBezTo>
                <a:cubicBezTo>
                  <a:pt x="3076" y="12000"/>
                  <a:pt x="2978" y="12120"/>
                  <a:pt x="2902" y="12254"/>
                </a:cubicBezTo>
                <a:cubicBezTo>
                  <a:pt x="2847" y="12351"/>
                  <a:pt x="2820" y="12391"/>
                  <a:pt x="2729" y="12452"/>
                </a:cubicBezTo>
                <a:cubicBezTo>
                  <a:pt x="2759" y="12321"/>
                  <a:pt x="2786" y="12226"/>
                  <a:pt x="2853" y="12105"/>
                </a:cubicBezTo>
                <a:cubicBezTo>
                  <a:pt x="2934" y="11959"/>
                  <a:pt x="3031" y="11820"/>
                  <a:pt x="3125" y="11683"/>
                </a:cubicBezTo>
                <a:cubicBezTo>
                  <a:pt x="3190" y="11587"/>
                  <a:pt x="3247" y="11536"/>
                  <a:pt x="3349" y="11485"/>
                </a:cubicBezTo>
                <a:cubicBezTo>
                  <a:pt x="3393" y="11463"/>
                  <a:pt x="3399" y="11444"/>
                  <a:pt x="3423" y="11410"/>
                </a:cubicBezTo>
                <a:cubicBezTo>
                  <a:pt x="3474" y="11335"/>
                  <a:pt x="3518" y="11258"/>
                  <a:pt x="3572" y="11187"/>
                </a:cubicBezTo>
                <a:cubicBezTo>
                  <a:pt x="3580" y="11179"/>
                  <a:pt x="3589" y="11170"/>
                  <a:pt x="3597" y="11162"/>
                </a:cubicBezTo>
                <a:cubicBezTo>
                  <a:pt x="3575" y="11223"/>
                  <a:pt x="3562" y="11298"/>
                  <a:pt x="3497" y="11336"/>
                </a:cubicBezTo>
                <a:cubicBezTo>
                  <a:pt x="3442" y="11369"/>
                  <a:pt x="3352" y="11468"/>
                  <a:pt x="3324" y="11410"/>
                </a:cubicBezTo>
                <a:cubicBezTo>
                  <a:pt x="3332" y="11394"/>
                  <a:pt x="3341" y="11377"/>
                  <a:pt x="3349" y="11361"/>
                </a:cubicBezTo>
              </a:path>
              <a:path w="4118" h="2085">
                <a:moveTo>
                  <a:pt x="3225" y="10740"/>
                </a:moveTo>
                <a:cubicBezTo>
                  <a:pt x="3327" y="10545"/>
                  <a:pt x="3356" y="10506"/>
                  <a:pt x="3547" y="10418"/>
                </a:cubicBezTo>
                <a:cubicBezTo>
                  <a:pt x="3657" y="10368"/>
                  <a:pt x="3724" y="10368"/>
                  <a:pt x="3845" y="10368"/>
                </a:cubicBezTo>
                <a:cubicBezTo>
                  <a:pt x="3861" y="10438"/>
                  <a:pt x="3858" y="10506"/>
                  <a:pt x="3845" y="10592"/>
                </a:cubicBezTo>
                <a:cubicBezTo>
                  <a:pt x="3814" y="10799"/>
                  <a:pt x="3823" y="11004"/>
                  <a:pt x="3795" y="11212"/>
                </a:cubicBezTo>
                <a:cubicBezTo>
                  <a:pt x="3775" y="11359"/>
                  <a:pt x="3738" y="11554"/>
                  <a:pt x="3572" y="11609"/>
                </a:cubicBezTo>
                <a:cubicBezTo>
                  <a:pt x="3434" y="11655"/>
                  <a:pt x="3368" y="11558"/>
                  <a:pt x="3299" y="11460"/>
                </a:cubicBezTo>
                <a:cubicBezTo>
                  <a:pt x="3242" y="11379"/>
                  <a:pt x="3238" y="11358"/>
                  <a:pt x="3150" y="11336"/>
                </a:cubicBezTo>
              </a:path>
              <a:path w="4118" h="2085">
                <a:moveTo>
                  <a:pt x="3026" y="11361"/>
                </a:moveTo>
                <a:cubicBezTo>
                  <a:pt x="3138" y="11236"/>
                  <a:pt x="3284" y="11183"/>
                  <a:pt x="3448" y="11112"/>
                </a:cubicBezTo>
                <a:cubicBezTo>
                  <a:pt x="3595" y="11048"/>
                  <a:pt x="3739" y="11002"/>
                  <a:pt x="3894" y="10964"/>
                </a:cubicBezTo>
                <a:cubicBezTo>
                  <a:pt x="3977" y="10943"/>
                  <a:pt x="4035" y="10939"/>
                  <a:pt x="4118" y="10939"/>
                </a:cubicBezTo>
                <a:cubicBezTo>
                  <a:pt x="4126" y="10939"/>
                  <a:pt x="4134" y="10939"/>
                  <a:pt x="4142" y="10939"/>
                </a:cubicBezTo>
              </a:path>
              <a:path w="4118" h="2085">
                <a:moveTo>
                  <a:pt x="3572" y="11658"/>
                </a:moveTo>
                <a:cubicBezTo>
                  <a:pt x="3564" y="11675"/>
                  <a:pt x="3555" y="11691"/>
                  <a:pt x="3547" y="11708"/>
                </a:cubicBezTo>
                <a:cubicBezTo>
                  <a:pt x="3560" y="11685"/>
                  <a:pt x="3598" y="11603"/>
                  <a:pt x="3621" y="11559"/>
                </a:cubicBezTo>
                <a:cubicBezTo>
                  <a:pt x="3662" y="11479"/>
                  <a:pt x="3727" y="11371"/>
                  <a:pt x="3795" y="11311"/>
                </a:cubicBezTo>
                <a:cubicBezTo>
                  <a:pt x="3857" y="11256"/>
                  <a:pt x="3894" y="11237"/>
                  <a:pt x="3969" y="11261"/>
                </a:cubicBezTo>
                <a:cubicBezTo>
                  <a:pt x="4018" y="11277"/>
                  <a:pt x="4127" y="11380"/>
                  <a:pt x="4167" y="11410"/>
                </a:cubicBezTo>
                <a:cubicBezTo>
                  <a:pt x="4175" y="11418"/>
                  <a:pt x="4184" y="11427"/>
                  <a:pt x="4192" y="11435"/>
                </a:cubicBezTo>
                <a:cubicBezTo>
                  <a:pt x="4218" y="11376"/>
                  <a:pt x="4270" y="11301"/>
                  <a:pt x="4291" y="11237"/>
                </a:cubicBezTo>
                <a:cubicBezTo>
                  <a:pt x="4326" y="11130"/>
                  <a:pt x="4344" y="10983"/>
                  <a:pt x="4465" y="10964"/>
                </a:cubicBezTo>
                <a:cubicBezTo>
                  <a:pt x="4660" y="10933"/>
                  <a:pt x="4581" y="11204"/>
                  <a:pt x="4614" y="11311"/>
                </a:cubicBezTo>
                <a:cubicBezTo>
                  <a:pt x="4651" y="11367"/>
                  <a:pt x="4646" y="11392"/>
                  <a:pt x="4688" y="11385"/>
                </a:cubicBezTo>
                <a:cubicBezTo>
                  <a:pt x="4795" y="11279"/>
                  <a:pt x="4847" y="11161"/>
                  <a:pt x="4936" y="11038"/>
                </a:cubicBezTo>
                <a:cubicBezTo>
                  <a:pt x="5071" y="10852"/>
                  <a:pt x="5188" y="10819"/>
                  <a:pt x="5407" y="10815"/>
                </a:cubicBezTo>
                <a:cubicBezTo>
                  <a:pt x="5690" y="10810"/>
                  <a:pt x="5970" y="10893"/>
                  <a:pt x="6251" y="10889"/>
                </a:cubicBezTo>
                <a:cubicBezTo>
                  <a:pt x="6309" y="10881"/>
                  <a:pt x="6366" y="10872"/>
                  <a:pt x="6424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2820960" y="3643200"/>
            <a:ext cx="2287440" cy="482760"/>
          </a:xfrm>
          <a:custGeom>
            <a:avLst/>
            <a:gdLst/>
            <a:ahLst/>
            <a:rect l="l" t="t" r="r" b="b"/>
            <a:pathLst>
              <a:path w="6351" h="1341">
                <a:moveTo>
                  <a:pt x="7913" y="10666"/>
                </a:moveTo>
                <a:cubicBezTo>
                  <a:pt x="7844" y="10654"/>
                  <a:pt x="7877" y="10668"/>
                  <a:pt x="7838" y="10616"/>
                </a:cubicBezTo>
                <a:cubicBezTo>
                  <a:pt x="7838" y="10558"/>
                  <a:pt x="7875" y="10512"/>
                  <a:pt x="7913" y="10468"/>
                </a:cubicBezTo>
                <a:cubicBezTo>
                  <a:pt x="7958" y="10416"/>
                  <a:pt x="8033" y="10360"/>
                  <a:pt x="8111" y="10393"/>
                </a:cubicBezTo>
                <a:cubicBezTo>
                  <a:pt x="8170" y="10418"/>
                  <a:pt x="8213" y="10511"/>
                  <a:pt x="8235" y="10567"/>
                </a:cubicBezTo>
                <a:cubicBezTo>
                  <a:pt x="8274" y="10666"/>
                  <a:pt x="8309" y="10781"/>
                  <a:pt x="8285" y="10889"/>
                </a:cubicBezTo>
                <a:cubicBezTo>
                  <a:pt x="8268" y="10968"/>
                  <a:pt x="8172" y="11088"/>
                  <a:pt x="8111" y="11137"/>
                </a:cubicBezTo>
                <a:cubicBezTo>
                  <a:pt x="8062" y="11176"/>
                  <a:pt x="8009" y="11205"/>
                  <a:pt x="7962" y="11162"/>
                </a:cubicBezTo>
                <a:cubicBezTo>
                  <a:pt x="7920" y="11123"/>
                  <a:pt x="7891" y="11045"/>
                  <a:pt x="7913" y="10988"/>
                </a:cubicBezTo>
                <a:cubicBezTo>
                  <a:pt x="7940" y="10920"/>
                  <a:pt x="7995" y="10942"/>
                  <a:pt x="8037" y="10964"/>
                </a:cubicBezTo>
                <a:cubicBezTo>
                  <a:pt x="8100" y="10996"/>
                  <a:pt x="8216" y="11050"/>
                  <a:pt x="8260" y="11112"/>
                </a:cubicBezTo>
                <a:cubicBezTo>
                  <a:pt x="8292" y="11157"/>
                  <a:pt x="8307" y="11195"/>
                  <a:pt x="8359" y="11212"/>
                </a:cubicBezTo>
                <a:cubicBezTo>
                  <a:pt x="8384" y="11212"/>
                  <a:pt x="8392" y="11212"/>
                  <a:pt x="8409" y="11212"/>
                </a:cubicBezTo>
              </a:path>
              <a:path w="6351" h="1341">
                <a:moveTo>
                  <a:pt x="8930" y="10666"/>
                </a:moveTo>
                <a:cubicBezTo>
                  <a:pt x="8856" y="10684"/>
                  <a:pt x="8832" y="10731"/>
                  <a:pt x="8781" y="10790"/>
                </a:cubicBezTo>
                <a:cubicBezTo>
                  <a:pt x="8763" y="10811"/>
                  <a:pt x="8738" y="10857"/>
                  <a:pt x="8756" y="10889"/>
                </a:cubicBezTo>
                <a:cubicBezTo>
                  <a:pt x="8774" y="10921"/>
                  <a:pt x="8794" y="10952"/>
                  <a:pt x="8830" y="10964"/>
                </a:cubicBezTo>
                <a:cubicBezTo>
                  <a:pt x="8885" y="10983"/>
                  <a:pt x="8912" y="10995"/>
                  <a:pt x="8954" y="11038"/>
                </a:cubicBezTo>
                <a:cubicBezTo>
                  <a:pt x="8981" y="11065"/>
                  <a:pt x="8980" y="11133"/>
                  <a:pt x="8954" y="11162"/>
                </a:cubicBezTo>
                <a:cubicBezTo>
                  <a:pt x="8916" y="11204"/>
                  <a:pt x="8858" y="11255"/>
                  <a:pt x="8806" y="11286"/>
                </a:cubicBezTo>
                <a:cubicBezTo>
                  <a:pt x="8743" y="11324"/>
                  <a:pt x="8731" y="11324"/>
                  <a:pt x="8731" y="11261"/>
                </a:cubicBezTo>
              </a:path>
              <a:path w="6351" h="1341">
                <a:moveTo>
                  <a:pt x="9153" y="10988"/>
                </a:moveTo>
                <a:cubicBezTo>
                  <a:pt x="9206" y="11011"/>
                  <a:pt x="9223" y="11013"/>
                  <a:pt x="9277" y="11013"/>
                </a:cubicBezTo>
                <a:cubicBezTo>
                  <a:pt x="9324" y="11013"/>
                  <a:pt x="9340" y="11019"/>
                  <a:pt x="9376" y="10988"/>
                </a:cubicBezTo>
                <a:cubicBezTo>
                  <a:pt x="9410" y="10959"/>
                  <a:pt x="9436" y="10960"/>
                  <a:pt x="9451" y="10914"/>
                </a:cubicBezTo>
                <a:cubicBezTo>
                  <a:pt x="9457" y="10895"/>
                  <a:pt x="9451" y="10860"/>
                  <a:pt x="9451" y="10840"/>
                </a:cubicBezTo>
                <a:cubicBezTo>
                  <a:pt x="9399" y="10840"/>
                  <a:pt x="9370" y="10841"/>
                  <a:pt x="9327" y="10864"/>
                </a:cubicBezTo>
                <a:cubicBezTo>
                  <a:pt x="9238" y="10911"/>
                  <a:pt x="9160" y="11070"/>
                  <a:pt x="9103" y="11162"/>
                </a:cubicBezTo>
                <a:cubicBezTo>
                  <a:pt x="9077" y="11204"/>
                  <a:pt x="9056" y="11314"/>
                  <a:pt x="9079" y="11361"/>
                </a:cubicBezTo>
                <a:cubicBezTo>
                  <a:pt x="9105" y="11415"/>
                  <a:pt x="9153" y="11410"/>
                  <a:pt x="9203" y="11410"/>
                </a:cubicBezTo>
                <a:cubicBezTo>
                  <a:pt x="9259" y="11410"/>
                  <a:pt x="9290" y="11372"/>
                  <a:pt x="9327" y="11336"/>
                </a:cubicBezTo>
              </a:path>
              <a:path w="6351" h="1341">
                <a:moveTo>
                  <a:pt x="9847" y="10815"/>
                </a:moveTo>
                <a:cubicBezTo>
                  <a:pt x="9774" y="10826"/>
                  <a:pt x="9738" y="10846"/>
                  <a:pt x="9699" y="10914"/>
                </a:cubicBezTo>
                <a:cubicBezTo>
                  <a:pt x="9641" y="11014"/>
                  <a:pt x="9602" y="11079"/>
                  <a:pt x="9575" y="11187"/>
                </a:cubicBezTo>
                <a:cubicBezTo>
                  <a:pt x="9563" y="11234"/>
                  <a:pt x="9516" y="11323"/>
                  <a:pt x="9575" y="11361"/>
                </a:cubicBezTo>
                <a:cubicBezTo>
                  <a:pt x="9621" y="11391"/>
                  <a:pt x="9646" y="11366"/>
                  <a:pt x="9699" y="11361"/>
                </a:cubicBezTo>
                <a:cubicBezTo>
                  <a:pt x="9739" y="11357"/>
                  <a:pt x="9752" y="11336"/>
                  <a:pt x="9798" y="11336"/>
                </a:cubicBezTo>
              </a:path>
              <a:path w="6351" h="1341">
                <a:moveTo>
                  <a:pt x="10021" y="10170"/>
                </a:moveTo>
                <a:cubicBezTo>
                  <a:pt x="10074" y="10128"/>
                  <a:pt x="10102" y="10120"/>
                  <a:pt x="10170" y="10120"/>
                </a:cubicBezTo>
                <a:cubicBezTo>
                  <a:pt x="10216" y="10120"/>
                  <a:pt x="10297" y="10130"/>
                  <a:pt x="10294" y="10195"/>
                </a:cubicBezTo>
                <a:cubicBezTo>
                  <a:pt x="10290" y="10282"/>
                  <a:pt x="10249" y="10444"/>
                  <a:pt x="10195" y="10517"/>
                </a:cubicBezTo>
                <a:cubicBezTo>
                  <a:pt x="10165" y="10557"/>
                  <a:pt x="10101" y="10633"/>
                  <a:pt x="10120" y="10691"/>
                </a:cubicBezTo>
                <a:cubicBezTo>
                  <a:pt x="10129" y="10718"/>
                  <a:pt x="10167" y="10759"/>
                  <a:pt x="10195" y="10765"/>
                </a:cubicBezTo>
                <a:cubicBezTo>
                  <a:pt x="10245" y="10776"/>
                  <a:pt x="10317" y="10765"/>
                  <a:pt x="10368" y="10765"/>
                </a:cubicBezTo>
              </a:path>
              <a:path w="6351" h="1341">
                <a:moveTo>
                  <a:pt x="10517" y="10790"/>
                </a:moveTo>
                <a:cubicBezTo>
                  <a:pt x="10538" y="10886"/>
                  <a:pt x="10549" y="10951"/>
                  <a:pt x="10592" y="11038"/>
                </a:cubicBezTo>
                <a:cubicBezTo>
                  <a:pt x="10618" y="11092"/>
                  <a:pt x="10612" y="11163"/>
                  <a:pt x="10641" y="11212"/>
                </a:cubicBezTo>
                <a:cubicBezTo>
                  <a:pt x="10662" y="11248"/>
                  <a:pt x="10674" y="11285"/>
                  <a:pt x="10691" y="11237"/>
                </a:cubicBezTo>
              </a:path>
              <a:path w="6351" h="1341">
                <a:moveTo>
                  <a:pt x="10790" y="10740"/>
                </a:moveTo>
                <a:cubicBezTo>
                  <a:pt x="10776" y="10797"/>
                  <a:pt x="10725" y="10860"/>
                  <a:pt x="10691" y="10914"/>
                </a:cubicBezTo>
                <a:cubicBezTo>
                  <a:pt x="10626" y="11017"/>
                  <a:pt x="10532" y="11077"/>
                  <a:pt x="10468" y="11187"/>
                </a:cubicBezTo>
                <a:cubicBezTo>
                  <a:pt x="10435" y="11243"/>
                  <a:pt x="10424" y="11277"/>
                  <a:pt x="10393" y="11261"/>
                </a:cubicBezTo>
              </a:path>
              <a:path w="6351" h="1341">
                <a:moveTo>
                  <a:pt x="11088" y="10716"/>
                </a:moveTo>
                <a:cubicBezTo>
                  <a:pt x="10995" y="10830"/>
                  <a:pt x="10887" y="10936"/>
                  <a:pt x="10864" y="11088"/>
                </a:cubicBezTo>
                <a:cubicBezTo>
                  <a:pt x="10856" y="11144"/>
                  <a:pt x="10873" y="11292"/>
                  <a:pt x="10964" y="11286"/>
                </a:cubicBezTo>
                <a:cubicBezTo>
                  <a:pt x="11022" y="11282"/>
                  <a:pt x="11089" y="11238"/>
                  <a:pt x="11137" y="11212"/>
                </a:cubicBezTo>
              </a:path>
              <a:path w="6351" h="1341">
                <a:moveTo>
                  <a:pt x="11485" y="10716"/>
                </a:moveTo>
                <a:cubicBezTo>
                  <a:pt x="11423" y="10724"/>
                  <a:pt x="11348" y="10753"/>
                  <a:pt x="11311" y="10815"/>
                </a:cubicBezTo>
                <a:cubicBezTo>
                  <a:pt x="11250" y="10917"/>
                  <a:pt x="11233" y="10995"/>
                  <a:pt x="11212" y="11112"/>
                </a:cubicBezTo>
                <a:cubicBezTo>
                  <a:pt x="11191" y="11228"/>
                  <a:pt x="11189" y="11215"/>
                  <a:pt x="11237" y="11311"/>
                </a:cubicBezTo>
                <a:cubicBezTo>
                  <a:pt x="11299" y="11298"/>
                  <a:pt x="11389" y="11259"/>
                  <a:pt x="11435" y="11212"/>
                </a:cubicBezTo>
                <a:cubicBezTo>
                  <a:pt x="11551" y="11092"/>
                  <a:pt x="11585" y="11015"/>
                  <a:pt x="11633" y="10864"/>
                </a:cubicBezTo>
                <a:cubicBezTo>
                  <a:pt x="11654" y="10798"/>
                  <a:pt x="11658" y="10759"/>
                  <a:pt x="11658" y="10691"/>
                </a:cubicBezTo>
                <a:cubicBezTo>
                  <a:pt x="11594" y="10691"/>
                  <a:pt x="11509" y="10687"/>
                  <a:pt x="11460" y="10740"/>
                </a:cubicBezTo>
                <a:cubicBezTo>
                  <a:pt x="11419" y="10784"/>
                  <a:pt x="11390" y="10790"/>
                  <a:pt x="11410" y="10790"/>
                </a:cubicBezTo>
              </a:path>
              <a:path w="6351" h="1341">
                <a:moveTo>
                  <a:pt x="11906" y="10691"/>
                </a:moveTo>
                <a:cubicBezTo>
                  <a:pt x="11858" y="10726"/>
                  <a:pt x="11760" y="10779"/>
                  <a:pt x="11733" y="10840"/>
                </a:cubicBezTo>
                <a:cubicBezTo>
                  <a:pt x="11710" y="10892"/>
                  <a:pt x="11758" y="10898"/>
                  <a:pt x="11782" y="10914"/>
                </a:cubicBezTo>
                <a:cubicBezTo>
                  <a:pt x="11834" y="10949"/>
                  <a:pt x="11881" y="10961"/>
                  <a:pt x="11931" y="10988"/>
                </a:cubicBezTo>
                <a:cubicBezTo>
                  <a:pt x="11986" y="11017"/>
                  <a:pt x="12016" y="11056"/>
                  <a:pt x="12030" y="11112"/>
                </a:cubicBezTo>
                <a:cubicBezTo>
                  <a:pt x="11974" y="11145"/>
                  <a:pt x="11920" y="11192"/>
                  <a:pt x="11857" y="11212"/>
                </a:cubicBezTo>
                <a:cubicBezTo>
                  <a:pt x="11778" y="11238"/>
                  <a:pt x="11733" y="11262"/>
                  <a:pt x="11708" y="11187"/>
                </a:cubicBezTo>
                <a:cubicBezTo>
                  <a:pt x="11693" y="11141"/>
                  <a:pt x="11718" y="11103"/>
                  <a:pt x="11733" y="11063"/>
                </a:cubicBezTo>
              </a:path>
              <a:path w="6351" h="1341">
                <a:moveTo>
                  <a:pt x="11931" y="10368"/>
                </a:moveTo>
                <a:cubicBezTo>
                  <a:pt x="12000" y="10350"/>
                  <a:pt x="12107" y="10319"/>
                  <a:pt x="12179" y="10344"/>
                </a:cubicBezTo>
                <a:cubicBezTo>
                  <a:pt x="12222" y="10359"/>
                  <a:pt x="12267" y="10387"/>
                  <a:pt x="12254" y="10443"/>
                </a:cubicBezTo>
                <a:cubicBezTo>
                  <a:pt x="12235" y="10524"/>
                  <a:pt x="12158" y="10593"/>
                  <a:pt x="12129" y="10666"/>
                </a:cubicBezTo>
                <a:cubicBezTo>
                  <a:pt x="12129" y="10674"/>
                  <a:pt x="12129" y="10683"/>
                  <a:pt x="12129" y="10691"/>
                </a:cubicBezTo>
                <a:cubicBezTo>
                  <a:pt x="12173" y="10724"/>
                  <a:pt x="12196" y="10716"/>
                  <a:pt x="12254" y="10716"/>
                </a:cubicBezTo>
                <a:cubicBezTo>
                  <a:pt x="12270" y="10716"/>
                  <a:pt x="12287" y="10716"/>
                  <a:pt x="12303" y="10716"/>
                </a:cubicBezTo>
              </a:path>
              <a:path w="6351" h="1341">
                <a:moveTo>
                  <a:pt x="12353" y="10765"/>
                </a:moveTo>
                <a:cubicBezTo>
                  <a:pt x="12370" y="10834"/>
                  <a:pt x="12401" y="10914"/>
                  <a:pt x="12427" y="10988"/>
                </a:cubicBezTo>
                <a:cubicBezTo>
                  <a:pt x="12456" y="11072"/>
                  <a:pt x="12520" y="11085"/>
                  <a:pt x="12551" y="11162"/>
                </a:cubicBezTo>
                <a:cubicBezTo>
                  <a:pt x="12551" y="11190"/>
                  <a:pt x="12553" y="11201"/>
                  <a:pt x="12576" y="11212"/>
                </a:cubicBezTo>
                <a:cubicBezTo>
                  <a:pt x="12611" y="11165"/>
                  <a:pt x="12601" y="11125"/>
                  <a:pt x="12601" y="11063"/>
                </a:cubicBezTo>
              </a:path>
              <a:path w="6351" h="1341">
                <a:moveTo>
                  <a:pt x="12700" y="10740"/>
                </a:moveTo>
                <a:cubicBezTo>
                  <a:pt x="12576" y="10807"/>
                  <a:pt x="12487" y="10880"/>
                  <a:pt x="12378" y="10964"/>
                </a:cubicBezTo>
                <a:cubicBezTo>
                  <a:pt x="12308" y="11018"/>
                  <a:pt x="12266" y="11075"/>
                  <a:pt x="12204" y="11137"/>
                </a:cubicBezTo>
              </a:path>
              <a:path w="6351" h="1341">
                <a:moveTo>
                  <a:pt x="13047" y="11013"/>
                </a:moveTo>
                <a:cubicBezTo>
                  <a:pt x="13100" y="11026"/>
                  <a:pt x="13132" y="11038"/>
                  <a:pt x="13196" y="11038"/>
                </a:cubicBezTo>
                <a:cubicBezTo>
                  <a:pt x="13298" y="11038"/>
                  <a:pt x="13372" y="11057"/>
                  <a:pt x="13469" y="11063"/>
                </a:cubicBezTo>
                <a:cubicBezTo>
                  <a:pt x="13477" y="11063"/>
                  <a:pt x="13486" y="11063"/>
                  <a:pt x="13494" y="11063"/>
                </a:cubicBezTo>
              </a:path>
              <a:path w="6351" h="1341">
                <a:moveTo>
                  <a:pt x="14139" y="10468"/>
                </a:moveTo>
                <a:cubicBezTo>
                  <a:pt x="14168" y="10556"/>
                  <a:pt x="14206" y="10645"/>
                  <a:pt x="14188" y="10740"/>
                </a:cubicBezTo>
                <a:cubicBezTo>
                  <a:pt x="14159" y="10888"/>
                  <a:pt x="14164" y="11039"/>
                  <a:pt x="14139" y="11187"/>
                </a:cubicBezTo>
                <a:cubicBezTo>
                  <a:pt x="14131" y="11232"/>
                  <a:pt x="14139" y="11421"/>
                  <a:pt x="14114" y="11460"/>
                </a:cubicBezTo>
                <a:cubicBezTo>
                  <a:pt x="14106" y="11460"/>
                  <a:pt x="14097" y="11460"/>
                  <a:pt x="14089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106800" y="4224240"/>
            <a:ext cx="2421000" cy="911160"/>
          </a:xfrm>
          <a:custGeom>
            <a:avLst/>
            <a:gdLst/>
            <a:ahLst/>
            <a:rect l="l" t="t" r="r" b="b"/>
            <a:pathLst>
              <a:path w="6723" h="2531">
                <a:moveTo>
                  <a:pt x="11534" y="12948"/>
                </a:moveTo>
                <a:cubicBezTo>
                  <a:pt x="11608" y="12933"/>
                  <a:pt x="11611" y="12945"/>
                  <a:pt x="11683" y="12948"/>
                </a:cubicBezTo>
                <a:cubicBezTo>
                  <a:pt x="11794" y="12953"/>
                  <a:pt x="11894" y="12988"/>
                  <a:pt x="12005" y="12998"/>
                </a:cubicBezTo>
                <a:cubicBezTo>
                  <a:pt x="12202" y="13016"/>
                  <a:pt x="12379" y="13047"/>
                  <a:pt x="12576" y="13047"/>
                </a:cubicBezTo>
                <a:cubicBezTo>
                  <a:pt x="12716" y="13047"/>
                  <a:pt x="12833" y="13055"/>
                  <a:pt x="12973" y="13072"/>
                </a:cubicBezTo>
              </a:path>
              <a:path w="6723" h="2531">
                <a:moveTo>
                  <a:pt x="12353" y="13345"/>
                </a:moveTo>
                <a:cubicBezTo>
                  <a:pt x="12353" y="13522"/>
                  <a:pt x="12267" y="14013"/>
                  <a:pt x="12378" y="14139"/>
                </a:cubicBezTo>
                <a:cubicBezTo>
                  <a:pt x="12386" y="14147"/>
                  <a:pt x="12394" y="14155"/>
                  <a:pt x="12402" y="14163"/>
                </a:cubicBezTo>
              </a:path>
              <a:path w="6723" h="2531">
                <a:moveTo>
                  <a:pt x="14188" y="13022"/>
                </a:moveTo>
                <a:cubicBezTo>
                  <a:pt x="14419" y="13022"/>
                  <a:pt x="14657" y="13004"/>
                  <a:pt x="14883" y="13047"/>
                </a:cubicBezTo>
                <a:cubicBezTo>
                  <a:pt x="15001" y="13070"/>
                  <a:pt x="15145" y="13078"/>
                  <a:pt x="15255" y="13122"/>
                </a:cubicBezTo>
                <a:cubicBezTo>
                  <a:pt x="15288" y="13138"/>
                  <a:pt x="15321" y="13155"/>
                  <a:pt x="15354" y="13171"/>
                </a:cubicBezTo>
              </a:path>
              <a:path w="6723" h="2531">
                <a:moveTo>
                  <a:pt x="14759" y="13320"/>
                </a:moveTo>
                <a:cubicBezTo>
                  <a:pt x="14749" y="13434"/>
                  <a:pt x="14748" y="13552"/>
                  <a:pt x="14734" y="13667"/>
                </a:cubicBezTo>
                <a:cubicBezTo>
                  <a:pt x="14707" y="13884"/>
                  <a:pt x="14658" y="14052"/>
                  <a:pt x="14585" y="14263"/>
                </a:cubicBezTo>
              </a:path>
              <a:path w="6723" h="2531">
                <a:moveTo>
                  <a:pt x="8632" y="14064"/>
                </a:moveTo>
                <a:cubicBezTo>
                  <a:pt x="8738" y="13971"/>
                  <a:pt x="8848" y="13885"/>
                  <a:pt x="8954" y="13791"/>
                </a:cubicBezTo>
                <a:cubicBezTo>
                  <a:pt x="9184" y="13588"/>
                  <a:pt x="9385" y="13424"/>
                  <a:pt x="9649" y="13271"/>
                </a:cubicBezTo>
                <a:cubicBezTo>
                  <a:pt x="9869" y="13143"/>
                  <a:pt x="10085" y="12999"/>
                  <a:pt x="10319" y="12898"/>
                </a:cubicBezTo>
                <a:cubicBezTo>
                  <a:pt x="10465" y="12835"/>
                  <a:pt x="10616" y="12781"/>
                  <a:pt x="10765" y="12725"/>
                </a:cubicBezTo>
              </a:path>
              <a:path w="6723" h="2531">
                <a:moveTo>
                  <a:pt x="11187" y="12750"/>
                </a:moveTo>
                <a:cubicBezTo>
                  <a:pt x="11356" y="12657"/>
                  <a:pt x="11534" y="12579"/>
                  <a:pt x="11683" y="12452"/>
                </a:cubicBezTo>
                <a:cubicBezTo>
                  <a:pt x="11894" y="12272"/>
                  <a:pt x="12121" y="12121"/>
                  <a:pt x="12378" y="12005"/>
                </a:cubicBezTo>
                <a:cubicBezTo>
                  <a:pt x="12644" y="11885"/>
                  <a:pt x="12916" y="11810"/>
                  <a:pt x="13196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990880" y="4259160"/>
            <a:ext cx="2287440" cy="768600"/>
          </a:xfrm>
          <a:custGeom>
            <a:avLst/>
            <a:gdLst/>
            <a:ahLst/>
            <a:rect l="l" t="t" r="r" b="b"/>
            <a:pathLst>
              <a:path w="6351" h="2134">
                <a:moveTo>
                  <a:pt x="8806" y="12055"/>
                </a:moveTo>
                <a:cubicBezTo>
                  <a:pt x="8846" y="12024"/>
                  <a:pt x="8903" y="12008"/>
                  <a:pt x="8954" y="12005"/>
                </a:cubicBezTo>
                <a:cubicBezTo>
                  <a:pt x="8990" y="12003"/>
                  <a:pt x="9086" y="12028"/>
                  <a:pt x="9103" y="12055"/>
                </a:cubicBezTo>
                <a:cubicBezTo>
                  <a:pt x="9136" y="12106"/>
                  <a:pt x="9129" y="12145"/>
                  <a:pt x="9103" y="12204"/>
                </a:cubicBezTo>
                <a:cubicBezTo>
                  <a:pt x="9071" y="12277"/>
                  <a:pt x="9008" y="12343"/>
                  <a:pt x="8954" y="12402"/>
                </a:cubicBezTo>
                <a:cubicBezTo>
                  <a:pt x="8923" y="12436"/>
                  <a:pt x="8930" y="12457"/>
                  <a:pt x="8930" y="12502"/>
                </a:cubicBezTo>
                <a:cubicBezTo>
                  <a:pt x="9023" y="12502"/>
                  <a:pt x="9110" y="12481"/>
                  <a:pt x="9203" y="12477"/>
                </a:cubicBezTo>
                <a:cubicBezTo>
                  <a:pt x="9270" y="12474"/>
                  <a:pt x="9315" y="12498"/>
                  <a:pt x="9376" y="12502"/>
                </a:cubicBezTo>
                <a:cubicBezTo>
                  <a:pt x="9418" y="12502"/>
                  <a:pt x="9434" y="12510"/>
                  <a:pt x="9426" y="12477"/>
                </a:cubicBezTo>
              </a:path>
              <a:path w="6351" h="2134">
                <a:moveTo>
                  <a:pt x="8310" y="12973"/>
                </a:moveTo>
                <a:cubicBezTo>
                  <a:pt x="8433" y="12973"/>
                  <a:pt x="8539" y="12978"/>
                  <a:pt x="8657" y="12948"/>
                </a:cubicBezTo>
                <a:cubicBezTo>
                  <a:pt x="8812" y="12909"/>
                  <a:pt x="8971" y="12918"/>
                  <a:pt x="9128" y="12898"/>
                </a:cubicBezTo>
                <a:cubicBezTo>
                  <a:pt x="9287" y="12877"/>
                  <a:pt x="9437" y="12874"/>
                  <a:pt x="9599" y="12874"/>
                </a:cubicBezTo>
                <a:cubicBezTo>
                  <a:pt x="9734" y="12874"/>
                  <a:pt x="9860" y="12898"/>
                  <a:pt x="9996" y="12898"/>
                </a:cubicBezTo>
                <a:cubicBezTo>
                  <a:pt x="10056" y="12898"/>
                  <a:pt x="10197" y="12976"/>
                  <a:pt x="10170" y="12923"/>
                </a:cubicBezTo>
                <a:cubicBezTo>
                  <a:pt x="10142" y="12923"/>
                  <a:pt x="10131" y="12921"/>
                  <a:pt x="10120" y="12898"/>
                </a:cubicBezTo>
              </a:path>
              <a:path w="6351" h="2134">
                <a:moveTo>
                  <a:pt x="8682" y="13295"/>
                </a:moveTo>
                <a:cubicBezTo>
                  <a:pt x="8654" y="13316"/>
                  <a:pt x="8614" y="13355"/>
                  <a:pt x="8582" y="13370"/>
                </a:cubicBezTo>
                <a:cubicBezTo>
                  <a:pt x="8542" y="13388"/>
                  <a:pt x="8502" y="13422"/>
                  <a:pt x="8483" y="13469"/>
                </a:cubicBezTo>
                <a:cubicBezTo>
                  <a:pt x="8452" y="13547"/>
                  <a:pt x="8508" y="13645"/>
                  <a:pt x="8558" y="13692"/>
                </a:cubicBezTo>
                <a:cubicBezTo>
                  <a:pt x="8601" y="13733"/>
                  <a:pt x="8677" y="13717"/>
                  <a:pt x="8731" y="13717"/>
                </a:cubicBezTo>
                <a:cubicBezTo>
                  <a:pt x="8767" y="13717"/>
                  <a:pt x="8796" y="13699"/>
                  <a:pt x="8830" y="13692"/>
                </a:cubicBezTo>
              </a:path>
              <a:path w="6351" h="2134">
                <a:moveTo>
                  <a:pt x="9203" y="13593"/>
                </a:moveTo>
                <a:cubicBezTo>
                  <a:pt x="9189" y="13681"/>
                  <a:pt x="9153" y="13771"/>
                  <a:pt x="9203" y="13816"/>
                </a:cubicBezTo>
                <a:cubicBezTo>
                  <a:pt x="9233" y="13843"/>
                  <a:pt x="9283" y="13854"/>
                  <a:pt x="9327" y="13841"/>
                </a:cubicBezTo>
                <a:cubicBezTo>
                  <a:pt x="9409" y="13817"/>
                  <a:pt x="9434" y="13756"/>
                  <a:pt x="9500" y="13717"/>
                </a:cubicBezTo>
                <a:cubicBezTo>
                  <a:pt x="9545" y="13690"/>
                  <a:pt x="9620" y="13633"/>
                  <a:pt x="9599" y="13568"/>
                </a:cubicBezTo>
                <a:cubicBezTo>
                  <a:pt x="9582" y="13515"/>
                  <a:pt x="9556" y="13497"/>
                  <a:pt x="9500" y="13494"/>
                </a:cubicBezTo>
                <a:cubicBezTo>
                  <a:pt x="9417" y="13489"/>
                  <a:pt x="9346" y="13498"/>
                  <a:pt x="9277" y="13519"/>
                </a:cubicBezTo>
                <a:cubicBezTo>
                  <a:pt x="9252" y="13519"/>
                  <a:pt x="9244" y="13519"/>
                  <a:pt x="9252" y="13494"/>
                </a:cubicBezTo>
              </a:path>
              <a:path w="6351" h="2134">
                <a:moveTo>
                  <a:pt x="9897" y="13320"/>
                </a:moveTo>
                <a:cubicBezTo>
                  <a:pt x="9873" y="13344"/>
                  <a:pt x="9797" y="13396"/>
                  <a:pt x="9823" y="13444"/>
                </a:cubicBezTo>
                <a:cubicBezTo>
                  <a:pt x="9856" y="13505"/>
                  <a:pt x="9900" y="13496"/>
                  <a:pt x="9947" y="13519"/>
                </a:cubicBezTo>
                <a:cubicBezTo>
                  <a:pt x="9998" y="13544"/>
                  <a:pt x="10052" y="13586"/>
                  <a:pt x="10071" y="13643"/>
                </a:cubicBezTo>
                <a:cubicBezTo>
                  <a:pt x="10082" y="13675"/>
                  <a:pt x="10070" y="13746"/>
                  <a:pt x="10046" y="13767"/>
                </a:cubicBezTo>
                <a:cubicBezTo>
                  <a:pt x="9991" y="13817"/>
                  <a:pt x="9908" y="13869"/>
                  <a:pt x="9847" y="13915"/>
                </a:cubicBezTo>
                <a:cubicBezTo>
                  <a:pt x="9822" y="13932"/>
                  <a:pt x="9798" y="13948"/>
                  <a:pt x="9773" y="13965"/>
                </a:cubicBezTo>
                <a:cubicBezTo>
                  <a:pt x="9773" y="13911"/>
                  <a:pt x="9775" y="13894"/>
                  <a:pt x="9798" y="13841"/>
                </a:cubicBezTo>
              </a:path>
              <a:path w="6351" h="2134">
                <a:moveTo>
                  <a:pt x="10096" y="13196"/>
                </a:moveTo>
                <a:cubicBezTo>
                  <a:pt x="10152" y="13172"/>
                  <a:pt x="10173" y="13154"/>
                  <a:pt x="10220" y="13196"/>
                </a:cubicBezTo>
                <a:cubicBezTo>
                  <a:pt x="10274" y="13245"/>
                  <a:pt x="10273" y="13269"/>
                  <a:pt x="10244" y="13320"/>
                </a:cubicBezTo>
                <a:cubicBezTo>
                  <a:pt x="10202" y="13396"/>
                  <a:pt x="10105" y="13462"/>
                  <a:pt x="10096" y="13543"/>
                </a:cubicBezTo>
                <a:cubicBezTo>
                  <a:pt x="10089" y="13607"/>
                  <a:pt x="10153" y="13593"/>
                  <a:pt x="10195" y="13593"/>
                </a:cubicBezTo>
                <a:cubicBezTo>
                  <a:pt x="10236" y="13593"/>
                  <a:pt x="10278" y="13593"/>
                  <a:pt x="10319" y="13593"/>
                </a:cubicBezTo>
              </a:path>
              <a:path w="6351" h="2134">
                <a:moveTo>
                  <a:pt x="10517" y="13444"/>
                </a:moveTo>
                <a:cubicBezTo>
                  <a:pt x="10525" y="13530"/>
                  <a:pt x="10548" y="13692"/>
                  <a:pt x="10592" y="13767"/>
                </a:cubicBezTo>
                <a:cubicBezTo>
                  <a:pt x="10612" y="13801"/>
                  <a:pt x="10692" y="13923"/>
                  <a:pt x="10716" y="13940"/>
                </a:cubicBezTo>
                <a:cubicBezTo>
                  <a:pt x="10743" y="13959"/>
                  <a:pt x="10774" y="13927"/>
                  <a:pt x="10790" y="13915"/>
                </a:cubicBezTo>
              </a:path>
              <a:path w="6351" h="2134">
                <a:moveTo>
                  <a:pt x="10840" y="13444"/>
                </a:moveTo>
                <a:cubicBezTo>
                  <a:pt x="10826" y="13499"/>
                  <a:pt x="10755" y="13573"/>
                  <a:pt x="10716" y="13618"/>
                </a:cubicBezTo>
                <a:cubicBezTo>
                  <a:pt x="10642" y="13704"/>
                  <a:pt x="10561" y="13804"/>
                  <a:pt x="10468" y="13866"/>
                </a:cubicBezTo>
                <a:cubicBezTo>
                  <a:pt x="10418" y="13899"/>
                  <a:pt x="10406" y="13887"/>
                  <a:pt x="10393" y="13940"/>
                </a:cubicBezTo>
              </a:path>
              <a:path w="6351" h="2134">
                <a:moveTo>
                  <a:pt x="10815" y="12874"/>
                </a:moveTo>
                <a:cubicBezTo>
                  <a:pt x="10823" y="12866"/>
                  <a:pt x="10832" y="12857"/>
                  <a:pt x="10840" y="12849"/>
                </a:cubicBezTo>
              </a:path>
              <a:path w="6351" h="2134">
                <a:moveTo>
                  <a:pt x="11485" y="12129"/>
                </a:moveTo>
                <a:cubicBezTo>
                  <a:pt x="11425" y="12138"/>
                  <a:pt x="11388" y="12165"/>
                  <a:pt x="11336" y="12204"/>
                </a:cubicBezTo>
                <a:cubicBezTo>
                  <a:pt x="11270" y="12254"/>
                  <a:pt x="11227" y="12397"/>
                  <a:pt x="11212" y="12477"/>
                </a:cubicBezTo>
                <a:cubicBezTo>
                  <a:pt x="11200" y="12543"/>
                  <a:pt x="11241" y="12557"/>
                  <a:pt x="11286" y="12576"/>
                </a:cubicBezTo>
                <a:cubicBezTo>
                  <a:pt x="11367" y="12611"/>
                  <a:pt x="11445" y="12601"/>
                  <a:pt x="11534" y="12601"/>
                </a:cubicBezTo>
                <a:cubicBezTo>
                  <a:pt x="11583" y="12601"/>
                  <a:pt x="11613" y="12585"/>
                  <a:pt x="11658" y="12576"/>
                </a:cubicBezTo>
              </a:path>
              <a:path w="6351" h="2134">
                <a:moveTo>
                  <a:pt x="11931" y="12154"/>
                </a:moveTo>
                <a:cubicBezTo>
                  <a:pt x="11845" y="12187"/>
                  <a:pt x="11819" y="12184"/>
                  <a:pt x="11782" y="12278"/>
                </a:cubicBezTo>
                <a:cubicBezTo>
                  <a:pt x="11755" y="12348"/>
                  <a:pt x="11710" y="12449"/>
                  <a:pt x="11733" y="12526"/>
                </a:cubicBezTo>
                <a:cubicBezTo>
                  <a:pt x="11755" y="12598"/>
                  <a:pt x="11809" y="12621"/>
                  <a:pt x="11881" y="12601"/>
                </a:cubicBezTo>
                <a:cubicBezTo>
                  <a:pt x="12000" y="12568"/>
                  <a:pt x="12092" y="12479"/>
                  <a:pt x="12154" y="12378"/>
                </a:cubicBezTo>
                <a:cubicBezTo>
                  <a:pt x="12198" y="12306"/>
                  <a:pt x="12226" y="12230"/>
                  <a:pt x="12179" y="12154"/>
                </a:cubicBezTo>
                <a:cubicBezTo>
                  <a:pt x="12115" y="12049"/>
                  <a:pt x="11996" y="12178"/>
                  <a:pt x="11931" y="12204"/>
                </a:cubicBezTo>
                <a:cubicBezTo>
                  <a:pt x="11894" y="12219"/>
                  <a:pt x="11920" y="12216"/>
                  <a:pt x="11881" y="12229"/>
                </a:cubicBezTo>
              </a:path>
              <a:path w="6351" h="2134">
                <a:moveTo>
                  <a:pt x="12303" y="12179"/>
                </a:moveTo>
                <a:cubicBezTo>
                  <a:pt x="12231" y="12234"/>
                  <a:pt x="12198" y="12225"/>
                  <a:pt x="12204" y="12278"/>
                </a:cubicBezTo>
                <a:cubicBezTo>
                  <a:pt x="12236" y="12310"/>
                  <a:pt x="12275" y="12332"/>
                  <a:pt x="12303" y="12353"/>
                </a:cubicBezTo>
                <a:cubicBezTo>
                  <a:pt x="12362" y="12398"/>
                  <a:pt x="12408" y="12450"/>
                  <a:pt x="12452" y="12502"/>
                </a:cubicBezTo>
                <a:cubicBezTo>
                  <a:pt x="12481" y="12536"/>
                  <a:pt x="12493" y="12558"/>
                  <a:pt x="12502" y="12601"/>
                </a:cubicBezTo>
                <a:cubicBezTo>
                  <a:pt x="12447" y="12628"/>
                  <a:pt x="12387" y="12660"/>
                  <a:pt x="12328" y="12675"/>
                </a:cubicBezTo>
                <a:cubicBezTo>
                  <a:pt x="12298" y="12683"/>
                  <a:pt x="12252" y="12643"/>
                  <a:pt x="12229" y="12626"/>
                </a:cubicBezTo>
              </a:path>
              <a:path w="6351" h="2134">
                <a:moveTo>
                  <a:pt x="12477" y="11857"/>
                </a:moveTo>
                <a:cubicBezTo>
                  <a:pt x="12535" y="11832"/>
                  <a:pt x="12562" y="11832"/>
                  <a:pt x="12626" y="11832"/>
                </a:cubicBezTo>
                <a:cubicBezTo>
                  <a:pt x="12654" y="11832"/>
                  <a:pt x="12711" y="11846"/>
                  <a:pt x="12700" y="11881"/>
                </a:cubicBezTo>
                <a:cubicBezTo>
                  <a:pt x="12674" y="11966"/>
                  <a:pt x="12606" y="11982"/>
                  <a:pt x="12576" y="12055"/>
                </a:cubicBezTo>
                <a:cubicBezTo>
                  <a:pt x="12554" y="12109"/>
                  <a:pt x="12601" y="12112"/>
                  <a:pt x="12626" y="12129"/>
                </a:cubicBezTo>
                <a:cubicBezTo>
                  <a:pt x="12659" y="12151"/>
                  <a:pt x="12730" y="12171"/>
                  <a:pt x="12774" y="12179"/>
                </a:cubicBezTo>
                <a:cubicBezTo>
                  <a:pt x="12791" y="12179"/>
                  <a:pt x="12807" y="12179"/>
                  <a:pt x="12824" y="12179"/>
                </a:cubicBezTo>
              </a:path>
              <a:path w="6351" h="2134">
                <a:moveTo>
                  <a:pt x="12948" y="12154"/>
                </a:moveTo>
                <a:cubicBezTo>
                  <a:pt x="12958" y="12227"/>
                  <a:pt x="12973" y="12270"/>
                  <a:pt x="12973" y="12353"/>
                </a:cubicBezTo>
                <a:cubicBezTo>
                  <a:pt x="12973" y="12426"/>
                  <a:pt x="12996" y="12486"/>
                  <a:pt x="13022" y="12551"/>
                </a:cubicBezTo>
                <a:cubicBezTo>
                  <a:pt x="13032" y="12575"/>
                  <a:pt x="13050" y="12670"/>
                  <a:pt x="13097" y="12650"/>
                </a:cubicBezTo>
                <a:cubicBezTo>
                  <a:pt x="13105" y="12642"/>
                  <a:pt x="13114" y="12634"/>
                  <a:pt x="13122" y="12626"/>
                </a:cubicBezTo>
              </a:path>
              <a:path w="6351" h="2134">
                <a:moveTo>
                  <a:pt x="13221" y="12204"/>
                </a:moveTo>
                <a:cubicBezTo>
                  <a:pt x="13157" y="12220"/>
                  <a:pt x="13125" y="12286"/>
                  <a:pt x="13072" y="12328"/>
                </a:cubicBezTo>
                <a:cubicBezTo>
                  <a:pt x="12980" y="12401"/>
                  <a:pt x="12899" y="12489"/>
                  <a:pt x="12799" y="12551"/>
                </a:cubicBezTo>
                <a:cubicBezTo>
                  <a:pt x="12745" y="12584"/>
                  <a:pt x="12738" y="12588"/>
                  <a:pt x="12725" y="12650"/>
                </a:cubicBezTo>
              </a:path>
              <a:path w="6351" h="2134">
                <a:moveTo>
                  <a:pt x="13543" y="12750"/>
                </a:moveTo>
                <a:cubicBezTo>
                  <a:pt x="13543" y="12739"/>
                  <a:pt x="13557" y="12733"/>
                  <a:pt x="13618" y="12750"/>
                </a:cubicBezTo>
                <a:cubicBezTo>
                  <a:pt x="13689" y="12770"/>
                  <a:pt x="13740" y="12774"/>
                  <a:pt x="13816" y="12774"/>
                </a:cubicBezTo>
                <a:cubicBezTo>
                  <a:pt x="13907" y="12774"/>
                  <a:pt x="13981" y="12780"/>
                  <a:pt x="14064" y="12750"/>
                </a:cubicBezTo>
                <a:cubicBezTo>
                  <a:pt x="14089" y="12742"/>
                  <a:pt x="14114" y="12733"/>
                  <a:pt x="14139" y="12725"/>
                </a:cubicBezTo>
              </a:path>
              <a:path w="6351" h="2134">
                <a:moveTo>
                  <a:pt x="14660" y="12154"/>
                </a:moveTo>
                <a:cubicBezTo>
                  <a:pt x="14653" y="12255"/>
                  <a:pt x="14646" y="12355"/>
                  <a:pt x="14610" y="12452"/>
                </a:cubicBezTo>
                <a:cubicBezTo>
                  <a:pt x="14582" y="12529"/>
                  <a:pt x="14606" y="12600"/>
                  <a:pt x="14585" y="12675"/>
                </a:cubicBezTo>
                <a:cubicBezTo>
                  <a:pt x="14554" y="12738"/>
                  <a:pt x="14545" y="12769"/>
                  <a:pt x="14560" y="128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3517920" y="5295960"/>
            <a:ext cx="1625760" cy="438120"/>
          </a:xfrm>
          <a:custGeom>
            <a:avLst/>
            <a:gdLst/>
            <a:ahLst/>
            <a:rect l="l" t="t" r="r" b="b"/>
            <a:pathLst>
              <a:path w="4516" h="1217">
                <a:moveTo>
                  <a:pt x="9773" y="14808"/>
                </a:moveTo>
                <a:cubicBezTo>
                  <a:pt x="9839" y="14808"/>
                  <a:pt x="9910" y="14804"/>
                  <a:pt x="9971" y="14784"/>
                </a:cubicBezTo>
                <a:cubicBezTo>
                  <a:pt x="10024" y="14766"/>
                  <a:pt x="10112" y="14732"/>
                  <a:pt x="10170" y="14759"/>
                </a:cubicBezTo>
                <a:cubicBezTo>
                  <a:pt x="10233" y="14788"/>
                  <a:pt x="10230" y="14855"/>
                  <a:pt x="10195" y="14908"/>
                </a:cubicBezTo>
                <a:cubicBezTo>
                  <a:pt x="10149" y="14978"/>
                  <a:pt x="10087" y="15032"/>
                  <a:pt x="10046" y="15106"/>
                </a:cubicBezTo>
                <a:cubicBezTo>
                  <a:pt x="10011" y="15168"/>
                  <a:pt x="9978" y="15233"/>
                  <a:pt x="9971" y="15304"/>
                </a:cubicBezTo>
                <a:cubicBezTo>
                  <a:pt x="9971" y="15312"/>
                  <a:pt x="9971" y="15321"/>
                  <a:pt x="9971" y="15329"/>
                </a:cubicBezTo>
                <a:cubicBezTo>
                  <a:pt x="10071" y="15349"/>
                  <a:pt x="10140" y="15336"/>
                  <a:pt x="10244" y="15304"/>
                </a:cubicBezTo>
                <a:cubicBezTo>
                  <a:pt x="10350" y="15272"/>
                  <a:pt x="10407" y="15215"/>
                  <a:pt x="10517" y="15205"/>
                </a:cubicBezTo>
              </a:path>
              <a:path w="4516" h="1217">
                <a:moveTo>
                  <a:pt x="10765" y="14982"/>
                </a:moveTo>
                <a:cubicBezTo>
                  <a:pt x="10835" y="14991"/>
                  <a:pt x="10896" y="15021"/>
                  <a:pt x="10964" y="15032"/>
                </a:cubicBezTo>
                <a:cubicBezTo>
                  <a:pt x="11033" y="15044"/>
                  <a:pt x="11090" y="15056"/>
                  <a:pt x="11162" y="15056"/>
                </a:cubicBezTo>
                <a:cubicBezTo>
                  <a:pt x="11244" y="15056"/>
                  <a:pt x="11266" y="15047"/>
                  <a:pt x="11336" y="15007"/>
                </a:cubicBezTo>
              </a:path>
              <a:path w="4516" h="1217">
                <a:moveTo>
                  <a:pt x="11559" y="14709"/>
                </a:moveTo>
                <a:cubicBezTo>
                  <a:pt x="11559" y="14883"/>
                  <a:pt x="11543" y="15034"/>
                  <a:pt x="11509" y="15205"/>
                </a:cubicBezTo>
                <a:cubicBezTo>
                  <a:pt x="11488" y="15311"/>
                  <a:pt x="11468" y="15422"/>
                  <a:pt x="11460" y="15528"/>
                </a:cubicBezTo>
                <a:cubicBezTo>
                  <a:pt x="11457" y="15570"/>
                  <a:pt x="11452" y="15566"/>
                  <a:pt x="11485" y="15577"/>
                </a:cubicBezTo>
              </a:path>
              <a:path w="4516" h="1217">
                <a:moveTo>
                  <a:pt x="11881" y="14982"/>
                </a:moveTo>
                <a:cubicBezTo>
                  <a:pt x="11964" y="14954"/>
                  <a:pt x="12046" y="14955"/>
                  <a:pt x="12129" y="14932"/>
                </a:cubicBezTo>
                <a:cubicBezTo>
                  <a:pt x="12198" y="14913"/>
                  <a:pt x="12255" y="14908"/>
                  <a:pt x="12328" y="14908"/>
                </a:cubicBezTo>
              </a:path>
              <a:path w="4516" h="1217">
                <a:moveTo>
                  <a:pt x="11981" y="15081"/>
                </a:moveTo>
                <a:cubicBezTo>
                  <a:pt x="11996" y="15145"/>
                  <a:pt x="12040" y="15153"/>
                  <a:pt x="12105" y="15156"/>
                </a:cubicBezTo>
                <a:cubicBezTo>
                  <a:pt x="12255" y="15163"/>
                  <a:pt x="12362" y="15156"/>
                  <a:pt x="12502" y="15106"/>
                </a:cubicBezTo>
              </a:path>
              <a:path w="4516" h="1217">
                <a:moveTo>
                  <a:pt x="12948" y="14759"/>
                </a:moveTo>
                <a:cubicBezTo>
                  <a:pt x="12948" y="14980"/>
                  <a:pt x="12946" y="15169"/>
                  <a:pt x="12923" y="15379"/>
                </a:cubicBezTo>
                <a:cubicBezTo>
                  <a:pt x="12912" y="15480"/>
                  <a:pt x="12877" y="15682"/>
                  <a:pt x="12973" y="15602"/>
                </a:cubicBezTo>
              </a:path>
              <a:path w="4516" h="1217">
                <a:moveTo>
                  <a:pt x="13395" y="15056"/>
                </a:moveTo>
                <a:cubicBezTo>
                  <a:pt x="13479" y="15081"/>
                  <a:pt x="13530" y="15081"/>
                  <a:pt x="13618" y="15081"/>
                </a:cubicBezTo>
                <a:cubicBezTo>
                  <a:pt x="13702" y="15081"/>
                  <a:pt x="13659" y="15105"/>
                  <a:pt x="13742" y="15081"/>
                </a:cubicBezTo>
              </a:path>
              <a:path w="4516" h="1217">
                <a:moveTo>
                  <a:pt x="13494" y="15304"/>
                </a:moveTo>
                <a:cubicBezTo>
                  <a:pt x="13542" y="15317"/>
                  <a:pt x="13671" y="15359"/>
                  <a:pt x="13717" y="15354"/>
                </a:cubicBezTo>
                <a:cubicBezTo>
                  <a:pt x="13765" y="15330"/>
                  <a:pt x="13779" y="15322"/>
                  <a:pt x="13816" y="15329"/>
                </a:cubicBezTo>
              </a:path>
              <a:path w="4516" h="1217">
                <a:moveTo>
                  <a:pt x="14288" y="14908"/>
                </a:moveTo>
                <a:cubicBezTo>
                  <a:pt x="14234" y="15252"/>
                  <a:pt x="14169" y="15586"/>
                  <a:pt x="14089" y="159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80880" y="685800"/>
          <a:ext cx="78868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85800"/>
                    <a:ext cx="7886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4280" y="2071800"/>
            <a:ext cx="5823000" cy="1009440"/>
          </a:xfrm>
          <a:custGeom>
            <a:avLst/>
            <a:gdLst/>
            <a:ahLst/>
            <a:rect l="l" t="t" r="r" b="b"/>
            <a:pathLst>
              <a:path w="16174" h="2804">
                <a:moveTo>
                  <a:pt x="4167" y="5755"/>
                </a:moveTo>
                <a:cubicBezTo>
                  <a:pt x="4123" y="5805"/>
                  <a:pt x="4086" y="5855"/>
                  <a:pt x="4043" y="5904"/>
                </a:cubicBezTo>
                <a:cubicBezTo>
                  <a:pt x="3993" y="5961"/>
                  <a:pt x="3964" y="6019"/>
                  <a:pt x="3919" y="6077"/>
                </a:cubicBezTo>
                <a:cubicBezTo>
                  <a:pt x="3857" y="6157"/>
                  <a:pt x="3824" y="6238"/>
                  <a:pt x="3770" y="6325"/>
                </a:cubicBezTo>
                <a:cubicBezTo>
                  <a:pt x="3708" y="6424"/>
                  <a:pt x="3664" y="6539"/>
                  <a:pt x="3621" y="6648"/>
                </a:cubicBezTo>
                <a:cubicBezTo>
                  <a:pt x="3576" y="6761"/>
                  <a:pt x="3537" y="6885"/>
                  <a:pt x="3497" y="6995"/>
                </a:cubicBezTo>
                <a:cubicBezTo>
                  <a:pt x="3453" y="7117"/>
                  <a:pt x="3444" y="7243"/>
                  <a:pt x="3423" y="7367"/>
                </a:cubicBezTo>
                <a:cubicBezTo>
                  <a:pt x="3398" y="7510"/>
                  <a:pt x="3373" y="7643"/>
                  <a:pt x="3373" y="7789"/>
                </a:cubicBezTo>
                <a:cubicBezTo>
                  <a:pt x="3373" y="7897"/>
                  <a:pt x="3375" y="7982"/>
                  <a:pt x="3398" y="8086"/>
                </a:cubicBezTo>
                <a:cubicBezTo>
                  <a:pt x="3413" y="8157"/>
                  <a:pt x="3406" y="8247"/>
                  <a:pt x="3448" y="8310"/>
                </a:cubicBezTo>
                <a:cubicBezTo>
                  <a:pt x="3489" y="8371"/>
                  <a:pt x="3562" y="8420"/>
                  <a:pt x="3621" y="8458"/>
                </a:cubicBezTo>
                <a:cubicBezTo>
                  <a:pt x="3674" y="8493"/>
                  <a:pt x="3732" y="8538"/>
                  <a:pt x="3795" y="8558"/>
                </a:cubicBezTo>
                <a:cubicBezTo>
                  <a:pt x="3803" y="8558"/>
                  <a:pt x="3812" y="8558"/>
                  <a:pt x="3820" y="8558"/>
                </a:cubicBezTo>
              </a:path>
              <a:path w="16174" h="2804">
                <a:moveTo>
                  <a:pt x="4787" y="6648"/>
                </a:moveTo>
                <a:cubicBezTo>
                  <a:pt x="4790" y="6633"/>
                  <a:pt x="4783" y="6552"/>
                  <a:pt x="4837" y="6524"/>
                </a:cubicBezTo>
                <a:cubicBezTo>
                  <a:pt x="4898" y="6492"/>
                  <a:pt x="5010" y="6464"/>
                  <a:pt x="5085" y="6474"/>
                </a:cubicBezTo>
                <a:cubicBezTo>
                  <a:pt x="5177" y="6486"/>
                  <a:pt x="5241" y="6509"/>
                  <a:pt x="5308" y="6573"/>
                </a:cubicBezTo>
                <a:cubicBezTo>
                  <a:pt x="5377" y="6638"/>
                  <a:pt x="5464" y="6710"/>
                  <a:pt x="5507" y="6796"/>
                </a:cubicBezTo>
                <a:cubicBezTo>
                  <a:pt x="5560" y="6904"/>
                  <a:pt x="5617" y="7021"/>
                  <a:pt x="5631" y="7144"/>
                </a:cubicBezTo>
                <a:cubicBezTo>
                  <a:pt x="5643" y="7255"/>
                  <a:pt x="5632" y="7390"/>
                  <a:pt x="5581" y="7491"/>
                </a:cubicBezTo>
                <a:cubicBezTo>
                  <a:pt x="5521" y="7609"/>
                  <a:pt x="5451" y="7697"/>
                  <a:pt x="5358" y="7789"/>
                </a:cubicBezTo>
                <a:cubicBezTo>
                  <a:pt x="5236" y="7911"/>
                  <a:pt x="5045" y="8037"/>
                  <a:pt x="4862" y="8012"/>
                </a:cubicBezTo>
                <a:cubicBezTo>
                  <a:pt x="4792" y="8003"/>
                  <a:pt x="4643" y="7992"/>
                  <a:pt x="4589" y="7938"/>
                </a:cubicBezTo>
                <a:cubicBezTo>
                  <a:pt x="4558" y="7907"/>
                  <a:pt x="4485" y="7756"/>
                  <a:pt x="4490" y="7714"/>
                </a:cubicBezTo>
                <a:cubicBezTo>
                  <a:pt x="4513" y="7522"/>
                  <a:pt x="4569" y="7486"/>
                  <a:pt x="4688" y="7367"/>
                </a:cubicBezTo>
                <a:cubicBezTo>
                  <a:pt x="4753" y="7302"/>
                  <a:pt x="4868" y="7257"/>
                  <a:pt x="4961" y="7243"/>
                </a:cubicBezTo>
                <a:cubicBezTo>
                  <a:pt x="5048" y="7230"/>
                  <a:pt x="5152" y="7247"/>
                  <a:pt x="5234" y="7268"/>
                </a:cubicBezTo>
                <a:cubicBezTo>
                  <a:pt x="5346" y="7296"/>
                  <a:pt x="5419" y="7375"/>
                  <a:pt x="5507" y="7441"/>
                </a:cubicBezTo>
                <a:cubicBezTo>
                  <a:pt x="5615" y="7523"/>
                  <a:pt x="5665" y="7619"/>
                  <a:pt x="5755" y="7714"/>
                </a:cubicBezTo>
                <a:cubicBezTo>
                  <a:pt x="5794" y="7755"/>
                  <a:pt x="5875" y="7820"/>
                  <a:pt x="5928" y="7838"/>
                </a:cubicBezTo>
                <a:cubicBezTo>
                  <a:pt x="5945" y="7838"/>
                  <a:pt x="5961" y="7838"/>
                  <a:pt x="5978" y="7838"/>
                </a:cubicBezTo>
              </a:path>
              <a:path w="16174" h="2804">
                <a:moveTo>
                  <a:pt x="6300" y="6921"/>
                </a:moveTo>
                <a:cubicBezTo>
                  <a:pt x="6300" y="7090"/>
                  <a:pt x="6312" y="7250"/>
                  <a:pt x="6325" y="7417"/>
                </a:cubicBezTo>
                <a:cubicBezTo>
                  <a:pt x="6333" y="7526"/>
                  <a:pt x="6337" y="7636"/>
                  <a:pt x="6350" y="7739"/>
                </a:cubicBezTo>
                <a:cubicBezTo>
                  <a:pt x="6352" y="7755"/>
                  <a:pt x="6350" y="7948"/>
                  <a:pt x="6350" y="7888"/>
                </a:cubicBezTo>
                <a:cubicBezTo>
                  <a:pt x="6326" y="7847"/>
                  <a:pt x="6319" y="7813"/>
                  <a:pt x="6300" y="7764"/>
                </a:cubicBezTo>
              </a:path>
              <a:path w="16174" h="2804">
                <a:moveTo>
                  <a:pt x="5928" y="7293"/>
                </a:moveTo>
                <a:cubicBezTo>
                  <a:pt x="6010" y="7293"/>
                  <a:pt x="6075" y="7305"/>
                  <a:pt x="6152" y="7317"/>
                </a:cubicBezTo>
                <a:cubicBezTo>
                  <a:pt x="6226" y="7329"/>
                  <a:pt x="6301" y="7339"/>
                  <a:pt x="6375" y="7342"/>
                </a:cubicBezTo>
                <a:cubicBezTo>
                  <a:pt x="6472" y="7346"/>
                  <a:pt x="6554" y="7322"/>
                  <a:pt x="6648" y="7317"/>
                </a:cubicBezTo>
                <a:cubicBezTo>
                  <a:pt x="6701" y="7314"/>
                  <a:pt x="6745" y="7333"/>
                  <a:pt x="6796" y="7342"/>
                </a:cubicBezTo>
              </a:path>
              <a:path w="16174" h="2804">
                <a:moveTo>
                  <a:pt x="6896" y="6325"/>
                </a:moveTo>
                <a:cubicBezTo>
                  <a:pt x="6915" y="6249"/>
                  <a:pt x="6921" y="6242"/>
                  <a:pt x="6995" y="6201"/>
                </a:cubicBezTo>
                <a:cubicBezTo>
                  <a:pt x="7052" y="6170"/>
                  <a:pt x="7129" y="6155"/>
                  <a:pt x="7193" y="6152"/>
                </a:cubicBezTo>
                <a:cubicBezTo>
                  <a:pt x="7287" y="6147"/>
                  <a:pt x="7379" y="6147"/>
                  <a:pt x="7466" y="6176"/>
                </a:cubicBezTo>
                <a:cubicBezTo>
                  <a:pt x="7552" y="6204"/>
                  <a:pt x="7653" y="6231"/>
                  <a:pt x="7714" y="6300"/>
                </a:cubicBezTo>
                <a:cubicBezTo>
                  <a:pt x="7760" y="6352"/>
                  <a:pt x="7803" y="6415"/>
                  <a:pt x="7838" y="6474"/>
                </a:cubicBezTo>
                <a:cubicBezTo>
                  <a:pt x="7874" y="6535"/>
                  <a:pt x="7875" y="6594"/>
                  <a:pt x="7838" y="6648"/>
                </a:cubicBezTo>
                <a:cubicBezTo>
                  <a:pt x="7770" y="6747"/>
                  <a:pt x="7677" y="6783"/>
                  <a:pt x="7590" y="6846"/>
                </a:cubicBezTo>
                <a:cubicBezTo>
                  <a:pt x="7537" y="6884"/>
                  <a:pt x="7495" y="6919"/>
                  <a:pt x="7441" y="6945"/>
                </a:cubicBezTo>
                <a:cubicBezTo>
                  <a:pt x="7417" y="6945"/>
                  <a:pt x="7409" y="6945"/>
                  <a:pt x="7441" y="6945"/>
                </a:cubicBezTo>
                <a:cubicBezTo>
                  <a:pt x="7497" y="6940"/>
                  <a:pt x="7538" y="6929"/>
                  <a:pt x="7590" y="6921"/>
                </a:cubicBezTo>
                <a:cubicBezTo>
                  <a:pt x="7656" y="6911"/>
                  <a:pt x="7712" y="6960"/>
                  <a:pt x="7764" y="6970"/>
                </a:cubicBezTo>
                <a:cubicBezTo>
                  <a:pt x="7829" y="6982"/>
                  <a:pt x="7869" y="6988"/>
                  <a:pt x="7913" y="7045"/>
                </a:cubicBezTo>
                <a:cubicBezTo>
                  <a:pt x="7946" y="7087"/>
                  <a:pt x="8000" y="7165"/>
                  <a:pt x="8012" y="7218"/>
                </a:cubicBezTo>
                <a:cubicBezTo>
                  <a:pt x="8027" y="7284"/>
                  <a:pt x="8054" y="7370"/>
                  <a:pt x="8037" y="7441"/>
                </a:cubicBezTo>
                <a:cubicBezTo>
                  <a:pt x="8019" y="7516"/>
                  <a:pt x="7949" y="7643"/>
                  <a:pt x="7888" y="7689"/>
                </a:cubicBezTo>
                <a:cubicBezTo>
                  <a:pt x="7795" y="7760"/>
                  <a:pt x="7704" y="7797"/>
                  <a:pt x="7590" y="7838"/>
                </a:cubicBezTo>
                <a:cubicBezTo>
                  <a:pt x="7508" y="7868"/>
                  <a:pt x="7374" y="7919"/>
                  <a:pt x="7293" y="7913"/>
                </a:cubicBezTo>
                <a:cubicBezTo>
                  <a:pt x="7237" y="7909"/>
                  <a:pt x="7163" y="7890"/>
                  <a:pt x="7119" y="7863"/>
                </a:cubicBezTo>
                <a:cubicBezTo>
                  <a:pt x="7111" y="7855"/>
                  <a:pt x="7102" y="7846"/>
                  <a:pt x="7094" y="7838"/>
                </a:cubicBezTo>
              </a:path>
              <a:path w="16174" h="2804">
                <a:moveTo>
                  <a:pt x="8310" y="7119"/>
                </a:moveTo>
                <a:cubicBezTo>
                  <a:pt x="8245" y="7249"/>
                  <a:pt x="8199" y="7378"/>
                  <a:pt x="8161" y="7516"/>
                </a:cubicBezTo>
                <a:cubicBezTo>
                  <a:pt x="8137" y="7603"/>
                  <a:pt x="8111" y="7649"/>
                  <a:pt x="8111" y="7739"/>
                </a:cubicBezTo>
                <a:cubicBezTo>
                  <a:pt x="8111" y="7786"/>
                  <a:pt x="8137" y="7841"/>
                  <a:pt x="8186" y="7863"/>
                </a:cubicBezTo>
                <a:cubicBezTo>
                  <a:pt x="8229" y="7882"/>
                  <a:pt x="8323" y="7864"/>
                  <a:pt x="8359" y="7838"/>
                </a:cubicBezTo>
                <a:cubicBezTo>
                  <a:pt x="8433" y="7785"/>
                  <a:pt x="8502" y="7728"/>
                  <a:pt x="8558" y="7665"/>
                </a:cubicBezTo>
                <a:cubicBezTo>
                  <a:pt x="8615" y="7600"/>
                  <a:pt x="8665" y="7530"/>
                  <a:pt x="8682" y="7441"/>
                </a:cubicBezTo>
                <a:cubicBezTo>
                  <a:pt x="8696" y="7370"/>
                  <a:pt x="8636" y="7305"/>
                  <a:pt x="8582" y="7268"/>
                </a:cubicBezTo>
                <a:cubicBezTo>
                  <a:pt x="8522" y="7228"/>
                  <a:pt x="8454" y="7198"/>
                  <a:pt x="8384" y="7193"/>
                </a:cubicBezTo>
                <a:cubicBezTo>
                  <a:pt x="8360" y="7191"/>
                  <a:pt x="8334" y="7193"/>
                  <a:pt x="8310" y="7193"/>
                </a:cubicBezTo>
              </a:path>
              <a:path w="16174" h="2804">
                <a:moveTo>
                  <a:pt x="8458" y="7069"/>
                </a:moveTo>
                <a:cubicBezTo>
                  <a:pt x="8502" y="7113"/>
                  <a:pt x="8533" y="7118"/>
                  <a:pt x="8582" y="7144"/>
                </a:cubicBezTo>
                <a:cubicBezTo>
                  <a:pt x="8636" y="7173"/>
                  <a:pt x="8680" y="7212"/>
                  <a:pt x="8731" y="7243"/>
                </a:cubicBezTo>
                <a:cubicBezTo>
                  <a:pt x="8750" y="7254"/>
                  <a:pt x="8786" y="7258"/>
                  <a:pt x="8806" y="7268"/>
                </a:cubicBezTo>
                <a:cubicBezTo>
                  <a:pt x="8788" y="7233"/>
                  <a:pt x="8785" y="7201"/>
                  <a:pt x="8756" y="7169"/>
                </a:cubicBezTo>
                <a:cubicBezTo>
                  <a:pt x="8706" y="7114"/>
                  <a:pt x="8628" y="7076"/>
                  <a:pt x="8558" y="7069"/>
                </a:cubicBezTo>
                <a:cubicBezTo>
                  <a:pt x="8493" y="7062"/>
                  <a:pt x="8443" y="7069"/>
                  <a:pt x="8384" y="7094"/>
                </a:cubicBezTo>
                <a:cubicBezTo>
                  <a:pt x="8339" y="7113"/>
                  <a:pt x="8291" y="7146"/>
                  <a:pt x="8260" y="7193"/>
                </a:cubicBezTo>
                <a:cubicBezTo>
                  <a:pt x="8220" y="7252"/>
                  <a:pt x="8213" y="7349"/>
                  <a:pt x="8210" y="7417"/>
                </a:cubicBezTo>
                <a:cubicBezTo>
                  <a:pt x="8206" y="7506"/>
                  <a:pt x="8210" y="7588"/>
                  <a:pt x="8260" y="7665"/>
                </a:cubicBezTo>
                <a:cubicBezTo>
                  <a:pt x="8300" y="7726"/>
                  <a:pt x="8359" y="7788"/>
                  <a:pt x="8434" y="7813"/>
                </a:cubicBezTo>
                <a:cubicBezTo>
                  <a:pt x="8500" y="7835"/>
                  <a:pt x="8611" y="7855"/>
                  <a:pt x="8682" y="7863"/>
                </a:cubicBezTo>
                <a:cubicBezTo>
                  <a:pt x="8786" y="7875"/>
                  <a:pt x="8878" y="7843"/>
                  <a:pt x="8979" y="7838"/>
                </a:cubicBezTo>
                <a:cubicBezTo>
                  <a:pt x="9032" y="7836"/>
                  <a:pt x="9138" y="7822"/>
                  <a:pt x="9178" y="7789"/>
                </a:cubicBezTo>
                <a:cubicBezTo>
                  <a:pt x="9203" y="7739"/>
                  <a:pt x="9211" y="7723"/>
                  <a:pt x="9252" y="7714"/>
                </a:cubicBezTo>
              </a:path>
              <a:path w="16174" h="2804">
                <a:moveTo>
                  <a:pt x="9227" y="7169"/>
                </a:moveTo>
                <a:cubicBezTo>
                  <a:pt x="9175" y="7169"/>
                  <a:pt x="9166" y="7181"/>
                  <a:pt x="9128" y="7218"/>
                </a:cubicBezTo>
                <a:cubicBezTo>
                  <a:pt x="9073" y="7273"/>
                  <a:pt x="9059" y="7348"/>
                  <a:pt x="9029" y="7417"/>
                </a:cubicBezTo>
                <a:cubicBezTo>
                  <a:pt x="8989" y="7509"/>
                  <a:pt x="9014" y="7553"/>
                  <a:pt x="9029" y="7640"/>
                </a:cubicBezTo>
                <a:cubicBezTo>
                  <a:pt x="9042" y="7719"/>
                  <a:pt x="9056" y="7746"/>
                  <a:pt x="9128" y="7789"/>
                </a:cubicBezTo>
                <a:cubicBezTo>
                  <a:pt x="9212" y="7838"/>
                  <a:pt x="9271" y="7802"/>
                  <a:pt x="9351" y="7789"/>
                </a:cubicBezTo>
                <a:cubicBezTo>
                  <a:pt x="9456" y="7772"/>
                  <a:pt x="9490" y="7745"/>
                  <a:pt x="9575" y="7689"/>
                </a:cubicBezTo>
                <a:cubicBezTo>
                  <a:pt x="9625" y="7656"/>
                  <a:pt x="9706" y="7605"/>
                  <a:pt x="9699" y="7541"/>
                </a:cubicBezTo>
                <a:cubicBezTo>
                  <a:pt x="9686" y="7421"/>
                  <a:pt x="9645" y="7415"/>
                  <a:pt x="9550" y="7367"/>
                </a:cubicBezTo>
                <a:cubicBezTo>
                  <a:pt x="9475" y="7329"/>
                  <a:pt x="9437" y="7317"/>
                  <a:pt x="9351" y="7317"/>
                </a:cubicBezTo>
                <a:cubicBezTo>
                  <a:pt x="9310" y="7317"/>
                  <a:pt x="9302" y="7317"/>
                  <a:pt x="9277" y="7317"/>
                </a:cubicBezTo>
              </a:path>
              <a:path w="16174" h="2804">
                <a:moveTo>
                  <a:pt x="9971" y="7119"/>
                </a:moveTo>
                <a:cubicBezTo>
                  <a:pt x="9892" y="7085"/>
                  <a:pt x="9912" y="7097"/>
                  <a:pt x="9847" y="7119"/>
                </a:cubicBezTo>
                <a:cubicBezTo>
                  <a:pt x="9802" y="7134"/>
                  <a:pt x="9759" y="7137"/>
                  <a:pt x="9723" y="7169"/>
                </a:cubicBezTo>
                <a:cubicBezTo>
                  <a:pt x="9681" y="7206"/>
                  <a:pt x="9651" y="7257"/>
                  <a:pt x="9674" y="7317"/>
                </a:cubicBezTo>
                <a:cubicBezTo>
                  <a:pt x="9690" y="7358"/>
                  <a:pt x="9747" y="7375"/>
                  <a:pt x="9773" y="7392"/>
                </a:cubicBezTo>
                <a:cubicBezTo>
                  <a:pt x="9823" y="7425"/>
                  <a:pt x="9869" y="7444"/>
                  <a:pt x="9922" y="7466"/>
                </a:cubicBezTo>
                <a:cubicBezTo>
                  <a:pt x="9973" y="7487"/>
                  <a:pt x="10030" y="7529"/>
                  <a:pt x="10071" y="7565"/>
                </a:cubicBezTo>
                <a:cubicBezTo>
                  <a:pt x="10106" y="7596"/>
                  <a:pt x="10153" y="7648"/>
                  <a:pt x="10170" y="7689"/>
                </a:cubicBezTo>
                <a:cubicBezTo>
                  <a:pt x="10186" y="7728"/>
                  <a:pt x="10131" y="7755"/>
                  <a:pt x="10120" y="7764"/>
                </a:cubicBezTo>
                <a:cubicBezTo>
                  <a:pt x="10089" y="7788"/>
                  <a:pt x="10060" y="7809"/>
                  <a:pt x="10021" y="7813"/>
                </a:cubicBezTo>
                <a:cubicBezTo>
                  <a:pt x="9966" y="7819"/>
                  <a:pt x="9941" y="7803"/>
                  <a:pt x="9897" y="7789"/>
                </a:cubicBezTo>
                <a:cubicBezTo>
                  <a:pt x="9857" y="7776"/>
                  <a:pt x="9887" y="7777"/>
                  <a:pt x="9847" y="7764"/>
                </a:cubicBezTo>
              </a:path>
              <a:path w="16174" h="2804">
                <a:moveTo>
                  <a:pt x="10120" y="6524"/>
                </a:moveTo>
                <a:cubicBezTo>
                  <a:pt x="10132" y="6438"/>
                  <a:pt x="10153" y="6450"/>
                  <a:pt x="10220" y="6400"/>
                </a:cubicBezTo>
                <a:cubicBezTo>
                  <a:pt x="10251" y="6377"/>
                  <a:pt x="10336" y="6321"/>
                  <a:pt x="10368" y="6325"/>
                </a:cubicBezTo>
                <a:cubicBezTo>
                  <a:pt x="10423" y="6332"/>
                  <a:pt x="10472" y="6374"/>
                  <a:pt x="10517" y="6400"/>
                </a:cubicBezTo>
                <a:cubicBezTo>
                  <a:pt x="10586" y="6440"/>
                  <a:pt x="10620" y="6590"/>
                  <a:pt x="10616" y="6672"/>
                </a:cubicBezTo>
                <a:cubicBezTo>
                  <a:pt x="10611" y="6769"/>
                  <a:pt x="10598" y="6843"/>
                  <a:pt x="10517" y="6896"/>
                </a:cubicBezTo>
                <a:cubicBezTo>
                  <a:pt x="10454" y="6937"/>
                  <a:pt x="10400" y="6926"/>
                  <a:pt x="10344" y="6896"/>
                </a:cubicBezTo>
                <a:cubicBezTo>
                  <a:pt x="10298" y="6871"/>
                  <a:pt x="10250" y="6851"/>
                  <a:pt x="10244" y="6796"/>
                </a:cubicBezTo>
                <a:cubicBezTo>
                  <a:pt x="10241" y="6766"/>
                  <a:pt x="10291" y="6709"/>
                  <a:pt x="10319" y="6697"/>
                </a:cubicBezTo>
                <a:cubicBezTo>
                  <a:pt x="10368" y="6675"/>
                  <a:pt x="10453" y="6722"/>
                  <a:pt x="10492" y="6747"/>
                </a:cubicBezTo>
                <a:cubicBezTo>
                  <a:pt x="10557" y="6789"/>
                  <a:pt x="10576" y="6858"/>
                  <a:pt x="10641" y="6896"/>
                </a:cubicBezTo>
                <a:cubicBezTo>
                  <a:pt x="10698" y="6930"/>
                  <a:pt x="10751" y="6921"/>
                  <a:pt x="10815" y="6921"/>
                </a:cubicBezTo>
                <a:cubicBezTo>
                  <a:pt x="10848" y="6921"/>
                  <a:pt x="10881" y="6921"/>
                  <a:pt x="10914" y="6921"/>
                </a:cubicBezTo>
              </a:path>
              <a:path w="16174" h="2804">
                <a:moveTo>
                  <a:pt x="10914" y="6945"/>
                </a:moveTo>
                <a:cubicBezTo>
                  <a:pt x="10946" y="6983"/>
                  <a:pt x="10969" y="7041"/>
                  <a:pt x="11013" y="7069"/>
                </a:cubicBezTo>
                <a:cubicBezTo>
                  <a:pt x="11083" y="7114"/>
                  <a:pt x="11099" y="7168"/>
                  <a:pt x="11137" y="7243"/>
                </a:cubicBezTo>
                <a:cubicBezTo>
                  <a:pt x="11170" y="7309"/>
                  <a:pt x="11178" y="7373"/>
                  <a:pt x="11212" y="7441"/>
                </a:cubicBezTo>
                <a:cubicBezTo>
                  <a:pt x="11240" y="7496"/>
                  <a:pt x="11280" y="7527"/>
                  <a:pt x="11336" y="7541"/>
                </a:cubicBezTo>
              </a:path>
              <a:path w="16174" h="2804">
                <a:moveTo>
                  <a:pt x="11361" y="6896"/>
                </a:moveTo>
                <a:cubicBezTo>
                  <a:pt x="11294" y="6988"/>
                  <a:pt x="11226" y="7074"/>
                  <a:pt x="11162" y="7169"/>
                </a:cubicBezTo>
                <a:cubicBezTo>
                  <a:pt x="11082" y="7287"/>
                  <a:pt x="11008" y="7408"/>
                  <a:pt x="10914" y="7516"/>
                </a:cubicBezTo>
                <a:cubicBezTo>
                  <a:pt x="10876" y="7560"/>
                  <a:pt x="10763" y="7666"/>
                  <a:pt x="10815" y="7640"/>
                </a:cubicBezTo>
                <a:cubicBezTo>
                  <a:pt x="10823" y="7632"/>
                  <a:pt x="10832" y="7623"/>
                  <a:pt x="10840" y="7615"/>
                </a:cubicBezTo>
              </a:path>
              <a:path w="16174" h="2804">
                <a:moveTo>
                  <a:pt x="11584" y="6077"/>
                </a:moveTo>
                <a:cubicBezTo>
                  <a:pt x="11621" y="6096"/>
                  <a:pt x="11701" y="6117"/>
                  <a:pt x="11733" y="6152"/>
                </a:cubicBezTo>
                <a:cubicBezTo>
                  <a:pt x="11793" y="6216"/>
                  <a:pt x="11855" y="6301"/>
                  <a:pt x="11906" y="6375"/>
                </a:cubicBezTo>
                <a:cubicBezTo>
                  <a:pt x="11971" y="6468"/>
                  <a:pt x="12001" y="6575"/>
                  <a:pt x="12055" y="6672"/>
                </a:cubicBezTo>
                <a:cubicBezTo>
                  <a:pt x="12116" y="6782"/>
                  <a:pt x="12181" y="6877"/>
                  <a:pt x="12229" y="6995"/>
                </a:cubicBezTo>
                <a:cubicBezTo>
                  <a:pt x="12271" y="7099"/>
                  <a:pt x="12278" y="7183"/>
                  <a:pt x="12278" y="7293"/>
                </a:cubicBezTo>
                <a:cubicBezTo>
                  <a:pt x="12278" y="7430"/>
                  <a:pt x="12248" y="7534"/>
                  <a:pt x="12204" y="7665"/>
                </a:cubicBezTo>
                <a:cubicBezTo>
                  <a:pt x="12153" y="7819"/>
                  <a:pt x="12076" y="7915"/>
                  <a:pt x="11981" y="8037"/>
                </a:cubicBezTo>
                <a:cubicBezTo>
                  <a:pt x="11924" y="8110"/>
                  <a:pt x="11858" y="8184"/>
                  <a:pt x="11807" y="8260"/>
                </a:cubicBezTo>
                <a:cubicBezTo>
                  <a:pt x="11781" y="8299"/>
                  <a:pt x="11758" y="8345"/>
                  <a:pt x="11733" y="8384"/>
                </a:cubicBezTo>
              </a:path>
              <a:path w="16174" h="2804">
                <a:moveTo>
                  <a:pt x="12998" y="5928"/>
                </a:moveTo>
                <a:cubicBezTo>
                  <a:pt x="12984" y="5983"/>
                  <a:pt x="12975" y="6019"/>
                  <a:pt x="12973" y="6077"/>
                </a:cubicBezTo>
                <a:cubicBezTo>
                  <a:pt x="12969" y="6173"/>
                  <a:pt x="12932" y="6257"/>
                  <a:pt x="12923" y="6350"/>
                </a:cubicBezTo>
                <a:cubicBezTo>
                  <a:pt x="12910" y="6483"/>
                  <a:pt x="12878" y="6612"/>
                  <a:pt x="12849" y="6747"/>
                </a:cubicBezTo>
                <a:cubicBezTo>
                  <a:pt x="12819" y="6885"/>
                  <a:pt x="12818" y="7007"/>
                  <a:pt x="12799" y="7144"/>
                </a:cubicBezTo>
                <a:cubicBezTo>
                  <a:pt x="12781" y="7271"/>
                  <a:pt x="12799" y="7384"/>
                  <a:pt x="12799" y="7516"/>
                </a:cubicBezTo>
                <a:cubicBezTo>
                  <a:pt x="12799" y="7625"/>
                  <a:pt x="12818" y="7734"/>
                  <a:pt x="12849" y="7838"/>
                </a:cubicBezTo>
                <a:cubicBezTo>
                  <a:pt x="12883" y="7952"/>
                  <a:pt x="12924" y="8046"/>
                  <a:pt x="12998" y="8136"/>
                </a:cubicBezTo>
                <a:cubicBezTo>
                  <a:pt x="13043" y="8191"/>
                  <a:pt x="13131" y="8257"/>
                  <a:pt x="13196" y="8285"/>
                </a:cubicBezTo>
                <a:cubicBezTo>
                  <a:pt x="13253" y="8310"/>
                  <a:pt x="13330" y="8368"/>
                  <a:pt x="13395" y="8359"/>
                </a:cubicBezTo>
                <a:cubicBezTo>
                  <a:pt x="13449" y="8351"/>
                  <a:pt x="13493" y="8332"/>
                  <a:pt x="13543" y="8310"/>
                </a:cubicBezTo>
              </a:path>
              <a:path w="16174" h="2804">
                <a:moveTo>
                  <a:pt x="13891" y="6623"/>
                </a:moveTo>
                <a:cubicBezTo>
                  <a:pt x="13891" y="6751"/>
                  <a:pt x="13905" y="6870"/>
                  <a:pt x="13915" y="6995"/>
                </a:cubicBezTo>
                <a:cubicBezTo>
                  <a:pt x="13926" y="7125"/>
                  <a:pt x="13821" y="7928"/>
                  <a:pt x="13940" y="7987"/>
                </a:cubicBezTo>
                <a:cubicBezTo>
                  <a:pt x="13979" y="8006"/>
                  <a:pt x="13985" y="7959"/>
                  <a:pt x="13990" y="7938"/>
                </a:cubicBezTo>
              </a:path>
              <a:path w="16174" h="2804">
                <a:moveTo>
                  <a:pt x="14387" y="7268"/>
                </a:moveTo>
                <a:cubicBezTo>
                  <a:pt x="14432" y="7268"/>
                  <a:pt x="14445" y="7288"/>
                  <a:pt x="14486" y="7293"/>
                </a:cubicBezTo>
                <a:cubicBezTo>
                  <a:pt x="14537" y="7299"/>
                  <a:pt x="14545" y="7281"/>
                  <a:pt x="14585" y="7268"/>
                </a:cubicBezTo>
                <a:cubicBezTo>
                  <a:pt x="14634" y="7251"/>
                  <a:pt x="14707" y="7256"/>
                  <a:pt x="14759" y="7243"/>
                </a:cubicBezTo>
                <a:cubicBezTo>
                  <a:pt x="14850" y="7220"/>
                  <a:pt x="14947" y="7247"/>
                  <a:pt x="15032" y="7218"/>
                </a:cubicBezTo>
                <a:cubicBezTo>
                  <a:pt x="15040" y="7218"/>
                  <a:pt x="15048" y="7218"/>
                  <a:pt x="15056" y="7218"/>
                </a:cubicBezTo>
              </a:path>
              <a:path w="16174" h="2804">
                <a:moveTo>
                  <a:pt x="15627" y="6970"/>
                </a:moveTo>
                <a:cubicBezTo>
                  <a:pt x="15606" y="6963"/>
                  <a:pt x="15589" y="6925"/>
                  <a:pt x="15553" y="6945"/>
                </a:cubicBezTo>
                <a:cubicBezTo>
                  <a:pt x="15519" y="6964"/>
                  <a:pt x="15450" y="7015"/>
                  <a:pt x="15429" y="7045"/>
                </a:cubicBezTo>
                <a:cubicBezTo>
                  <a:pt x="15376" y="7119"/>
                  <a:pt x="15329" y="7205"/>
                  <a:pt x="15304" y="7293"/>
                </a:cubicBezTo>
                <a:cubicBezTo>
                  <a:pt x="15275" y="7395"/>
                  <a:pt x="15235" y="7507"/>
                  <a:pt x="15255" y="7615"/>
                </a:cubicBezTo>
                <a:cubicBezTo>
                  <a:pt x="15266" y="7671"/>
                  <a:pt x="15328" y="7811"/>
                  <a:pt x="15379" y="7838"/>
                </a:cubicBezTo>
                <a:cubicBezTo>
                  <a:pt x="15429" y="7864"/>
                  <a:pt x="15519" y="7863"/>
                  <a:pt x="15577" y="7863"/>
                </a:cubicBezTo>
                <a:cubicBezTo>
                  <a:pt x="15610" y="7863"/>
                  <a:pt x="15644" y="7863"/>
                  <a:pt x="15677" y="7863"/>
                </a:cubicBezTo>
              </a:path>
              <a:path w="16174" h="2804">
                <a:moveTo>
                  <a:pt x="16123" y="7144"/>
                </a:moveTo>
                <a:cubicBezTo>
                  <a:pt x="16018" y="7176"/>
                  <a:pt x="15998" y="7175"/>
                  <a:pt x="15949" y="7268"/>
                </a:cubicBezTo>
                <a:cubicBezTo>
                  <a:pt x="15913" y="7337"/>
                  <a:pt x="15862" y="7439"/>
                  <a:pt x="15850" y="7516"/>
                </a:cubicBezTo>
                <a:cubicBezTo>
                  <a:pt x="15839" y="7587"/>
                  <a:pt x="15819" y="7672"/>
                  <a:pt x="15850" y="7739"/>
                </a:cubicBezTo>
                <a:cubicBezTo>
                  <a:pt x="15865" y="7772"/>
                  <a:pt x="15941" y="7811"/>
                  <a:pt x="15974" y="7813"/>
                </a:cubicBezTo>
                <a:cubicBezTo>
                  <a:pt x="16078" y="7820"/>
                  <a:pt x="16131" y="7739"/>
                  <a:pt x="16197" y="7689"/>
                </a:cubicBezTo>
                <a:cubicBezTo>
                  <a:pt x="16263" y="7639"/>
                  <a:pt x="16282" y="7594"/>
                  <a:pt x="16321" y="7516"/>
                </a:cubicBezTo>
                <a:cubicBezTo>
                  <a:pt x="16352" y="7454"/>
                  <a:pt x="16356" y="7371"/>
                  <a:pt x="16297" y="7317"/>
                </a:cubicBezTo>
                <a:cubicBezTo>
                  <a:pt x="16238" y="7263"/>
                  <a:pt x="16153" y="7324"/>
                  <a:pt x="16098" y="7293"/>
                </a:cubicBezTo>
                <a:cubicBezTo>
                  <a:pt x="16076" y="7271"/>
                  <a:pt x="16071" y="7262"/>
                  <a:pt x="16049" y="7268"/>
                </a:cubicBezTo>
              </a:path>
              <a:path w="16174" h="2804">
                <a:moveTo>
                  <a:pt x="16644" y="7020"/>
                </a:moveTo>
                <a:cubicBezTo>
                  <a:pt x="16592" y="7041"/>
                  <a:pt x="16562" y="7052"/>
                  <a:pt x="16520" y="7094"/>
                </a:cubicBezTo>
                <a:cubicBezTo>
                  <a:pt x="16489" y="7125"/>
                  <a:pt x="16432" y="7178"/>
                  <a:pt x="16421" y="7218"/>
                </a:cubicBezTo>
                <a:cubicBezTo>
                  <a:pt x="16409" y="7263"/>
                  <a:pt x="16420" y="7309"/>
                  <a:pt x="16446" y="7342"/>
                </a:cubicBezTo>
                <a:cubicBezTo>
                  <a:pt x="16485" y="7392"/>
                  <a:pt x="16564" y="7414"/>
                  <a:pt x="16619" y="7441"/>
                </a:cubicBezTo>
                <a:cubicBezTo>
                  <a:pt x="16689" y="7476"/>
                  <a:pt x="16774" y="7471"/>
                  <a:pt x="16842" y="7516"/>
                </a:cubicBezTo>
                <a:cubicBezTo>
                  <a:pt x="16905" y="7558"/>
                  <a:pt x="16962" y="7611"/>
                  <a:pt x="17016" y="7665"/>
                </a:cubicBezTo>
                <a:cubicBezTo>
                  <a:pt x="17070" y="7718"/>
                  <a:pt x="17062" y="7753"/>
                  <a:pt x="17090" y="7813"/>
                </a:cubicBezTo>
                <a:cubicBezTo>
                  <a:pt x="17113" y="7864"/>
                  <a:pt x="17134" y="7883"/>
                  <a:pt x="17090" y="7938"/>
                </a:cubicBezTo>
                <a:cubicBezTo>
                  <a:pt x="17062" y="7966"/>
                  <a:pt x="17054" y="7979"/>
                  <a:pt x="17066" y="8012"/>
                </a:cubicBezTo>
                <a:cubicBezTo>
                  <a:pt x="17007" y="8020"/>
                  <a:pt x="16993" y="8045"/>
                  <a:pt x="16942" y="8062"/>
                </a:cubicBezTo>
                <a:cubicBezTo>
                  <a:pt x="16857" y="8090"/>
                  <a:pt x="16781" y="8086"/>
                  <a:pt x="16694" y="8086"/>
                </a:cubicBezTo>
                <a:cubicBezTo>
                  <a:pt x="16649" y="8086"/>
                  <a:pt x="16587" y="8076"/>
                  <a:pt x="16545" y="8062"/>
                </a:cubicBezTo>
                <a:cubicBezTo>
                  <a:pt x="16467" y="8036"/>
                  <a:pt x="16493" y="8043"/>
                  <a:pt x="16446" y="7987"/>
                </a:cubicBezTo>
              </a:path>
              <a:path w="16174" h="2804">
                <a:moveTo>
                  <a:pt x="17165" y="6623"/>
                </a:moveTo>
                <a:cubicBezTo>
                  <a:pt x="17165" y="6555"/>
                  <a:pt x="17151" y="6484"/>
                  <a:pt x="17190" y="6424"/>
                </a:cubicBezTo>
                <a:cubicBezTo>
                  <a:pt x="17223" y="6374"/>
                  <a:pt x="17288" y="6329"/>
                  <a:pt x="17338" y="6300"/>
                </a:cubicBezTo>
                <a:cubicBezTo>
                  <a:pt x="17400" y="6263"/>
                  <a:pt x="17452" y="6229"/>
                  <a:pt x="17512" y="6276"/>
                </a:cubicBezTo>
                <a:cubicBezTo>
                  <a:pt x="17580" y="6329"/>
                  <a:pt x="17576" y="6369"/>
                  <a:pt x="17587" y="6449"/>
                </a:cubicBezTo>
                <a:cubicBezTo>
                  <a:pt x="17604" y="6565"/>
                  <a:pt x="17633" y="6663"/>
                  <a:pt x="17587" y="6772"/>
                </a:cubicBezTo>
                <a:cubicBezTo>
                  <a:pt x="17553" y="6854"/>
                  <a:pt x="17516" y="6902"/>
                  <a:pt x="17438" y="6945"/>
                </a:cubicBezTo>
                <a:cubicBezTo>
                  <a:pt x="17354" y="6992"/>
                  <a:pt x="17340" y="7009"/>
                  <a:pt x="17239" y="6970"/>
                </a:cubicBezTo>
                <a:cubicBezTo>
                  <a:pt x="17187" y="6950"/>
                  <a:pt x="17152" y="6921"/>
                  <a:pt x="17140" y="6871"/>
                </a:cubicBezTo>
                <a:cubicBezTo>
                  <a:pt x="17158" y="6798"/>
                  <a:pt x="17223" y="6800"/>
                  <a:pt x="17289" y="6772"/>
                </a:cubicBezTo>
                <a:cubicBezTo>
                  <a:pt x="17349" y="6746"/>
                  <a:pt x="17452" y="6741"/>
                  <a:pt x="17512" y="6772"/>
                </a:cubicBezTo>
                <a:cubicBezTo>
                  <a:pt x="17565" y="6799"/>
                  <a:pt x="17733" y="6909"/>
                  <a:pt x="17785" y="6970"/>
                </a:cubicBezTo>
                <a:cubicBezTo>
                  <a:pt x="17805" y="7011"/>
                  <a:pt x="17803" y="7027"/>
                  <a:pt x="17835" y="7020"/>
                </a:cubicBezTo>
              </a:path>
              <a:path w="16174" h="2804">
                <a:moveTo>
                  <a:pt x="17859" y="6945"/>
                </a:moveTo>
                <a:cubicBezTo>
                  <a:pt x="17994" y="7054"/>
                  <a:pt x="18095" y="7142"/>
                  <a:pt x="18207" y="7268"/>
                </a:cubicBezTo>
                <a:cubicBezTo>
                  <a:pt x="18287" y="7358"/>
                  <a:pt x="18360" y="7464"/>
                  <a:pt x="18455" y="7541"/>
                </a:cubicBezTo>
                <a:cubicBezTo>
                  <a:pt x="18527" y="7599"/>
                  <a:pt x="18603" y="7638"/>
                  <a:pt x="18678" y="7689"/>
                </a:cubicBezTo>
                <a:cubicBezTo>
                  <a:pt x="18727" y="7723"/>
                  <a:pt x="18728" y="7719"/>
                  <a:pt x="18777" y="7689"/>
                </a:cubicBezTo>
              </a:path>
              <a:path w="16174" h="2804">
                <a:moveTo>
                  <a:pt x="18653" y="6796"/>
                </a:moveTo>
                <a:cubicBezTo>
                  <a:pt x="18526" y="6943"/>
                  <a:pt x="18420" y="7115"/>
                  <a:pt x="18331" y="7293"/>
                </a:cubicBezTo>
                <a:cubicBezTo>
                  <a:pt x="18257" y="7440"/>
                  <a:pt x="18204" y="7559"/>
                  <a:pt x="18107" y="7689"/>
                </a:cubicBezTo>
                <a:cubicBezTo>
                  <a:pt x="18059" y="7753"/>
                  <a:pt x="18014" y="7806"/>
                  <a:pt x="17959" y="7863"/>
                </a:cubicBezTo>
              </a:path>
              <a:path w="16174" h="2804">
                <a:moveTo>
                  <a:pt x="18876" y="6127"/>
                </a:moveTo>
                <a:cubicBezTo>
                  <a:pt x="18940" y="6170"/>
                  <a:pt x="19024" y="6220"/>
                  <a:pt x="19075" y="6276"/>
                </a:cubicBezTo>
                <a:cubicBezTo>
                  <a:pt x="19161" y="6370"/>
                  <a:pt x="19209" y="6530"/>
                  <a:pt x="19248" y="6648"/>
                </a:cubicBezTo>
                <a:cubicBezTo>
                  <a:pt x="19293" y="6783"/>
                  <a:pt x="19351" y="6914"/>
                  <a:pt x="19397" y="7045"/>
                </a:cubicBezTo>
                <a:cubicBezTo>
                  <a:pt x="19443" y="7177"/>
                  <a:pt x="19482" y="7306"/>
                  <a:pt x="19521" y="7441"/>
                </a:cubicBezTo>
                <a:cubicBezTo>
                  <a:pt x="19570" y="7608"/>
                  <a:pt x="19522" y="7767"/>
                  <a:pt x="19422" y="7913"/>
                </a:cubicBezTo>
                <a:cubicBezTo>
                  <a:pt x="19351" y="8016"/>
                  <a:pt x="19229" y="8163"/>
                  <a:pt x="19124" y="8235"/>
                </a:cubicBezTo>
                <a:cubicBezTo>
                  <a:pt x="19023" y="8305"/>
                  <a:pt x="18921" y="8360"/>
                  <a:pt x="18827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1919160" y="3394080"/>
            <a:ext cx="6975720" cy="696960"/>
          </a:xfrm>
          <a:custGeom>
            <a:avLst/>
            <a:gdLst/>
            <a:ahLst/>
            <a:rect l="l" t="t" r="r" b="b"/>
            <a:pathLst>
              <a:path w="19373" h="1936">
                <a:moveTo>
                  <a:pt x="6003" y="10170"/>
                </a:moveTo>
                <a:cubicBezTo>
                  <a:pt x="5971" y="10145"/>
                  <a:pt x="5934" y="10140"/>
                  <a:pt x="5904" y="10120"/>
                </a:cubicBezTo>
                <a:cubicBezTo>
                  <a:pt x="5857" y="10088"/>
                  <a:pt x="5790" y="10074"/>
                  <a:pt x="5730" y="10071"/>
                </a:cubicBezTo>
                <a:cubicBezTo>
                  <a:pt x="5628" y="10065"/>
                  <a:pt x="5524" y="10101"/>
                  <a:pt x="5432" y="10145"/>
                </a:cubicBezTo>
                <a:cubicBezTo>
                  <a:pt x="5400" y="10160"/>
                  <a:pt x="5331" y="10235"/>
                  <a:pt x="5333" y="10269"/>
                </a:cubicBezTo>
                <a:cubicBezTo>
                  <a:pt x="5336" y="10323"/>
                  <a:pt x="5388" y="10345"/>
                  <a:pt x="5432" y="10368"/>
                </a:cubicBezTo>
                <a:cubicBezTo>
                  <a:pt x="5505" y="10407"/>
                  <a:pt x="5591" y="10447"/>
                  <a:pt x="5655" y="10492"/>
                </a:cubicBezTo>
                <a:cubicBezTo>
                  <a:pt x="5738" y="10551"/>
                  <a:pt x="5826" y="10625"/>
                  <a:pt x="5904" y="10691"/>
                </a:cubicBezTo>
                <a:cubicBezTo>
                  <a:pt x="5964" y="10742"/>
                  <a:pt x="6055" y="10803"/>
                  <a:pt x="6102" y="10864"/>
                </a:cubicBezTo>
                <a:cubicBezTo>
                  <a:pt x="6136" y="10908"/>
                  <a:pt x="6189" y="10979"/>
                  <a:pt x="6176" y="11038"/>
                </a:cubicBezTo>
                <a:cubicBezTo>
                  <a:pt x="6163" y="11099"/>
                  <a:pt x="6125" y="11101"/>
                  <a:pt x="6077" y="11137"/>
                </a:cubicBezTo>
                <a:cubicBezTo>
                  <a:pt x="6023" y="11178"/>
                  <a:pt x="5949" y="11162"/>
                  <a:pt x="5879" y="11162"/>
                </a:cubicBezTo>
                <a:cubicBezTo>
                  <a:pt x="5812" y="11162"/>
                  <a:pt x="5713" y="11145"/>
                  <a:pt x="5655" y="11112"/>
                </a:cubicBezTo>
                <a:cubicBezTo>
                  <a:pt x="5601" y="11081"/>
                  <a:pt x="5549" y="11043"/>
                  <a:pt x="5531" y="10988"/>
                </a:cubicBezTo>
                <a:cubicBezTo>
                  <a:pt x="5531" y="10964"/>
                  <a:pt x="5531" y="10955"/>
                  <a:pt x="5531" y="10939"/>
                </a:cubicBezTo>
              </a:path>
              <a:path w="19373" h="1936">
                <a:moveTo>
                  <a:pt x="6424" y="10344"/>
                </a:moveTo>
                <a:cubicBezTo>
                  <a:pt x="6436" y="10401"/>
                  <a:pt x="6467" y="10458"/>
                  <a:pt x="6474" y="10517"/>
                </a:cubicBezTo>
                <a:cubicBezTo>
                  <a:pt x="6503" y="10756"/>
                  <a:pt x="6452" y="11004"/>
                  <a:pt x="6499" y="11237"/>
                </a:cubicBezTo>
                <a:cubicBezTo>
                  <a:pt x="6508" y="11280"/>
                  <a:pt x="6482" y="11272"/>
                  <a:pt x="6524" y="11286"/>
                </a:cubicBezTo>
                <a:cubicBezTo>
                  <a:pt x="6539" y="11222"/>
                  <a:pt x="6537" y="11160"/>
                  <a:pt x="6548" y="11088"/>
                </a:cubicBezTo>
                <a:cubicBezTo>
                  <a:pt x="6571" y="10997"/>
                  <a:pt x="6579" y="10974"/>
                  <a:pt x="6573" y="10914"/>
                </a:cubicBezTo>
              </a:path>
              <a:path w="19373" h="1936">
                <a:moveTo>
                  <a:pt x="6400" y="9947"/>
                </a:moveTo>
                <a:cubicBezTo>
                  <a:pt x="6400" y="9930"/>
                  <a:pt x="6400" y="9914"/>
                  <a:pt x="6400" y="9897"/>
                </a:cubicBezTo>
              </a:path>
              <a:path w="19373" h="1936">
                <a:moveTo>
                  <a:pt x="6747" y="10344"/>
                </a:moveTo>
                <a:cubicBezTo>
                  <a:pt x="6763" y="10386"/>
                  <a:pt x="6761" y="10421"/>
                  <a:pt x="6772" y="10468"/>
                </a:cubicBezTo>
                <a:cubicBezTo>
                  <a:pt x="6785" y="10524"/>
                  <a:pt x="6812" y="10585"/>
                  <a:pt x="6821" y="10641"/>
                </a:cubicBezTo>
                <a:cubicBezTo>
                  <a:pt x="6833" y="10715"/>
                  <a:pt x="6828" y="10791"/>
                  <a:pt x="6846" y="10864"/>
                </a:cubicBezTo>
                <a:cubicBezTo>
                  <a:pt x="6858" y="10912"/>
                  <a:pt x="6888" y="10972"/>
                  <a:pt x="6896" y="11013"/>
                </a:cubicBezTo>
                <a:cubicBezTo>
                  <a:pt x="6905" y="11058"/>
                  <a:pt x="6896" y="11046"/>
                  <a:pt x="6921" y="11088"/>
                </a:cubicBezTo>
                <a:cubicBezTo>
                  <a:pt x="6921" y="10942"/>
                  <a:pt x="6900" y="10778"/>
                  <a:pt x="6945" y="10641"/>
                </a:cubicBezTo>
                <a:cubicBezTo>
                  <a:pt x="6963" y="10586"/>
                  <a:pt x="6978" y="10537"/>
                  <a:pt x="7020" y="10492"/>
                </a:cubicBezTo>
                <a:cubicBezTo>
                  <a:pt x="7053" y="10456"/>
                  <a:pt x="7122" y="10428"/>
                  <a:pt x="7169" y="10418"/>
                </a:cubicBezTo>
                <a:cubicBezTo>
                  <a:pt x="7246" y="10402"/>
                  <a:pt x="7301" y="10436"/>
                  <a:pt x="7367" y="10468"/>
                </a:cubicBezTo>
                <a:cubicBezTo>
                  <a:pt x="7429" y="10498"/>
                  <a:pt x="7487" y="10575"/>
                  <a:pt x="7516" y="10641"/>
                </a:cubicBezTo>
                <a:cubicBezTo>
                  <a:pt x="7554" y="10727"/>
                  <a:pt x="7579" y="10826"/>
                  <a:pt x="7590" y="10914"/>
                </a:cubicBezTo>
                <a:cubicBezTo>
                  <a:pt x="7597" y="10971"/>
                  <a:pt x="7621" y="11112"/>
                  <a:pt x="7615" y="11162"/>
                </a:cubicBezTo>
                <a:cubicBezTo>
                  <a:pt x="7612" y="11190"/>
                  <a:pt x="7606" y="11163"/>
                  <a:pt x="7590" y="11187"/>
                </a:cubicBezTo>
              </a:path>
              <a:path w="19373" h="1936">
                <a:moveTo>
                  <a:pt x="7565" y="9649"/>
                </a:moveTo>
                <a:cubicBezTo>
                  <a:pt x="7626" y="9510"/>
                  <a:pt x="7682" y="9400"/>
                  <a:pt x="7863" y="9426"/>
                </a:cubicBezTo>
                <a:cubicBezTo>
                  <a:pt x="7977" y="9442"/>
                  <a:pt x="8017" y="9484"/>
                  <a:pt x="8086" y="9575"/>
                </a:cubicBezTo>
                <a:cubicBezTo>
                  <a:pt x="8145" y="9653"/>
                  <a:pt x="8171" y="9732"/>
                  <a:pt x="8186" y="9823"/>
                </a:cubicBezTo>
                <a:cubicBezTo>
                  <a:pt x="8199" y="9907"/>
                  <a:pt x="8145" y="9972"/>
                  <a:pt x="8111" y="10021"/>
                </a:cubicBezTo>
                <a:cubicBezTo>
                  <a:pt x="8072" y="10078"/>
                  <a:pt x="8041" y="10131"/>
                  <a:pt x="7962" y="10145"/>
                </a:cubicBezTo>
                <a:cubicBezTo>
                  <a:pt x="7909" y="10154"/>
                  <a:pt x="7811" y="10125"/>
                  <a:pt x="7764" y="10096"/>
                </a:cubicBezTo>
                <a:cubicBezTo>
                  <a:pt x="7717" y="10067"/>
                  <a:pt x="7703" y="10023"/>
                  <a:pt x="7714" y="9971"/>
                </a:cubicBezTo>
                <a:cubicBezTo>
                  <a:pt x="7725" y="9917"/>
                  <a:pt x="7760" y="9908"/>
                  <a:pt x="7813" y="9897"/>
                </a:cubicBezTo>
                <a:cubicBezTo>
                  <a:pt x="7890" y="9881"/>
                  <a:pt x="7931" y="9900"/>
                  <a:pt x="7987" y="9947"/>
                </a:cubicBezTo>
                <a:cubicBezTo>
                  <a:pt x="8040" y="9991"/>
                  <a:pt x="8079" y="10036"/>
                  <a:pt x="8111" y="10096"/>
                </a:cubicBezTo>
                <a:cubicBezTo>
                  <a:pt x="8141" y="10153"/>
                  <a:pt x="8191" y="10195"/>
                  <a:pt x="8235" y="10244"/>
                </a:cubicBezTo>
                <a:cubicBezTo>
                  <a:pt x="8271" y="10284"/>
                  <a:pt x="8318" y="10310"/>
                  <a:pt x="8359" y="10344"/>
                </a:cubicBezTo>
              </a:path>
              <a:path w="19373" h="1936">
                <a:moveTo>
                  <a:pt x="8458" y="10145"/>
                </a:moveTo>
                <a:cubicBezTo>
                  <a:pt x="8519" y="10243"/>
                  <a:pt x="8583" y="10309"/>
                  <a:pt x="8632" y="10418"/>
                </a:cubicBezTo>
                <a:cubicBezTo>
                  <a:pt x="8693" y="10554"/>
                  <a:pt x="8765" y="10681"/>
                  <a:pt x="8830" y="10815"/>
                </a:cubicBezTo>
                <a:cubicBezTo>
                  <a:pt x="8880" y="10918"/>
                  <a:pt x="8923" y="11004"/>
                  <a:pt x="9004" y="11088"/>
                </a:cubicBezTo>
                <a:cubicBezTo>
                  <a:pt x="9053" y="11139"/>
                  <a:pt x="9099" y="11181"/>
                  <a:pt x="9153" y="11212"/>
                </a:cubicBezTo>
              </a:path>
              <a:path w="19373" h="1936">
                <a:moveTo>
                  <a:pt x="8855" y="10096"/>
                </a:moveTo>
                <a:cubicBezTo>
                  <a:pt x="8832" y="10125"/>
                  <a:pt x="8813" y="10181"/>
                  <a:pt x="8806" y="10220"/>
                </a:cubicBezTo>
                <a:cubicBezTo>
                  <a:pt x="8794" y="10293"/>
                  <a:pt x="8767" y="10375"/>
                  <a:pt x="8731" y="10443"/>
                </a:cubicBezTo>
                <a:cubicBezTo>
                  <a:pt x="8662" y="10571"/>
                  <a:pt x="8591" y="10705"/>
                  <a:pt x="8533" y="10840"/>
                </a:cubicBezTo>
                <a:cubicBezTo>
                  <a:pt x="8500" y="10917"/>
                  <a:pt x="8490" y="11018"/>
                  <a:pt x="8458" y="11088"/>
                </a:cubicBezTo>
                <a:cubicBezTo>
                  <a:pt x="8434" y="11112"/>
                  <a:pt x="8426" y="11120"/>
                  <a:pt x="8458" y="11137"/>
                </a:cubicBezTo>
              </a:path>
              <a:path w="19373" h="1936">
                <a:moveTo>
                  <a:pt x="9327" y="9426"/>
                </a:moveTo>
                <a:cubicBezTo>
                  <a:pt x="9303" y="9481"/>
                  <a:pt x="9307" y="9449"/>
                  <a:pt x="9302" y="9550"/>
                </a:cubicBezTo>
                <a:cubicBezTo>
                  <a:pt x="9299" y="9607"/>
                  <a:pt x="9292" y="9693"/>
                  <a:pt x="9277" y="9748"/>
                </a:cubicBezTo>
                <a:cubicBezTo>
                  <a:pt x="9259" y="9812"/>
                  <a:pt x="9247" y="9885"/>
                  <a:pt x="9227" y="9947"/>
                </a:cubicBezTo>
                <a:cubicBezTo>
                  <a:pt x="9189" y="10061"/>
                  <a:pt x="9158" y="10149"/>
                  <a:pt x="9153" y="10269"/>
                </a:cubicBezTo>
                <a:cubicBezTo>
                  <a:pt x="9149" y="10359"/>
                  <a:pt x="9142" y="10408"/>
                  <a:pt x="9153" y="10492"/>
                </a:cubicBezTo>
                <a:cubicBezTo>
                  <a:pt x="9163" y="10569"/>
                  <a:pt x="9153" y="10643"/>
                  <a:pt x="9178" y="10716"/>
                </a:cubicBezTo>
                <a:cubicBezTo>
                  <a:pt x="9198" y="10776"/>
                  <a:pt x="9220" y="10862"/>
                  <a:pt x="9252" y="10914"/>
                </a:cubicBezTo>
                <a:cubicBezTo>
                  <a:pt x="9289" y="10974"/>
                  <a:pt x="9322" y="10997"/>
                  <a:pt x="9376" y="11038"/>
                </a:cubicBezTo>
                <a:cubicBezTo>
                  <a:pt x="9421" y="11072"/>
                  <a:pt x="9444" y="11085"/>
                  <a:pt x="9500" y="11088"/>
                </a:cubicBezTo>
                <a:cubicBezTo>
                  <a:pt x="9552" y="11088"/>
                  <a:pt x="9570" y="11087"/>
                  <a:pt x="9599" y="11063"/>
                </a:cubicBezTo>
              </a:path>
              <a:path w="19373" h="1936">
                <a:moveTo>
                  <a:pt x="9575" y="9823"/>
                </a:moveTo>
                <a:cubicBezTo>
                  <a:pt x="9599" y="9780"/>
                  <a:pt x="9613" y="9775"/>
                  <a:pt x="9649" y="9748"/>
                </a:cubicBezTo>
                <a:cubicBezTo>
                  <a:pt x="9681" y="9724"/>
                  <a:pt x="9723" y="9693"/>
                  <a:pt x="9748" y="9674"/>
                </a:cubicBezTo>
                <a:cubicBezTo>
                  <a:pt x="9780" y="9650"/>
                  <a:pt x="9810" y="9609"/>
                  <a:pt x="9847" y="9599"/>
                </a:cubicBezTo>
                <a:cubicBezTo>
                  <a:pt x="9875" y="9592"/>
                  <a:pt x="9925" y="9579"/>
                  <a:pt x="9947" y="9575"/>
                </a:cubicBezTo>
                <a:cubicBezTo>
                  <a:pt x="10004" y="9564"/>
                  <a:pt x="10077" y="9601"/>
                  <a:pt x="10120" y="9624"/>
                </a:cubicBezTo>
                <a:cubicBezTo>
                  <a:pt x="10160" y="9645"/>
                  <a:pt x="10205" y="9664"/>
                  <a:pt x="10244" y="9699"/>
                </a:cubicBezTo>
                <a:cubicBezTo>
                  <a:pt x="10301" y="9750"/>
                  <a:pt x="10298" y="9809"/>
                  <a:pt x="10319" y="9872"/>
                </a:cubicBezTo>
                <a:cubicBezTo>
                  <a:pt x="10342" y="9942"/>
                  <a:pt x="10360" y="10019"/>
                  <a:pt x="10344" y="10096"/>
                </a:cubicBezTo>
                <a:cubicBezTo>
                  <a:pt x="10323" y="10197"/>
                  <a:pt x="10287" y="10253"/>
                  <a:pt x="10244" y="10344"/>
                </a:cubicBezTo>
                <a:cubicBezTo>
                  <a:pt x="10208" y="10420"/>
                  <a:pt x="10153" y="10466"/>
                  <a:pt x="10096" y="10517"/>
                </a:cubicBezTo>
                <a:cubicBezTo>
                  <a:pt x="10042" y="10565"/>
                  <a:pt x="9983" y="10604"/>
                  <a:pt x="9922" y="10641"/>
                </a:cubicBezTo>
                <a:cubicBezTo>
                  <a:pt x="9881" y="10666"/>
                  <a:pt x="9796" y="10685"/>
                  <a:pt x="9748" y="10666"/>
                </a:cubicBezTo>
                <a:cubicBezTo>
                  <a:pt x="9668" y="10635"/>
                  <a:pt x="9660" y="10566"/>
                  <a:pt x="9649" y="10492"/>
                </a:cubicBezTo>
                <a:cubicBezTo>
                  <a:pt x="9640" y="10430"/>
                  <a:pt x="9688" y="10366"/>
                  <a:pt x="9723" y="10319"/>
                </a:cubicBezTo>
                <a:cubicBezTo>
                  <a:pt x="9762" y="10267"/>
                  <a:pt x="9837" y="10247"/>
                  <a:pt x="9897" y="10244"/>
                </a:cubicBezTo>
                <a:cubicBezTo>
                  <a:pt x="9950" y="10242"/>
                  <a:pt x="9998" y="10251"/>
                  <a:pt x="10046" y="10269"/>
                </a:cubicBezTo>
                <a:cubicBezTo>
                  <a:pt x="10123" y="10298"/>
                  <a:pt x="10147" y="10360"/>
                  <a:pt x="10195" y="10418"/>
                </a:cubicBezTo>
                <a:cubicBezTo>
                  <a:pt x="10257" y="10493"/>
                  <a:pt x="10272" y="10558"/>
                  <a:pt x="10319" y="10641"/>
                </a:cubicBezTo>
                <a:cubicBezTo>
                  <a:pt x="10352" y="10700"/>
                  <a:pt x="10401" y="10740"/>
                  <a:pt x="10443" y="10790"/>
                </a:cubicBezTo>
                <a:cubicBezTo>
                  <a:pt x="10470" y="10823"/>
                  <a:pt x="10526" y="10824"/>
                  <a:pt x="10567" y="10840"/>
                </a:cubicBezTo>
              </a:path>
              <a:path w="19373" h="1936">
                <a:moveTo>
                  <a:pt x="10790" y="10021"/>
                </a:moveTo>
                <a:cubicBezTo>
                  <a:pt x="10790" y="10066"/>
                  <a:pt x="10812" y="10080"/>
                  <a:pt x="10815" y="10120"/>
                </a:cubicBezTo>
                <a:cubicBezTo>
                  <a:pt x="10820" y="10191"/>
                  <a:pt x="10836" y="10250"/>
                  <a:pt x="10840" y="10319"/>
                </a:cubicBezTo>
                <a:cubicBezTo>
                  <a:pt x="10844" y="10390"/>
                  <a:pt x="10861" y="10474"/>
                  <a:pt x="10840" y="10517"/>
                </a:cubicBezTo>
              </a:path>
              <a:path w="19373" h="1936">
                <a:moveTo>
                  <a:pt x="10592" y="10269"/>
                </a:moveTo>
                <a:cubicBezTo>
                  <a:pt x="10659" y="10269"/>
                  <a:pt x="10704" y="10255"/>
                  <a:pt x="10765" y="10244"/>
                </a:cubicBezTo>
                <a:cubicBezTo>
                  <a:pt x="10824" y="10234"/>
                  <a:pt x="10850" y="10220"/>
                  <a:pt x="10914" y="10220"/>
                </a:cubicBezTo>
                <a:cubicBezTo>
                  <a:pt x="10959" y="10220"/>
                  <a:pt x="10974" y="10205"/>
                  <a:pt x="11013" y="10195"/>
                </a:cubicBezTo>
              </a:path>
              <a:path w="19373" h="1936">
                <a:moveTo>
                  <a:pt x="11112" y="9748"/>
                </a:moveTo>
                <a:cubicBezTo>
                  <a:pt x="11131" y="9722"/>
                  <a:pt x="11174" y="9660"/>
                  <a:pt x="11212" y="9649"/>
                </a:cubicBezTo>
                <a:cubicBezTo>
                  <a:pt x="11274" y="9631"/>
                  <a:pt x="11371" y="9626"/>
                  <a:pt x="11435" y="9624"/>
                </a:cubicBezTo>
                <a:cubicBezTo>
                  <a:pt x="11510" y="9621"/>
                  <a:pt x="11592" y="9611"/>
                  <a:pt x="11658" y="9649"/>
                </a:cubicBezTo>
                <a:cubicBezTo>
                  <a:pt x="11739" y="9695"/>
                  <a:pt x="11752" y="9733"/>
                  <a:pt x="11757" y="9823"/>
                </a:cubicBezTo>
                <a:cubicBezTo>
                  <a:pt x="11761" y="9905"/>
                  <a:pt x="11744" y="9949"/>
                  <a:pt x="11708" y="10021"/>
                </a:cubicBezTo>
                <a:cubicBezTo>
                  <a:pt x="11665" y="10107"/>
                  <a:pt x="11577" y="10212"/>
                  <a:pt x="11485" y="10244"/>
                </a:cubicBezTo>
                <a:cubicBezTo>
                  <a:pt x="11430" y="10263"/>
                  <a:pt x="11385" y="10261"/>
                  <a:pt x="11336" y="10294"/>
                </a:cubicBezTo>
                <a:cubicBezTo>
                  <a:pt x="11369" y="10311"/>
                  <a:pt x="11349" y="10312"/>
                  <a:pt x="11385" y="10319"/>
                </a:cubicBezTo>
                <a:cubicBezTo>
                  <a:pt x="11459" y="10334"/>
                  <a:pt x="11537" y="10324"/>
                  <a:pt x="11609" y="10344"/>
                </a:cubicBezTo>
                <a:cubicBezTo>
                  <a:pt x="11684" y="10365"/>
                  <a:pt x="11752" y="10418"/>
                  <a:pt x="11807" y="10468"/>
                </a:cubicBezTo>
                <a:cubicBezTo>
                  <a:pt x="11849" y="10506"/>
                  <a:pt x="11881" y="10550"/>
                  <a:pt x="11906" y="10592"/>
                </a:cubicBezTo>
                <a:cubicBezTo>
                  <a:pt x="11948" y="10663"/>
                  <a:pt x="11967" y="10697"/>
                  <a:pt x="11931" y="10765"/>
                </a:cubicBezTo>
                <a:cubicBezTo>
                  <a:pt x="11896" y="10830"/>
                  <a:pt x="11872" y="10855"/>
                  <a:pt x="11807" y="10889"/>
                </a:cubicBezTo>
                <a:cubicBezTo>
                  <a:pt x="11742" y="10924"/>
                  <a:pt x="11701" y="10942"/>
                  <a:pt x="11633" y="10964"/>
                </a:cubicBezTo>
                <a:cubicBezTo>
                  <a:pt x="11551" y="10991"/>
                  <a:pt x="11517" y="10993"/>
                  <a:pt x="11435" y="10964"/>
                </a:cubicBezTo>
                <a:cubicBezTo>
                  <a:pt x="11377" y="10944"/>
                  <a:pt x="11359" y="10944"/>
                  <a:pt x="11336" y="10889"/>
                </a:cubicBezTo>
                <a:cubicBezTo>
                  <a:pt x="11336" y="10881"/>
                  <a:pt x="11336" y="10872"/>
                  <a:pt x="11336" y="10864"/>
                </a:cubicBezTo>
              </a:path>
              <a:path w="19373" h="1936">
                <a:moveTo>
                  <a:pt x="12005" y="10319"/>
                </a:moveTo>
                <a:cubicBezTo>
                  <a:pt x="11983" y="10393"/>
                  <a:pt x="11925" y="10512"/>
                  <a:pt x="11956" y="10592"/>
                </a:cubicBezTo>
                <a:cubicBezTo>
                  <a:pt x="11974" y="10639"/>
                  <a:pt x="11989" y="10676"/>
                  <a:pt x="12030" y="10716"/>
                </a:cubicBezTo>
                <a:cubicBezTo>
                  <a:pt x="12068" y="10753"/>
                  <a:pt x="12102" y="10797"/>
                  <a:pt x="12154" y="10815"/>
                </a:cubicBezTo>
                <a:cubicBezTo>
                  <a:pt x="12190" y="10827"/>
                  <a:pt x="12261" y="10858"/>
                  <a:pt x="12303" y="10840"/>
                </a:cubicBezTo>
                <a:cubicBezTo>
                  <a:pt x="12358" y="10817"/>
                  <a:pt x="12333" y="10800"/>
                  <a:pt x="12402" y="10790"/>
                </a:cubicBezTo>
              </a:path>
              <a:path w="19373" h="1936">
                <a:moveTo>
                  <a:pt x="12601" y="10468"/>
                </a:moveTo>
                <a:cubicBezTo>
                  <a:pt x="12597" y="10462"/>
                  <a:pt x="12520" y="10325"/>
                  <a:pt x="12502" y="10319"/>
                </a:cubicBezTo>
                <a:cubicBezTo>
                  <a:pt x="12453" y="10304"/>
                  <a:pt x="12406" y="10313"/>
                  <a:pt x="12378" y="10319"/>
                </a:cubicBezTo>
                <a:cubicBezTo>
                  <a:pt x="12284" y="10340"/>
                  <a:pt x="12294" y="10342"/>
                  <a:pt x="12229" y="10418"/>
                </a:cubicBezTo>
                <a:cubicBezTo>
                  <a:pt x="12186" y="10468"/>
                  <a:pt x="12179" y="10473"/>
                  <a:pt x="12179" y="10542"/>
                </a:cubicBezTo>
                <a:cubicBezTo>
                  <a:pt x="12179" y="10605"/>
                  <a:pt x="12210" y="10622"/>
                  <a:pt x="12254" y="10641"/>
                </a:cubicBezTo>
                <a:cubicBezTo>
                  <a:pt x="12313" y="10666"/>
                  <a:pt x="12362" y="10687"/>
                  <a:pt x="12427" y="10691"/>
                </a:cubicBezTo>
                <a:cubicBezTo>
                  <a:pt x="12508" y="10696"/>
                  <a:pt x="12576" y="10653"/>
                  <a:pt x="12650" y="10641"/>
                </a:cubicBezTo>
                <a:cubicBezTo>
                  <a:pt x="12716" y="10630"/>
                  <a:pt x="12725" y="10616"/>
                  <a:pt x="12774" y="10567"/>
                </a:cubicBezTo>
                <a:cubicBezTo>
                  <a:pt x="12820" y="10521"/>
                  <a:pt x="12789" y="10507"/>
                  <a:pt x="12750" y="10468"/>
                </a:cubicBezTo>
                <a:cubicBezTo>
                  <a:pt x="12720" y="10438"/>
                  <a:pt x="12669" y="10421"/>
                  <a:pt x="12626" y="10418"/>
                </a:cubicBezTo>
                <a:cubicBezTo>
                  <a:pt x="12609" y="10418"/>
                  <a:pt x="12593" y="10418"/>
                  <a:pt x="12576" y="10418"/>
                </a:cubicBezTo>
              </a:path>
              <a:path w="19373" h="1936">
                <a:moveTo>
                  <a:pt x="13146" y="10220"/>
                </a:moveTo>
                <a:cubicBezTo>
                  <a:pt x="13081" y="10220"/>
                  <a:pt x="12997" y="10201"/>
                  <a:pt x="12948" y="10244"/>
                </a:cubicBezTo>
                <a:cubicBezTo>
                  <a:pt x="12927" y="10262"/>
                  <a:pt x="12862" y="10339"/>
                  <a:pt x="12874" y="10368"/>
                </a:cubicBezTo>
                <a:cubicBezTo>
                  <a:pt x="12885" y="10394"/>
                  <a:pt x="12926" y="10475"/>
                  <a:pt x="12948" y="10492"/>
                </a:cubicBezTo>
                <a:cubicBezTo>
                  <a:pt x="12996" y="10528"/>
                  <a:pt x="13088" y="10565"/>
                  <a:pt x="13146" y="10592"/>
                </a:cubicBezTo>
                <a:cubicBezTo>
                  <a:pt x="13219" y="10626"/>
                  <a:pt x="13303" y="10645"/>
                  <a:pt x="13370" y="10691"/>
                </a:cubicBezTo>
                <a:cubicBezTo>
                  <a:pt x="13422" y="10727"/>
                  <a:pt x="13462" y="10746"/>
                  <a:pt x="13469" y="10815"/>
                </a:cubicBezTo>
                <a:cubicBezTo>
                  <a:pt x="13473" y="10857"/>
                  <a:pt x="13460" y="10875"/>
                  <a:pt x="13419" y="10889"/>
                </a:cubicBezTo>
                <a:cubicBezTo>
                  <a:pt x="13346" y="10914"/>
                  <a:pt x="13214" y="10889"/>
                  <a:pt x="13146" y="10864"/>
                </a:cubicBezTo>
                <a:cubicBezTo>
                  <a:pt x="13117" y="10835"/>
                  <a:pt x="13106" y="10820"/>
                  <a:pt x="13097" y="10790"/>
                </a:cubicBezTo>
              </a:path>
              <a:path w="19373" h="1936">
                <a:moveTo>
                  <a:pt x="13295" y="9773"/>
                </a:moveTo>
                <a:cubicBezTo>
                  <a:pt x="13307" y="9691"/>
                  <a:pt x="13317" y="9721"/>
                  <a:pt x="13370" y="9674"/>
                </a:cubicBezTo>
                <a:cubicBezTo>
                  <a:pt x="13395" y="9651"/>
                  <a:pt x="13463" y="9607"/>
                  <a:pt x="13494" y="9599"/>
                </a:cubicBezTo>
                <a:cubicBezTo>
                  <a:pt x="13579" y="9576"/>
                  <a:pt x="13689" y="9604"/>
                  <a:pt x="13767" y="9624"/>
                </a:cubicBezTo>
                <a:cubicBezTo>
                  <a:pt x="13821" y="9638"/>
                  <a:pt x="13839" y="9672"/>
                  <a:pt x="13866" y="9723"/>
                </a:cubicBezTo>
                <a:cubicBezTo>
                  <a:pt x="13898" y="9783"/>
                  <a:pt x="13891" y="9829"/>
                  <a:pt x="13891" y="9897"/>
                </a:cubicBezTo>
                <a:cubicBezTo>
                  <a:pt x="13891" y="9956"/>
                  <a:pt x="13879" y="10043"/>
                  <a:pt x="13816" y="10071"/>
                </a:cubicBezTo>
                <a:cubicBezTo>
                  <a:pt x="13758" y="10097"/>
                  <a:pt x="13740" y="10120"/>
                  <a:pt x="13667" y="10120"/>
                </a:cubicBezTo>
                <a:cubicBezTo>
                  <a:pt x="13571" y="10120"/>
                  <a:pt x="13514" y="10134"/>
                  <a:pt x="13444" y="10071"/>
                </a:cubicBezTo>
                <a:cubicBezTo>
                  <a:pt x="13414" y="10044"/>
                  <a:pt x="13373" y="10023"/>
                  <a:pt x="13370" y="9996"/>
                </a:cubicBezTo>
                <a:cubicBezTo>
                  <a:pt x="13365" y="9957"/>
                  <a:pt x="13380" y="9915"/>
                  <a:pt x="13419" y="9897"/>
                </a:cubicBezTo>
                <a:cubicBezTo>
                  <a:pt x="13427" y="9893"/>
                  <a:pt x="13504" y="9916"/>
                  <a:pt x="13519" y="9922"/>
                </a:cubicBezTo>
                <a:cubicBezTo>
                  <a:pt x="13571" y="9941"/>
                  <a:pt x="13605" y="9982"/>
                  <a:pt x="13643" y="10021"/>
                </a:cubicBezTo>
                <a:cubicBezTo>
                  <a:pt x="13681" y="10060"/>
                  <a:pt x="13728" y="10080"/>
                  <a:pt x="13767" y="10120"/>
                </a:cubicBezTo>
                <a:cubicBezTo>
                  <a:pt x="13801" y="10154"/>
                  <a:pt x="13822" y="10184"/>
                  <a:pt x="13866" y="10195"/>
                </a:cubicBezTo>
              </a:path>
              <a:path w="19373" h="1936">
                <a:moveTo>
                  <a:pt x="14039" y="9947"/>
                </a:moveTo>
                <a:cubicBezTo>
                  <a:pt x="14076" y="10010"/>
                  <a:pt x="14124" y="10017"/>
                  <a:pt x="14163" y="10071"/>
                </a:cubicBezTo>
                <a:cubicBezTo>
                  <a:pt x="14210" y="10137"/>
                  <a:pt x="14267" y="10201"/>
                  <a:pt x="14312" y="10269"/>
                </a:cubicBezTo>
                <a:cubicBezTo>
                  <a:pt x="14363" y="10345"/>
                  <a:pt x="14399" y="10425"/>
                  <a:pt x="14461" y="10492"/>
                </a:cubicBezTo>
                <a:cubicBezTo>
                  <a:pt x="14505" y="10539"/>
                  <a:pt x="14592" y="10638"/>
                  <a:pt x="14660" y="10666"/>
                </a:cubicBezTo>
                <a:cubicBezTo>
                  <a:pt x="14668" y="10666"/>
                  <a:pt x="14676" y="10666"/>
                  <a:pt x="14684" y="10666"/>
                </a:cubicBezTo>
              </a:path>
              <a:path w="19373" h="1936">
                <a:moveTo>
                  <a:pt x="14709" y="9996"/>
                </a:moveTo>
                <a:cubicBezTo>
                  <a:pt x="14677" y="10053"/>
                  <a:pt x="14646" y="10105"/>
                  <a:pt x="14635" y="10170"/>
                </a:cubicBezTo>
                <a:cubicBezTo>
                  <a:pt x="14617" y="10275"/>
                  <a:pt x="14592" y="10349"/>
                  <a:pt x="14536" y="10443"/>
                </a:cubicBezTo>
                <a:cubicBezTo>
                  <a:pt x="14476" y="10544"/>
                  <a:pt x="14393" y="10617"/>
                  <a:pt x="14337" y="10716"/>
                </a:cubicBezTo>
                <a:cubicBezTo>
                  <a:pt x="14308" y="10768"/>
                  <a:pt x="14259" y="10837"/>
                  <a:pt x="14238" y="10889"/>
                </a:cubicBezTo>
                <a:cubicBezTo>
                  <a:pt x="14238" y="10914"/>
                  <a:pt x="14238" y="10922"/>
                  <a:pt x="14238" y="10939"/>
                </a:cubicBezTo>
              </a:path>
              <a:path w="19373" h="1936">
                <a:moveTo>
                  <a:pt x="14858" y="9971"/>
                </a:moveTo>
                <a:cubicBezTo>
                  <a:pt x="14919" y="9949"/>
                  <a:pt x="14989" y="9933"/>
                  <a:pt x="15056" y="9947"/>
                </a:cubicBezTo>
                <a:cubicBezTo>
                  <a:pt x="15146" y="9966"/>
                  <a:pt x="15238" y="9983"/>
                  <a:pt x="15329" y="9996"/>
                </a:cubicBezTo>
                <a:cubicBezTo>
                  <a:pt x="15377" y="10003"/>
                  <a:pt x="15430" y="9996"/>
                  <a:pt x="15478" y="9996"/>
                </a:cubicBezTo>
              </a:path>
              <a:path w="19373" h="1936">
                <a:moveTo>
                  <a:pt x="15131" y="10269"/>
                </a:moveTo>
                <a:cubicBezTo>
                  <a:pt x="15079" y="10304"/>
                  <a:pt x="15058" y="10315"/>
                  <a:pt x="15106" y="10368"/>
                </a:cubicBezTo>
                <a:cubicBezTo>
                  <a:pt x="15142" y="10408"/>
                  <a:pt x="15227" y="10411"/>
                  <a:pt x="15280" y="10418"/>
                </a:cubicBezTo>
              </a:path>
              <a:path w="19373" h="1936">
                <a:moveTo>
                  <a:pt x="16173" y="10071"/>
                </a:moveTo>
                <a:cubicBezTo>
                  <a:pt x="16193" y="10022"/>
                  <a:pt x="16197" y="10018"/>
                  <a:pt x="16197" y="9971"/>
                </a:cubicBezTo>
                <a:cubicBezTo>
                  <a:pt x="16164" y="9971"/>
                  <a:pt x="16131" y="9971"/>
                  <a:pt x="16098" y="9971"/>
                </a:cubicBezTo>
              </a:path>
              <a:path w="19373" h="1936">
                <a:moveTo>
                  <a:pt x="15925" y="10071"/>
                </a:moveTo>
                <a:cubicBezTo>
                  <a:pt x="15874" y="10161"/>
                  <a:pt x="15875" y="10185"/>
                  <a:pt x="15974" y="10244"/>
                </a:cubicBezTo>
                <a:cubicBezTo>
                  <a:pt x="16055" y="10292"/>
                  <a:pt x="16148" y="10334"/>
                  <a:pt x="16222" y="10393"/>
                </a:cubicBezTo>
                <a:cubicBezTo>
                  <a:pt x="16298" y="10454"/>
                  <a:pt x="16373" y="10506"/>
                  <a:pt x="16421" y="10592"/>
                </a:cubicBezTo>
                <a:cubicBezTo>
                  <a:pt x="16449" y="10641"/>
                  <a:pt x="16489" y="10705"/>
                  <a:pt x="16470" y="10765"/>
                </a:cubicBezTo>
                <a:cubicBezTo>
                  <a:pt x="16445" y="10841"/>
                  <a:pt x="16387" y="10856"/>
                  <a:pt x="16321" y="10889"/>
                </a:cubicBezTo>
                <a:cubicBezTo>
                  <a:pt x="16257" y="10921"/>
                  <a:pt x="16120" y="10936"/>
                  <a:pt x="16049" y="10914"/>
                </a:cubicBezTo>
                <a:cubicBezTo>
                  <a:pt x="15967" y="10888"/>
                  <a:pt x="15931" y="10846"/>
                  <a:pt x="15875" y="10790"/>
                </a:cubicBezTo>
                <a:cubicBezTo>
                  <a:pt x="15867" y="10782"/>
                  <a:pt x="15858" y="10773"/>
                  <a:pt x="15850" y="10765"/>
                </a:cubicBezTo>
              </a:path>
              <a:path w="19373" h="1936">
                <a:moveTo>
                  <a:pt x="16718" y="10244"/>
                </a:moveTo>
                <a:cubicBezTo>
                  <a:pt x="16732" y="10335"/>
                  <a:pt x="16734" y="10546"/>
                  <a:pt x="16768" y="10641"/>
                </a:cubicBezTo>
                <a:cubicBezTo>
                  <a:pt x="16781" y="10676"/>
                  <a:pt x="16793" y="10760"/>
                  <a:pt x="16793" y="10666"/>
                </a:cubicBezTo>
              </a:path>
              <a:path w="19373" h="1936">
                <a:moveTo>
                  <a:pt x="16619" y="9996"/>
                </a:moveTo>
                <a:cubicBezTo>
                  <a:pt x="16619" y="9917"/>
                  <a:pt x="16595" y="9888"/>
                  <a:pt x="16644" y="9872"/>
                </a:cubicBezTo>
              </a:path>
              <a:path w="19373" h="1936">
                <a:moveTo>
                  <a:pt x="16892" y="10269"/>
                </a:moveTo>
                <a:cubicBezTo>
                  <a:pt x="16915" y="10365"/>
                  <a:pt x="16949" y="10481"/>
                  <a:pt x="16966" y="10567"/>
                </a:cubicBezTo>
                <a:cubicBezTo>
                  <a:pt x="16972" y="10600"/>
                  <a:pt x="17007" y="10655"/>
                  <a:pt x="16991" y="10616"/>
                </a:cubicBezTo>
                <a:cubicBezTo>
                  <a:pt x="16955" y="10532"/>
                  <a:pt x="16986" y="10503"/>
                  <a:pt x="16991" y="10418"/>
                </a:cubicBezTo>
                <a:cubicBezTo>
                  <a:pt x="16994" y="10361"/>
                  <a:pt x="17005" y="10310"/>
                  <a:pt x="17041" y="10269"/>
                </a:cubicBezTo>
                <a:cubicBezTo>
                  <a:pt x="17076" y="10230"/>
                  <a:pt x="17113" y="10208"/>
                  <a:pt x="17165" y="10195"/>
                </a:cubicBezTo>
                <a:cubicBezTo>
                  <a:pt x="17213" y="10183"/>
                  <a:pt x="17228" y="10208"/>
                  <a:pt x="17264" y="10220"/>
                </a:cubicBezTo>
                <a:cubicBezTo>
                  <a:pt x="17311" y="10236"/>
                  <a:pt x="17360" y="10206"/>
                  <a:pt x="17388" y="10269"/>
                </a:cubicBezTo>
                <a:cubicBezTo>
                  <a:pt x="17405" y="10306"/>
                  <a:pt x="17422" y="10353"/>
                  <a:pt x="17438" y="10393"/>
                </a:cubicBezTo>
                <a:cubicBezTo>
                  <a:pt x="17463" y="10457"/>
                  <a:pt x="17483" y="10520"/>
                  <a:pt x="17487" y="10592"/>
                </a:cubicBezTo>
                <a:cubicBezTo>
                  <a:pt x="17490" y="10643"/>
                  <a:pt x="17468" y="10701"/>
                  <a:pt x="17512" y="10716"/>
                </a:cubicBezTo>
              </a:path>
              <a:path w="19373" h="1936">
                <a:moveTo>
                  <a:pt x="17487" y="9847"/>
                </a:moveTo>
                <a:cubicBezTo>
                  <a:pt x="17495" y="9758"/>
                  <a:pt x="17501" y="9735"/>
                  <a:pt x="17562" y="9674"/>
                </a:cubicBezTo>
                <a:cubicBezTo>
                  <a:pt x="17596" y="9640"/>
                  <a:pt x="17629" y="9600"/>
                  <a:pt x="17686" y="9624"/>
                </a:cubicBezTo>
                <a:cubicBezTo>
                  <a:pt x="17728" y="9642"/>
                  <a:pt x="17780" y="9653"/>
                  <a:pt x="17810" y="9699"/>
                </a:cubicBezTo>
                <a:cubicBezTo>
                  <a:pt x="17854" y="9766"/>
                  <a:pt x="17856" y="9844"/>
                  <a:pt x="17859" y="9922"/>
                </a:cubicBezTo>
                <a:cubicBezTo>
                  <a:pt x="17861" y="9974"/>
                  <a:pt x="17861" y="10031"/>
                  <a:pt x="17835" y="10071"/>
                </a:cubicBezTo>
                <a:cubicBezTo>
                  <a:pt x="17809" y="10111"/>
                  <a:pt x="17757" y="10165"/>
                  <a:pt x="17711" y="10170"/>
                </a:cubicBezTo>
                <a:cubicBezTo>
                  <a:pt x="17688" y="10173"/>
                  <a:pt x="17622" y="10142"/>
                  <a:pt x="17611" y="10120"/>
                </a:cubicBezTo>
                <a:cubicBezTo>
                  <a:pt x="17595" y="10089"/>
                  <a:pt x="17587" y="10060"/>
                  <a:pt x="17587" y="10021"/>
                </a:cubicBezTo>
                <a:cubicBezTo>
                  <a:pt x="17653" y="10021"/>
                  <a:pt x="17700" y="10017"/>
                  <a:pt x="17760" y="10046"/>
                </a:cubicBezTo>
                <a:cubicBezTo>
                  <a:pt x="17838" y="10083"/>
                  <a:pt x="17876" y="10123"/>
                  <a:pt x="17934" y="10170"/>
                </a:cubicBezTo>
                <a:cubicBezTo>
                  <a:pt x="17996" y="10220"/>
                  <a:pt x="18033" y="10253"/>
                  <a:pt x="18083" y="10319"/>
                </a:cubicBezTo>
                <a:cubicBezTo>
                  <a:pt x="18122" y="10370"/>
                  <a:pt x="18122" y="10350"/>
                  <a:pt x="18132" y="10418"/>
                </a:cubicBezTo>
              </a:path>
              <a:path w="19373" h="1936">
                <a:moveTo>
                  <a:pt x="18182" y="10319"/>
                </a:moveTo>
                <a:cubicBezTo>
                  <a:pt x="18246" y="10392"/>
                  <a:pt x="18285" y="10503"/>
                  <a:pt x="18355" y="10567"/>
                </a:cubicBezTo>
                <a:cubicBezTo>
                  <a:pt x="18388" y="10592"/>
                  <a:pt x="18422" y="10616"/>
                  <a:pt x="18455" y="10641"/>
                </a:cubicBezTo>
              </a:path>
              <a:path w="19373" h="1936">
                <a:moveTo>
                  <a:pt x="18604" y="10021"/>
                </a:moveTo>
                <a:cubicBezTo>
                  <a:pt x="18604" y="10080"/>
                  <a:pt x="18584" y="10074"/>
                  <a:pt x="18554" y="10120"/>
                </a:cubicBezTo>
                <a:cubicBezTo>
                  <a:pt x="18497" y="10207"/>
                  <a:pt x="18426" y="10292"/>
                  <a:pt x="18355" y="10368"/>
                </a:cubicBezTo>
                <a:cubicBezTo>
                  <a:pt x="18292" y="10435"/>
                  <a:pt x="18257" y="10493"/>
                  <a:pt x="18207" y="10567"/>
                </a:cubicBezTo>
                <a:cubicBezTo>
                  <a:pt x="18182" y="10604"/>
                  <a:pt x="18180" y="10628"/>
                  <a:pt x="18157" y="10666"/>
                </a:cubicBezTo>
              </a:path>
              <a:path w="19373" h="1936">
                <a:moveTo>
                  <a:pt x="18876" y="9624"/>
                </a:moveTo>
                <a:cubicBezTo>
                  <a:pt x="18849" y="9729"/>
                  <a:pt x="18812" y="9841"/>
                  <a:pt x="18802" y="9947"/>
                </a:cubicBezTo>
                <a:cubicBezTo>
                  <a:pt x="18787" y="10106"/>
                  <a:pt x="18806" y="10265"/>
                  <a:pt x="18827" y="10418"/>
                </a:cubicBezTo>
                <a:cubicBezTo>
                  <a:pt x="18840" y="10516"/>
                  <a:pt x="18864" y="10584"/>
                  <a:pt x="18926" y="10666"/>
                </a:cubicBezTo>
                <a:cubicBezTo>
                  <a:pt x="18984" y="10743"/>
                  <a:pt x="19083" y="10793"/>
                  <a:pt x="19174" y="10815"/>
                </a:cubicBezTo>
                <a:cubicBezTo>
                  <a:pt x="19221" y="10826"/>
                  <a:pt x="19276" y="10796"/>
                  <a:pt x="19323" y="10790"/>
                </a:cubicBezTo>
              </a:path>
              <a:path w="19373" h="1936">
                <a:moveTo>
                  <a:pt x="19224" y="9550"/>
                </a:moveTo>
                <a:cubicBezTo>
                  <a:pt x="19331" y="9475"/>
                  <a:pt x="19386" y="9420"/>
                  <a:pt x="19521" y="9451"/>
                </a:cubicBezTo>
                <a:cubicBezTo>
                  <a:pt x="19573" y="9463"/>
                  <a:pt x="19708" y="9579"/>
                  <a:pt x="19745" y="9624"/>
                </a:cubicBezTo>
                <a:cubicBezTo>
                  <a:pt x="19784" y="9671"/>
                  <a:pt x="19836" y="9811"/>
                  <a:pt x="19844" y="9872"/>
                </a:cubicBezTo>
                <a:cubicBezTo>
                  <a:pt x="19859" y="9987"/>
                  <a:pt x="19835" y="10136"/>
                  <a:pt x="19794" y="10244"/>
                </a:cubicBezTo>
                <a:cubicBezTo>
                  <a:pt x="19766" y="10317"/>
                  <a:pt x="19710" y="10358"/>
                  <a:pt x="19645" y="10393"/>
                </a:cubicBezTo>
                <a:cubicBezTo>
                  <a:pt x="19613" y="10410"/>
                  <a:pt x="19507" y="10445"/>
                  <a:pt x="19472" y="10418"/>
                </a:cubicBezTo>
                <a:cubicBezTo>
                  <a:pt x="19426" y="10382"/>
                  <a:pt x="19375" y="10301"/>
                  <a:pt x="19372" y="10244"/>
                </a:cubicBezTo>
                <a:cubicBezTo>
                  <a:pt x="19369" y="10192"/>
                  <a:pt x="19376" y="10184"/>
                  <a:pt x="19422" y="10170"/>
                </a:cubicBezTo>
                <a:cubicBezTo>
                  <a:pt x="19495" y="10147"/>
                  <a:pt x="19604" y="10172"/>
                  <a:pt x="19670" y="10195"/>
                </a:cubicBezTo>
                <a:cubicBezTo>
                  <a:pt x="19782" y="10234"/>
                  <a:pt x="19840" y="10268"/>
                  <a:pt x="19918" y="10368"/>
                </a:cubicBezTo>
                <a:cubicBezTo>
                  <a:pt x="19961" y="10423"/>
                  <a:pt x="20000" y="10468"/>
                  <a:pt x="20042" y="10517"/>
                </a:cubicBezTo>
                <a:cubicBezTo>
                  <a:pt x="20087" y="10570"/>
                  <a:pt x="20074" y="10549"/>
                  <a:pt x="20117" y="10592"/>
                </a:cubicBezTo>
              </a:path>
              <a:path w="19373" h="1936">
                <a:moveTo>
                  <a:pt x="20340" y="9897"/>
                </a:moveTo>
                <a:cubicBezTo>
                  <a:pt x="20390" y="9998"/>
                  <a:pt x="20407" y="10067"/>
                  <a:pt x="20439" y="10170"/>
                </a:cubicBezTo>
                <a:cubicBezTo>
                  <a:pt x="20460" y="10236"/>
                  <a:pt x="20481" y="10278"/>
                  <a:pt x="20489" y="10344"/>
                </a:cubicBezTo>
              </a:path>
              <a:path w="19373" h="1936">
                <a:moveTo>
                  <a:pt x="20315" y="10220"/>
                </a:moveTo>
                <a:cubicBezTo>
                  <a:pt x="20363" y="10220"/>
                  <a:pt x="20421" y="10210"/>
                  <a:pt x="20464" y="10195"/>
                </a:cubicBezTo>
                <a:cubicBezTo>
                  <a:pt x="20517" y="10177"/>
                  <a:pt x="20560" y="10165"/>
                  <a:pt x="20613" y="10145"/>
                </a:cubicBezTo>
              </a:path>
              <a:path w="19373" h="1936">
                <a:moveTo>
                  <a:pt x="20886" y="9773"/>
                </a:moveTo>
                <a:cubicBezTo>
                  <a:pt x="21010" y="9757"/>
                  <a:pt x="21097" y="9736"/>
                  <a:pt x="21208" y="9773"/>
                </a:cubicBezTo>
                <a:cubicBezTo>
                  <a:pt x="21255" y="9789"/>
                  <a:pt x="21343" y="9824"/>
                  <a:pt x="21382" y="9847"/>
                </a:cubicBezTo>
                <a:cubicBezTo>
                  <a:pt x="21434" y="9879"/>
                  <a:pt x="21431" y="9917"/>
                  <a:pt x="21431" y="9971"/>
                </a:cubicBezTo>
                <a:cubicBezTo>
                  <a:pt x="21431" y="10014"/>
                  <a:pt x="21386" y="10042"/>
                  <a:pt x="21357" y="10071"/>
                </a:cubicBezTo>
                <a:cubicBezTo>
                  <a:pt x="21330" y="10098"/>
                  <a:pt x="21268" y="10154"/>
                  <a:pt x="21233" y="10170"/>
                </a:cubicBezTo>
                <a:cubicBezTo>
                  <a:pt x="21209" y="10181"/>
                  <a:pt x="21182" y="10219"/>
                  <a:pt x="21233" y="10244"/>
                </a:cubicBezTo>
                <a:cubicBezTo>
                  <a:pt x="21282" y="10268"/>
                  <a:pt x="21341" y="10257"/>
                  <a:pt x="21382" y="10294"/>
                </a:cubicBezTo>
                <a:cubicBezTo>
                  <a:pt x="21420" y="10329"/>
                  <a:pt x="21524" y="10410"/>
                  <a:pt x="21530" y="10468"/>
                </a:cubicBezTo>
                <a:cubicBezTo>
                  <a:pt x="21536" y="10520"/>
                  <a:pt x="21473" y="10539"/>
                  <a:pt x="21431" y="10542"/>
                </a:cubicBezTo>
                <a:cubicBezTo>
                  <a:pt x="21346" y="10548"/>
                  <a:pt x="21295" y="10547"/>
                  <a:pt x="21208" y="10542"/>
                </a:cubicBezTo>
                <a:cubicBezTo>
                  <a:pt x="21151" y="10539"/>
                  <a:pt x="21101" y="10528"/>
                  <a:pt x="21059" y="10492"/>
                </a:cubicBezTo>
                <a:cubicBezTo>
                  <a:pt x="21051" y="10484"/>
                  <a:pt x="21042" y="10476"/>
                  <a:pt x="21034" y="10468"/>
                </a:cubicBezTo>
              </a:path>
              <a:path w="19373" h="1936">
                <a:moveTo>
                  <a:pt x="21506" y="9971"/>
                </a:moveTo>
                <a:cubicBezTo>
                  <a:pt x="21448" y="10037"/>
                  <a:pt x="21425" y="10087"/>
                  <a:pt x="21406" y="10170"/>
                </a:cubicBezTo>
                <a:cubicBezTo>
                  <a:pt x="21395" y="10219"/>
                  <a:pt x="21390" y="10362"/>
                  <a:pt x="21431" y="10393"/>
                </a:cubicBezTo>
                <a:cubicBezTo>
                  <a:pt x="21492" y="10440"/>
                  <a:pt x="21530" y="10443"/>
                  <a:pt x="21605" y="10443"/>
                </a:cubicBezTo>
                <a:cubicBezTo>
                  <a:pt x="21638" y="10443"/>
                  <a:pt x="21671" y="10443"/>
                  <a:pt x="21704" y="10443"/>
                </a:cubicBezTo>
              </a:path>
              <a:path w="19373" h="1936">
                <a:moveTo>
                  <a:pt x="21952" y="10120"/>
                </a:moveTo>
                <a:cubicBezTo>
                  <a:pt x="21952" y="10104"/>
                  <a:pt x="21952" y="10087"/>
                  <a:pt x="21952" y="10071"/>
                </a:cubicBezTo>
                <a:cubicBezTo>
                  <a:pt x="21922" y="10081"/>
                  <a:pt x="21910" y="10113"/>
                  <a:pt x="21878" y="10145"/>
                </a:cubicBezTo>
                <a:cubicBezTo>
                  <a:pt x="21839" y="10184"/>
                  <a:pt x="21809" y="10212"/>
                  <a:pt x="21803" y="10269"/>
                </a:cubicBezTo>
                <a:cubicBezTo>
                  <a:pt x="21797" y="10328"/>
                  <a:pt x="21789" y="10399"/>
                  <a:pt x="21828" y="10443"/>
                </a:cubicBezTo>
                <a:cubicBezTo>
                  <a:pt x="21867" y="10487"/>
                  <a:pt x="21944" y="10513"/>
                  <a:pt x="22002" y="10492"/>
                </a:cubicBezTo>
                <a:cubicBezTo>
                  <a:pt x="22098" y="10458"/>
                  <a:pt x="22166" y="10415"/>
                  <a:pt x="22225" y="10344"/>
                </a:cubicBezTo>
                <a:cubicBezTo>
                  <a:pt x="22252" y="10311"/>
                  <a:pt x="22292" y="10268"/>
                  <a:pt x="22275" y="10220"/>
                </a:cubicBezTo>
                <a:cubicBezTo>
                  <a:pt x="22254" y="10162"/>
                  <a:pt x="22185" y="10130"/>
                  <a:pt x="22126" y="10120"/>
                </a:cubicBezTo>
                <a:cubicBezTo>
                  <a:pt x="22085" y="10120"/>
                  <a:pt x="22068" y="10129"/>
                  <a:pt x="22076" y="10096"/>
                </a:cubicBezTo>
              </a:path>
              <a:path w="19373" h="1936">
                <a:moveTo>
                  <a:pt x="22647" y="10046"/>
                </a:moveTo>
                <a:cubicBezTo>
                  <a:pt x="22598" y="10030"/>
                  <a:pt x="22611" y="10026"/>
                  <a:pt x="22547" y="10046"/>
                </a:cubicBezTo>
                <a:cubicBezTo>
                  <a:pt x="22521" y="10054"/>
                  <a:pt x="22463" y="10067"/>
                  <a:pt x="22448" y="10096"/>
                </a:cubicBezTo>
                <a:cubicBezTo>
                  <a:pt x="22425" y="10141"/>
                  <a:pt x="22464" y="10213"/>
                  <a:pt x="22473" y="10244"/>
                </a:cubicBezTo>
                <a:cubicBezTo>
                  <a:pt x="22497" y="10323"/>
                  <a:pt x="22510" y="10308"/>
                  <a:pt x="22572" y="10344"/>
                </a:cubicBezTo>
                <a:cubicBezTo>
                  <a:pt x="22610" y="10366"/>
                  <a:pt x="22656" y="10381"/>
                  <a:pt x="22696" y="10393"/>
                </a:cubicBezTo>
                <a:cubicBezTo>
                  <a:pt x="22734" y="10404"/>
                  <a:pt x="22765" y="10415"/>
                  <a:pt x="22796" y="10443"/>
                </a:cubicBezTo>
                <a:cubicBezTo>
                  <a:pt x="22814" y="10460"/>
                  <a:pt x="22860" y="10519"/>
                  <a:pt x="22870" y="10542"/>
                </a:cubicBezTo>
                <a:cubicBezTo>
                  <a:pt x="22890" y="10587"/>
                  <a:pt x="22819" y="10666"/>
                  <a:pt x="22796" y="10691"/>
                </a:cubicBezTo>
                <a:cubicBezTo>
                  <a:pt x="22777" y="10712"/>
                  <a:pt x="22676" y="10757"/>
                  <a:pt x="22647" y="10765"/>
                </a:cubicBezTo>
                <a:cubicBezTo>
                  <a:pt x="22585" y="10782"/>
                  <a:pt x="22547" y="10752"/>
                  <a:pt x="22523" y="10740"/>
                </a:cubicBezTo>
                <a:cubicBezTo>
                  <a:pt x="22498" y="10740"/>
                  <a:pt x="22490" y="10740"/>
                  <a:pt x="22498" y="10716"/>
                </a:cubicBezTo>
              </a:path>
              <a:path w="19373" h="1936">
                <a:moveTo>
                  <a:pt x="20737" y="9798"/>
                </a:moveTo>
                <a:cubicBezTo>
                  <a:pt x="20757" y="9751"/>
                  <a:pt x="20765" y="9704"/>
                  <a:pt x="20811" y="9674"/>
                </a:cubicBezTo>
                <a:cubicBezTo>
                  <a:pt x="20867" y="9638"/>
                  <a:pt x="20921" y="9649"/>
                  <a:pt x="20985" y="9649"/>
                </a:cubicBezTo>
                <a:cubicBezTo>
                  <a:pt x="21037" y="9649"/>
                  <a:pt x="21113" y="9653"/>
                  <a:pt x="21158" y="9674"/>
                </a:cubicBezTo>
                <a:cubicBezTo>
                  <a:pt x="21218" y="9702"/>
                  <a:pt x="21240" y="9751"/>
                  <a:pt x="21282" y="9798"/>
                </a:cubicBezTo>
                <a:cubicBezTo>
                  <a:pt x="21320" y="9840"/>
                  <a:pt x="21317" y="9877"/>
                  <a:pt x="21282" y="9922"/>
                </a:cubicBezTo>
                <a:cubicBezTo>
                  <a:pt x="21228" y="9991"/>
                  <a:pt x="21224" y="9987"/>
                  <a:pt x="21158" y="10021"/>
                </a:cubicBezTo>
                <a:cubicBezTo>
                  <a:pt x="21103" y="10049"/>
                  <a:pt x="21038" y="10072"/>
                  <a:pt x="20985" y="10096"/>
                </a:cubicBezTo>
                <a:cubicBezTo>
                  <a:pt x="20904" y="10132"/>
                  <a:pt x="20966" y="10133"/>
                  <a:pt x="21059" y="10145"/>
                </a:cubicBezTo>
                <a:cubicBezTo>
                  <a:pt x="21135" y="10155"/>
                  <a:pt x="21169" y="10182"/>
                  <a:pt x="21233" y="10220"/>
                </a:cubicBezTo>
                <a:cubicBezTo>
                  <a:pt x="21276" y="10245"/>
                  <a:pt x="21303" y="10266"/>
                  <a:pt x="21307" y="10319"/>
                </a:cubicBezTo>
                <a:cubicBezTo>
                  <a:pt x="21310" y="10365"/>
                  <a:pt x="21300" y="10431"/>
                  <a:pt x="21282" y="10468"/>
                </a:cubicBezTo>
                <a:cubicBezTo>
                  <a:pt x="21258" y="10517"/>
                  <a:pt x="21179" y="10568"/>
                  <a:pt x="21134" y="10592"/>
                </a:cubicBezTo>
                <a:cubicBezTo>
                  <a:pt x="21077" y="10622"/>
                  <a:pt x="20999" y="10638"/>
                  <a:pt x="20935" y="10641"/>
                </a:cubicBezTo>
                <a:cubicBezTo>
                  <a:pt x="20843" y="10645"/>
                  <a:pt x="20764" y="10642"/>
                  <a:pt x="20687" y="10616"/>
                </a:cubicBezTo>
                <a:cubicBezTo>
                  <a:pt x="20662" y="10616"/>
                  <a:pt x="20654" y="10616"/>
                  <a:pt x="20662" y="10592"/>
                </a:cubicBezTo>
              </a:path>
              <a:path w="19373" h="1936">
                <a:moveTo>
                  <a:pt x="22845" y="9674"/>
                </a:moveTo>
                <a:cubicBezTo>
                  <a:pt x="22878" y="9615"/>
                  <a:pt x="22906" y="9587"/>
                  <a:pt x="22969" y="9575"/>
                </a:cubicBezTo>
                <a:cubicBezTo>
                  <a:pt x="23028" y="9564"/>
                  <a:pt x="23117" y="9567"/>
                  <a:pt x="23168" y="9599"/>
                </a:cubicBezTo>
                <a:cubicBezTo>
                  <a:pt x="23215" y="9628"/>
                  <a:pt x="23234" y="9697"/>
                  <a:pt x="23242" y="9748"/>
                </a:cubicBezTo>
                <a:cubicBezTo>
                  <a:pt x="23252" y="9815"/>
                  <a:pt x="23211" y="9972"/>
                  <a:pt x="23168" y="10021"/>
                </a:cubicBezTo>
                <a:cubicBezTo>
                  <a:pt x="23107" y="10091"/>
                  <a:pt x="23025" y="10071"/>
                  <a:pt x="22944" y="10071"/>
                </a:cubicBezTo>
                <a:cubicBezTo>
                  <a:pt x="22893" y="10071"/>
                  <a:pt x="22804" y="10039"/>
                  <a:pt x="22771" y="9996"/>
                </a:cubicBezTo>
                <a:cubicBezTo>
                  <a:pt x="22771" y="9971"/>
                  <a:pt x="22771" y="9963"/>
                  <a:pt x="22771" y="9947"/>
                </a:cubicBezTo>
                <a:cubicBezTo>
                  <a:pt x="22788" y="9895"/>
                  <a:pt x="22846" y="9926"/>
                  <a:pt x="22895" y="9947"/>
                </a:cubicBezTo>
                <a:cubicBezTo>
                  <a:pt x="22975" y="9982"/>
                  <a:pt x="23032" y="10059"/>
                  <a:pt x="23093" y="10120"/>
                </a:cubicBezTo>
                <a:cubicBezTo>
                  <a:pt x="23138" y="10165"/>
                  <a:pt x="23204" y="10224"/>
                  <a:pt x="23267" y="10244"/>
                </a:cubicBezTo>
                <a:cubicBezTo>
                  <a:pt x="23320" y="10261"/>
                  <a:pt x="23313" y="10257"/>
                  <a:pt x="23366" y="10244"/>
                </a:cubicBezTo>
              </a:path>
              <a:path w="19373" h="1936">
                <a:moveTo>
                  <a:pt x="23465" y="10145"/>
                </a:moveTo>
                <a:cubicBezTo>
                  <a:pt x="23598" y="10261"/>
                  <a:pt x="23736" y="10371"/>
                  <a:pt x="23862" y="10492"/>
                </a:cubicBezTo>
                <a:cubicBezTo>
                  <a:pt x="23934" y="10561"/>
                  <a:pt x="24003" y="10636"/>
                  <a:pt x="24085" y="10691"/>
                </a:cubicBezTo>
                <a:cubicBezTo>
                  <a:pt x="24134" y="10724"/>
                  <a:pt x="24163" y="10737"/>
                  <a:pt x="24185" y="10716"/>
                </a:cubicBezTo>
              </a:path>
              <a:path w="19373" h="1936">
                <a:moveTo>
                  <a:pt x="24085" y="10096"/>
                </a:moveTo>
                <a:cubicBezTo>
                  <a:pt x="23998" y="10145"/>
                  <a:pt x="23972" y="10199"/>
                  <a:pt x="23937" y="10294"/>
                </a:cubicBezTo>
                <a:cubicBezTo>
                  <a:pt x="23888" y="10427"/>
                  <a:pt x="23796" y="10551"/>
                  <a:pt x="23713" y="10666"/>
                </a:cubicBezTo>
                <a:cubicBezTo>
                  <a:pt x="23651" y="10751"/>
                  <a:pt x="23542" y="10825"/>
                  <a:pt x="23490" y="10914"/>
                </a:cubicBezTo>
                <a:cubicBezTo>
                  <a:pt x="23490" y="10922"/>
                  <a:pt x="23490" y="10931"/>
                  <a:pt x="23490" y="10939"/>
                </a:cubicBezTo>
              </a:path>
              <a:path w="19373" h="1936">
                <a:moveTo>
                  <a:pt x="24110" y="9451"/>
                </a:moveTo>
                <a:cubicBezTo>
                  <a:pt x="24258" y="9451"/>
                  <a:pt x="24283" y="9446"/>
                  <a:pt x="24383" y="9550"/>
                </a:cubicBezTo>
                <a:cubicBezTo>
                  <a:pt x="24453" y="9623"/>
                  <a:pt x="24542" y="9727"/>
                  <a:pt x="24581" y="9823"/>
                </a:cubicBezTo>
                <a:cubicBezTo>
                  <a:pt x="24630" y="9943"/>
                  <a:pt x="24677" y="10065"/>
                  <a:pt x="24681" y="10195"/>
                </a:cubicBezTo>
                <a:cubicBezTo>
                  <a:pt x="24685" y="10310"/>
                  <a:pt x="24725" y="10426"/>
                  <a:pt x="24705" y="10542"/>
                </a:cubicBezTo>
                <a:cubicBezTo>
                  <a:pt x="24690" y="10628"/>
                  <a:pt x="24650" y="10739"/>
                  <a:pt x="24606" y="10815"/>
                </a:cubicBezTo>
                <a:cubicBezTo>
                  <a:pt x="24547" y="10916"/>
                  <a:pt x="24466" y="10987"/>
                  <a:pt x="24383" y="11063"/>
                </a:cubicBezTo>
                <a:cubicBezTo>
                  <a:pt x="24297" y="11143"/>
                  <a:pt x="24209" y="11222"/>
                  <a:pt x="24110" y="11286"/>
                </a:cubicBezTo>
                <a:cubicBezTo>
                  <a:pt x="24069" y="11311"/>
                  <a:pt x="24027" y="11336"/>
                  <a:pt x="23986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473880" y="4321080"/>
            <a:ext cx="1679400" cy="1644840"/>
          </a:xfrm>
          <a:custGeom>
            <a:avLst/>
            <a:gdLst/>
            <a:ahLst/>
            <a:rect l="l" t="t" r="r" b="b"/>
            <a:pathLst>
              <a:path w="4665" h="4566">
                <a:moveTo>
                  <a:pt x="18132" y="13196"/>
                </a:moveTo>
                <a:cubicBezTo>
                  <a:pt x="18020" y="13213"/>
                  <a:pt x="18000" y="13165"/>
                  <a:pt x="18008" y="13246"/>
                </a:cubicBezTo>
                <a:cubicBezTo>
                  <a:pt x="18019" y="13361"/>
                  <a:pt x="18117" y="13527"/>
                  <a:pt x="18182" y="13618"/>
                </a:cubicBezTo>
                <a:cubicBezTo>
                  <a:pt x="18225" y="13677"/>
                  <a:pt x="18328" y="13767"/>
                  <a:pt x="18405" y="13767"/>
                </a:cubicBezTo>
                <a:cubicBezTo>
                  <a:pt x="18525" y="13767"/>
                  <a:pt x="18578" y="13651"/>
                  <a:pt x="18628" y="13568"/>
                </a:cubicBezTo>
                <a:cubicBezTo>
                  <a:pt x="18761" y="13347"/>
                  <a:pt x="18794" y="13094"/>
                  <a:pt x="18852" y="12849"/>
                </a:cubicBezTo>
                <a:cubicBezTo>
                  <a:pt x="18911" y="12598"/>
                  <a:pt x="18983" y="12391"/>
                  <a:pt x="19000" y="12129"/>
                </a:cubicBezTo>
                <a:cubicBezTo>
                  <a:pt x="19004" y="12068"/>
                  <a:pt x="18985" y="12116"/>
                  <a:pt x="18976" y="12055"/>
                </a:cubicBezTo>
                <a:cubicBezTo>
                  <a:pt x="18965" y="12238"/>
                  <a:pt x="18951" y="12415"/>
                  <a:pt x="18951" y="12601"/>
                </a:cubicBezTo>
                <a:cubicBezTo>
                  <a:pt x="18951" y="12891"/>
                  <a:pt x="18909" y="13177"/>
                  <a:pt x="18926" y="13469"/>
                </a:cubicBezTo>
                <a:cubicBezTo>
                  <a:pt x="18954" y="13955"/>
                  <a:pt x="19025" y="14453"/>
                  <a:pt x="19100" y="14932"/>
                </a:cubicBezTo>
                <a:cubicBezTo>
                  <a:pt x="19119" y="14990"/>
                  <a:pt x="19127" y="14997"/>
                  <a:pt x="19124" y="15032"/>
                </a:cubicBezTo>
                <a:cubicBezTo>
                  <a:pt x="19109" y="14990"/>
                  <a:pt x="19067" y="14855"/>
                  <a:pt x="19050" y="14784"/>
                </a:cubicBezTo>
                <a:cubicBezTo>
                  <a:pt x="18982" y="14496"/>
                  <a:pt x="18924" y="14211"/>
                  <a:pt x="18901" y="13915"/>
                </a:cubicBezTo>
                <a:cubicBezTo>
                  <a:pt x="18873" y="13546"/>
                  <a:pt x="18894" y="13232"/>
                  <a:pt x="18951" y="12874"/>
                </a:cubicBezTo>
                <a:cubicBezTo>
                  <a:pt x="18984" y="12665"/>
                  <a:pt x="19029" y="12589"/>
                  <a:pt x="19149" y="12427"/>
                </a:cubicBezTo>
                <a:cubicBezTo>
                  <a:pt x="19235" y="12493"/>
                  <a:pt x="19262" y="12478"/>
                  <a:pt x="19323" y="12601"/>
                </a:cubicBezTo>
                <a:cubicBezTo>
                  <a:pt x="19417" y="12789"/>
                  <a:pt x="19412" y="13017"/>
                  <a:pt x="19447" y="13221"/>
                </a:cubicBezTo>
                <a:cubicBezTo>
                  <a:pt x="19475" y="13382"/>
                  <a:pt x="19451" y="13532"/>
                  <a:pt x="19422" y="13692"/>
                </a:cubicBezTo>
                <a:cubicBezTo>
                  <a:pt x="19422" y="13742"/>
                  <a:pt x="19422" y="13759"/>
                  <a:pt x="19422" y="13692"/>
                </a:cubicBezTo>
                <a:cubicBezTo>
                  <a:pt x="19427" y="13561"/>
                  <a:pt x="19415" y="13419"/>
                  <a:pt x="19472" y="13295"/>
                </a:cubicBezTo>
                <a:cubicBezTo>
                  <a:pt x="19525" y="13215"/>
                  <a:pt x="19545" y="13184"/>
                  <a:pt x="19571" y="13122"/>
                </a:cubicBezTo>
                <a:cubicBezTo>
                  <a:pt x="19613" y="13179"/>
                  <a:pt x="19659" y="13194"/>
                  <a:pt x="19695" y="13295"/>
                </a:cubicBezTo>
                <a:cubicBezTo>
                  <a:pt x="19761" y="13478"/>
                  <a:pt x="19749" y="13671"/>
                  <a:pt x="19844" y="13841"/>
                </a:cubicBezTo>
                <a:cubicBezTo>
                  <a:pt x="19885" y="13914"/>
                  <a:pt x="19945" y="14001"/>
                  <a:pt x="20042" y="13965"/>
                </a:cubicBezTo>
                <a:cubicBezTo>
                  <a:pt x="20176" y="13916"/>
                  <a:pt x="20210" y="13793"/>
                  <a:pt x="20265" y="13667"/>
                </a:cubicBezTo>
                <a:cubicBezTo>
                  <a:pt x="20325" y="13530"/>
                  <a:pt x="20369" y="13372"/>
                  <a:pt x="20365" y="13221"/>
                </a:cubicBezTo>
                <a:cubicBezTo>
                  <a:pt x="20357" y="13204"/>
                  <a:pt x="20348" y="13188"/>
                  <a:pt x="20340" y="13171"/>
                </a:cubicBezTo>
                <a:cubicBezTo>
                  <a:pt x="20265" y="13203"/>
                  <a:pt x="20231" y="13164"/>
                  <a:pt x="20166" y="13246"/>
                </a:cubicBezTo>
                <a:cubicBezTo>
                  <a:pt x="20075" y="13361"/>
                  <a:pt x="20036" y="13522"/>
                  <a:pt x="20042" y="13667"/>
                </a:cubicBezTo>
                <a:cubicBezTo>
                  <a:pt x="20049" y="13823"/>
                  <a:pt x="20132" y="14027"/>
                  <a:pt x="20290" y="14089"/>
                </a:cubicBezTo>
                <a:cubicBezTo>
                  <a:pt x="20427" y="14143"/>
                  <a:pt x="20656" y="14046"/>
                  <a:pt x="20762" y="13965"/>
                </a:cubicBezTo>
                <a:cubicBezTo>
                  <a:pt x="20888" y="13868"/>
                  <a:pt x="21002" y="13652"/>
                  <a:pt x="21084" y="13519"/>
                </a:cubicBezTo>
                <a:cubicBezTo>
                  <a:pt x="21162" y="13393"/>
                  <a:pt x="21244" y="13275"/>
                  <a:pt x="21233" y="13122"/>
                </a:cubicBezTo>
                <a:cubicBezTo>
                  <a:pt x="21225" y="13105"/>
                  <a:pt x="21216" y="13089"/>
                  <a:pt x="21208" y="13072"/>
                </a:cubicBezTo>
              </a:path>
              <a:path w="4665" h="4566">
                <a:moveTo>
                  <a:pt x="21134" y="12973"/>
                </a:moveTo>
                <a:cubicBezTo>
                  <a:pt x="20889" y="13012"/>
                  <a:pt x="20858" y="13002"/>
                  <a:pt x="20712" y="13171"/>
                </a:cubicBezTo>
                <a:cubicBezTo>
                  <a:pt x="20656" y="13236"/>
                  <a:pt x="20630" y="13315"/>
                  <a:pt x="20662" y="13395"/>
                </a:cubicBezTo>
                <a:cubicBezTo>
                  <a:pt x="20691" y="13468"/>
                  <a:pt x="20916" y="13543"/>
                  <a:pt x="20960" y="13568"/>
                </a:cubicBezTo>
                <a:cubicBezTo>
                  <a:pt x="21097" y="13646"/>
                  <a:pt x="21187" y="13712"/>
                  <a:pt x="21282" y="13841"/>
                </a:cubicBezTo>
                <a:cubicBezTo>
                  <a:pt x="21365" y="13953"/>
                  <a:pt x="21419" y="14080"/>
                  <a:pt x="21456" y="14213"/>
                </a:cubicBezTo>
                <a:cubicBezTo>
                  <a:pt x="21494" y="14350"/>
                  <a:pt x="21470" y="14452"/>
                  <a:pt x="21456" y="14585"/>
                </a:cubicBezTo>
                <a:cubicBezTo>
                  <a:pt x="21452" y="14620"/>
                  <a:pt x="21405" y="14792"/>
                  <a:pt x="21357" y="14808"/>
                </a:cubicBezTo>
                <a:cubicBezTo>
                  <a:pt x="21295" y="14828"/>
                  <a:pt x="21212" y="14757"/>
                  <a:pt x="21183" y="14709"/>
                </a:cubicBezTo>
                <a:cubicBezTo>
                  <a:pt x="21122" y="14609"/>
                  <a:pt x="21112" y="14449"/>
                  <a:pt x="21109" y="14337"/>
                </a:cubicBezTo>
                <a:cubicBezTo>
                  <a:pt x="21105" y="14163"/>
                  <a:pt x="21124" y="14011"/>
                  <a:pt x="21158" y="13841"/>
                </a:cubicBezTo>
                <a:cubicBezTo>
                  <a:pt x="21205" y="13606"/>
                  <a:pt x="21251" y="13379"/>
                  <a:pt x="21307" y="13146"/>
                </a:cubicBezTo>
                <a:cubicBezTo>
                  <a:pt x="21344" y="12993"/>
                  <a:pt x="21407" y="12887"/>
                  <a:pt x="21481" y="12750"/>
                </a:cubicBezTo>
                <a:cubicBezTo>
                  <a:pt x="21552" y="12618"/>
                  <a:pt x="21624" y="12511"/>
                  <a:pt x="21729" y="12402"/>
                </a:cubicBezTo>
                <a:cubicBezTo>
                  <a:pt x="21786" y="12343"/>
                  <a:pt x="21845" y="12287"/>
                  <a:pt x="21903" y="12229"/>
                </a:cubicBezTo>
              </a:path>
              <a:path w="4665" h="4566">
                <a:moveTo>
                  <a:pt x="22051" y="12055"/>
                </a:moveTo>
                <a:cubicBezTo>
                  <a:pt x="21899" y="12214"/>
                  <a:pt x="21768" y="12336"/>
                  <a:pt x="21704" y="12551"/>
                </a:cubicBezTo>
                <a:cubicBezTo>
                  <a:pt x="21651" y="12730"/>
                  <a:pt x="21628" y="12915"/>
                  <a:pt x="21654" y="13097"/>
                </a:cubicBezTo>
                <a:cubicBezTo>
                  <a:pt x="21671" y="13215"/>
                  <a:pt x="21684" y="13362"/>
                  <a:pt x="21803" y="13419"/>
                </a:cubicBezTo>
                <a:cubicBezTo>
                  <a:pt x="21941" y="13485"/>
                  <a:pt x="22040" y="13401"/>
                  <a:pt x="22126" y="13295"/>
                </a:cubicBezTo>
                <a:cubicBezTo>
                  <a:pt x="22242" y="13151"/>
                  <a:pt x="22336" y="12908"/>
                  <a:pt x="22349" y="12725"/>
                </a:cubicBezTo>
                <a:cubicBezTo>
                  <a:pt x="22361" y="12554"/>
                  <a:pt x="22365" y="12340"/>
                  <a:pt x="22250" y="12204"/>
                </a:cubicBezTo>
                <a:cubicBezTo>
                  <a:pt x="22199" y="12143"/>
                  <a:pt x="22151" y="12098"/>
                  <a:pt x="22076" y="12080"/>
                </a:cubicBezTo>
                <a:cubicBezTo>
                  <a:pt x="22027" y="12068"/>
                  <a:pt x="22044" y="12094"/>
                  <a:pt x="22027" y="12105"/>
                </a:cubicBezTo>
              </a:path>
              <a:path w="4665" h="4566">
                <a:moveTo>
                  <a:pt x="22622" y="12774"/>
                </a:moveTo>
                <a:cubicBezTo>
                  <a:pt x="22622" y="12750"/>
                  <a:pt x="22622" y="12742"/>
                  <a:pt x="22647" y="12750"/>
                </a:cubicBezTo>
              </a:path>
              <a:path w="4665" h="4566">
                <a:moveTo>
                  <a:pt x="21258" y="16570"/>
                </a:moveTo>
                <a:cubicBezTo>
                  <a:pt x="21233" y="16570"/>
                  <a:pt x="21225" y="16570"/>
                  <a:pt x="21208" y="16570"/>
                </a:cubicBezTo>
                <a:cubicBezTo>
                  <a:pt x="21238" y="16560"/>
                  <a:pt x="21250" y="16528"/>
                  <a:pt x="21282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990720" y="609480"/>
          <a:ext cx="764532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609480"/>
                    <a:ext cx="7645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938320" y="1990800"/>
            <a:ext cx="5607360" cy="1216080"/>
          </a:xfrm>
          <a:custGeom>
            <a:avLst/>
            <a:gdLst/>
            <a:ahLst/>
            <a:rect l="l" t="t" r="r" b="b"/>
            <a:pathLst>
              <a:path w="15578" h="3375">
                <a:moveTo>
                  <a:pt x="8979" y="5531"/>
                </a:moveTo>
                <a:cubicBezTo>
                  <a:pt x="8875" y="5609"/>
                  <a:pt x="8805" y="5648"/>
                  <a:pt x="8731" y="5755"/>
                </a:cubicBezTo>
                <a:cubicBezTo>
                  <a:pt x="8655" y="5865"/>
                  <a:pt x="8587" y="5979"/>
                  <a:pt x="8533" y="6102"/>
                </a:cubicBezTo>
                <a:cubicBezTo>
                  <a:pt x="8455" y="6279"/>
                  <a:pt x="8359" y="6444"/>
                  <a:pt x="8285" y="6623"/>
                </a:cubicBezTo>
                <a:cubicBezTo>
                  <a:pt x="8212" y="6800"/>
                  <a:pt x="8157" y="7026"/>
                  <a:pt x="8161" y="7218"/>
                </a:cubicBezTo>
                <a:cubicBezTo>
                  <a:pt x="8164" y="7356"/>
                  <a:pt x="8250" y="7473"/>
                  <a:pt x="8310" y="7590"/>
                </a:cubicBezTo>
                <a:cubicBezTo>
                  <a:pt x="8377" y="7721"/>
                  <a:pt x="8499" y="7860"/>
                  <a:pt x="8607" y="7962"/>
                </a:cubicBezTo>
                <a:cubicBezTo>
                  <a:pt x="8750" y="8097"/>
                  <a:pt x="8901" y="8272"/>
                  <a:pt x="9079" y="8359"/>
                </a:cubicBezTo>
                <a:cubicBezTo>
                  <a:pt x="9135" y="8388"/>
                  <a:pt x="9159" y="8399"/>
                  <a:pt x="9203" y="8409"/>
                </a:cubicBezTo>
              </a:path>
              <a:path w="15578" h="3375">
                <a:moveTo>
                  <a:pt x="10542" y="7243"/>
                </a:moveTo>
                <a:cubicBezTo>
                  <a:pt x="10535" y="7183"/>
                  <a:pt x="10550" y="7157"/>
                  <a:pt x="10492" y="7119"/>
                </a:cubicBezTo>
                <a:cubicBezTo>
                  <a:pt x="10462" y="7100"/>
                  <a:pt x="10348" y="7066"/>
                  <a:pt x="10319" y="7069"/>
                </a:cubicBezTo>
                <a:cubicBezTo>
                  <a:pt x="10235" y="7076"/>
                  <a:pt x="10060" y="7117"/>
                  <a:pt x="9996" y="7169"/>
                </a:cubicBezTo>
                <a:cubicBezTo>
                  <a:pt x="9918" y="7232"/>
                  <a:pt x="9819" y="7347"/>
                  <a:pt x="9773" y="7441"/>
                </a:cubicBezTo>
                <a:cubicBezTo>
                  <a:pt x="9717" y="7557"/>
                  <a:pt x="9620" y="7844"/>
                  <a:pt x="9674" y="7962"/>
                </a:cubicBezTo>
                <a:cubicBezTo>
                  <a:pt x="9738" y="8102"/>
                  <a:pt x="9819" y="8167"/>
                  <a:pt x="9971" y="8186"/>
                </a:cubicBezTo>
                <a:cubicBezTo>
                  <a:pt x="10102" y="8202"/>
                  <a:pt x="10238" y="8182"/>
                  <a:pt x="10368" y="8210"/>
                </a:cubicBezTo>
                <a:cubicBezTo>
                  <a:pt x="10449" y="8227"/>
                  <a:pt x="10516" y="8249"/>
                  <a:pt x="10592" y="8260"/>
                </a:cubicBezTo>
              </a:path>
              <a:path w="15578" h="3375">
                <a:moveTo>
                  <a:pt x="11385" y="7119"/>
                </a:moveTo>
                <a:cubicBezTo>
                  <a:pt x="11328" y="7164"/>
                  <a:pt x="11276" y="7181"/>
                  <a:pt x="11212" y="7218"/>
                </a:cubicBezTo>
                <a:cubicBezTo>
                  <a:pt x="11100" y="7283"/>
                  <a:pt x="11033" y="7336"/>
                  <a:pt x="10939" y="7417"/>
                </a:cubicBezTo>
                <a:cubicBezTo>
                  <a:pt x="10897" y="7454"/>
                  <a:pt x="10800" y="7484"/>
                  <a:pt x="10840" y="7565"/>
                </a:cubicBezTo>
                <a:cubicBezTo>
                  <a:pt x="10885" y="7656"/>
                  <a:pt x="11085" y="7663"/>
                  <a:pt x="11162" y="7689"/>
                </a:cubicBezTo>
                <a:cubicBezTo>
                  <a:pt x="11319" y="7743"/>
                  <a:pt x="11489" y="7807"/>
                  <a:pt x="11633" y="7888"/>
                </a:cubicBezTo>
                <a:cubicBezTo>
                  <a:pt x="11713" y="7933"/>
                  <a:pt x="11875" y="8060"/>
                  <a:pt x="11881" y="8161"/>
                </a:cubicBezTo>
                <a:cubicBezTo>
                  <a:pt x="11885" y="8234"/>
                  <a:pt x="11790" y="8292"/>
                  <a:pt x="11733" y="8310"/>
                </a:cubicBezTo>
                <a:cubicBezTo>
                  <a:pt x="11605" y="8350"/>
                  <a:pt x="11488" y="8373"/>
                  <a:pt x="11361" y="8409"/>
                </a:cubicBezTo>
                <a:cubicBezTo>
                  <a:pt x="11282" y="8432"/>
                  <a:pt x="11219" y="8434"/>
                  <a:pt x="11137" y="8434"/>
                </a:cubicBezTo>
                <a:cubicBezTo>
                  <a:pt x="11129" y="8434"/>
                  <a:pt x="11120" y="8434"/>
                  <a:pt x="11112" y="8434"/>
                </a:cubicBezTo>
              </a:path>
              <a:path w="15578" h="3375">
                <a:moveTo>
                  <a:pt x="12675" y="7218"/>
                </a:moveTo>
                <a:cubicBezTo>
                  <a:pt x="12588" y="7262"/>
                  <a:pt x="12549" y="7295"/>
                  <a:pt x="12477" y="7367"/>
                </a:cubicBezTo>
                <a:cubicBezTo>
                  <a:pt x="12379" y="7466"/>
                  <a:pt x="12299" y="7568"/>
                  <a:pt x="12229" y="7689"/>
                </a:cubicBezTo>
                <a:cubicBezTo>
                  <a:pt x="12157" y="7813"/>
                  <a:pt x="12065" y="7918"/>
                  <a:pt x="12055" y="8062"/>
                </a:cubicBezTo>
                <a:cubicBezTo>
                  <a:pt x="12045" y="8194"/>
                  <a:pt x="12161" y="8272"/>
                  <a:pt x="12278" y="8310"/>
                </a:cubicBezTo>
                <a:cubicBezTo>
                  <a:pt x="12452" y="8366"/>
                  <a:pt x="12642" y="8410"/>
                  <a:pt x="12824" y="8434"/>
                </a:cubicBezTo>
                <a:cubicBezTo>
                  <a:pt x="12967" y="8453"/>
                  <a:pt x="13171" y="8484"/>
                  <a:pt x="13320" y="8458"/>
                </a:cubicBezTo>
                <a:cubicBezTo>
                  <a:pt x="13432" y="8439"/>
                  <a:pt x="13398" y="8406"/>
                  <a:pt x="13444" y="8334"/>
                </a:cubicBezTo>
              </a:path>
              <a:path w="15578" h="3375">
                <a:moveTo>
                  <a:pt x="13370" y="6201"/>
                </a:moveTo>
                <a:cubicBezTo>
                  <a:pt x="13390" y="6174"/>
                  <a:pt x="13401" y="6138"/>
                  <a:pt x="13444" y="6127"/>
                </a:cubicBezTo>
                <a:cubicBezTo>
                  <a:pt x="13555" y="6098"/>
                  <a:pt x="13650" y="6077"/>
                  <a:pt x="13767" y="6077"/>
                </a:cubicBezTo>
                <a:cubicBezTo>
                  <a:pt x="13822" y="6077"/>
                  <a:pt x="13954" y="6065"/>
                  <a:pt x="13990" y="6127"/>
                </a:cubicBezTo>
                <a:cubicBezTo>
                  <a:pt x="14033" y="6202"/>
                  <a:pt x="13971" y="6342"/>
                  <a:pt x="13940" y="6400"/>
                </a:cubicBezTo>
                <a:cubicBezTo>
                  <a:pt x="13904" y="6468"/>
                  <a:pt x="13813" y="6534"/>
                  <a:pt x="13841" y="6623"/>
                </a:cubicBezTo>
                <a:cubicBezTo>
                  <a:pt x="13873" y="6724"/>
                  <a:pt x="13961" y="6780"/>
                  <a:pt x="14064" y="6796"/>
                </a:cubicBezTo>
                <a:cubicBezTo>
                  <a:pt x="14206" y="6817"/>
                  <a:pt x="14374" y="6767"/>
                  <a:pt x="14511" y="6747"/>
                </a:cubicBezTo>
              </a:path>
              <a:path w="15578" h="3375">
                <a:moveTo>
                  <a:pt x="14337" y="7764"/>
                </a:moveTo>
                <a:cubicBezTo>
                  <a:pt x="14411" y="7819"/>
                  <a:pt x="14412" y="7818"/>
                  <a:pt x="14536" y="7789"/>
                </a:cubicBezTo>
                <a:cubicBezTo>
                  <a:pt x="14698" y="7751"/>
                  <a:pt x="14844" y="7735"/>
                  <a:pt x="15007" y="7714"/>
                </a:cubicBezTo>
                <a:cubicBezTo>
                  <a:pt x="15162" y="7694"/>
                  <a:pt x="15324" y="7690"/>
                  <a:pt x="15478" y="7665"/>
                </a:cubicBezTo>
                <a:cubicBezTo>
                  <a:pt x="15537" y="7655"/>
                  <a:pt x="15674" y="7644"/>
                  <a:pt x="15726" y="7615"/>
                </a:cubicBezTo>
                <a:cubicBezTo>
                  <a:pt x="15743" y="7598"/>
                  <a:pt x="15759" y="7582"/>
                  <a:pt x="15776" y="7565"/>
                </a:cubicBezTo>
              </a:path>
              <a:path w="15578" h="3375">
                <a:moveTo>
                  <a:pt x="16272" y="6375"/>
                </a:moveTo>
                <a:cubicBezTo>
                  <a:pt x="16279" y="6448"/>
                  <a:pt x="16289" y="6477"/>
                  <a:pt x="16321" y="6548"/>
                </a:cubicBezTo>
                <a:cubicBezTo>
                  <a:pt x="16365" y="6647"/>
                  <a:pt x="16369" y="6786"/>
                  <a:pt x="16371" y="6896"/>
                </a:cubicBezTo>
                <a:cubicBezTo>
                  <a:pt x="16374" y="7094"/>
                  <a:pt x="16368" y="7318"/>
                  <a:pt x="16346" y="7516"/>
                </a:cubicBezTo>
                <a:cubicBezTo>
                  <a:pt x="16328" y="7672"/>
                  <a:pt x="16309" y="7831"/>
                  <a:pt x="16297" y="7987"/>
                </a:cubicBezTo>
                <a:cubicBezTo>
                  <a:pt x="16289" y="8095"/>
                  <a:pt x="16324" y="8236"/>
                  <a:pt x="16371" y="8334"/>
                </a:cubicBezTo>
                <a:cubicBezTo>
                  <a:pt x="16371" y="8359"/>
                  <a:pt x="16371" y="8367"/>
                  <a:pt x="16396" y="8359"/>
                </a:cubicBezTo>
              </a:path>
              <a:path w="15578" h="3375">
                <a:moveTo>
                  <a:pt x="16321" y="5953"/>
                </a:moveTo>
                <a:cubicBezTo>
                  <a:pt x="16443" y="6042"/>
                  <a:pt x="16536" y="6128"/>
                  <a:pt x="16644" y="6226"/>
                </a:cubicBezTo>
                <a:cubicBezTo>
                  <a:pt x="16788" y="6356"/>
                  <a:pt x="16903" y="6465"/>
                  <a:pt x="17016" y="6623"/>
                </a:cubicBezTo>
                <a:cubicBezTo>
                  <a:pt x="17125" y="6776"/>
                  <a:pt x="17194" y="6920"/>
                  <a:pt x="17264" y="7094"/>
                </a:cubicBezTo>
                <a:cubicBezTo>
                  <a:pt x="17350" y="7308"/>
                  <a:pt x="17363" y="7513"/>
                  <a:pt x="17363" y="7739"/>
                </a:cubicBezTo>
                <a:cubicBezTo>
                  <a:pt x="17363" y="7928"/>
                  <a:pt x="17332" y="8155"/>
                  <a:pt x="17264" y="8334"/>
                </a:cubicBezTo>
                <a:cubicBezTo>
                  <a:pt x="17220" y="8449"/>
                  <a:pt x="17171" y="8541"/>
                  <a:pt x="17090" y="8632"/>
                </a:cubicBezTo>
              </a:path>
              <a:path w="15578" h="3375">
                <a:moveTo>
                  <a:pt x="18876" y="6077"/>
                </a:moveTo>
                <a:cubicBezTo>
                  <a:pt x="18784" y="6144"/>
                  <a:pt x="18695" y="6211"/>
                  <a:pt x="18604" y="6276"/>
                </a:cubicBezTo>
                <a:cubicBezTo>
                  <a:pt x="18429" y="6401"/>
                  <a:pt x="18355" y="6572"/>
                  <a:pt x="18231" y="6747"/>
                </a:cubicBezTo>
                <a:cubicBezTo>
                  <a:pt x="18125" y="6897"/>
                  <a:pt x="18057" y="7074"/>
                  <a:pt x="17983" y="7243"/>
                </a:cubicBezTo>
                <a:cubicBezTo>
                  <a:pt x="17910" y="7411"/>
                  <a:pt x="17853" y="7630"/>
                  <a:pt x="17835" y="7813"/>
                </a:cubicBezTo>
                <a:cubicBezTo>
                  <a:pt x="17820" y="7962"/>
                  <a:pt x="17813" y="8167"/>
                  <a:pt x="17859" y="8310"/>
                </a:cubicBezTo>
                <a:cubicBezTo>
                  <a:pt x="17895" y="8422"/>
                  <a:pt x="17960" y="8564"/>
                  <a:pt x="18033" y="8657"/>
                </a:cubicBezTo>
                <a:cubicBezTo>
                  <a:pt x="18094" y="8734"/>
                  <a:pt x="18174" y="8803"/>
                  <a:pt x="18256" y="8855"/>
                </a:cubicBezTo>
                <a:cubicBezTo>
                  <a:pt x="18329" y="8892"/>
                  <a:pt x="18334" y="8909"/>
                  <a:pt x="18380" y="8905"/>
                </a:cubicBezTo>
              </a:path>
              <a:path w="15578" h="3375">
                <a:moveTo>
                  <a:pt x="18976" y="7342"/>
                </a:moveTo>
                <a:cubicBezTo>
                  <a:pt x="18951" y="7309"/>
                  <a:pt x="18932" y="7232"/>
                  <a:pt x="18876" y="7243"/>
                </a:cubicBezTo>
                <a:cubicBezTo>
                  <a:pt x="18823" y="7254"/>
                  <a:pt x="18750" y="7288"/>
                  <a:pt x="18703" y="7317"/>
                </a:cubicBezTo>
                <a:cubicBezTo>
                  <a:pt x="18609" y="7374"/>
                  <a:pt x="18545" y="7428"/>
                  <a:pt x="18479" y="7516"/>
                </a:cubicBezTo>
                <a:cubicBezTo>
                  <a:pt x="18415" y="7602"/>
                  <a:pt x="18347" y="7677"/>
                  <a:pt x="18331" y="7789"/>
                </a:cubicBezTo>
                <a:cubicBezTo>
                  <a:pt x="18318" y="7875"/>
                  <a:pt x="18322" y="7983"/>
                  <a:pt x="18355" y="8062"/>
                </a:cubicBezTo>
                <a:cubicBezTo>
                  <a:pt x="18400" y="8169"/>
                  <a:pt x="18477" y="8161"/>
                  <a:pt x="18579" y="8161"/>
                </a:cubicBezTo>
                <a:cubicBezTo>
                  <a:pt x="18699" y="8161"/>
                  <a:pt x="18820" y="8165"/>
                  <a:pt x="18926" y="8136"/>
                </a:cubicBezTo>
                <a:cubicBezTo>
                  <a:pt x="18934" y="8136"/>
                  <a:pt x="18943" y="8136"/>
                  <a:pt x="18951" y="8136"/>
                </a:cubicBezTo>
              </a:path>
              <a:path w="15578" h="3375">
                <a:moveTo>
                  <a:pt x="19571" y="7417"/>
                </a:moveTo>
                <a:cubicBezTo>
                  <a:pt x="19531" y="7456"/>
                  <a:pt x="19487" y="7479"/>
                  <a:pt x="19447" y="7516"/>
                </a:cubicBezTo>
                <a:cubicBezTo>
                  <a:pt x="19401" y="7558"/>
                  <a:pt x="19249" y="7666"/>
                  <a:pt x="19224" y="7714"/>
                </a:cubicBezTo>
                <a:cubicBezTo>
                  <a:pt x="19190" y="7778"/>
                  <a:pt x="19253" y="7818"/>
                  <a:pt x="19298" y="7838"/>
                </a:cubicBezTo>
                <a:cubicBezTo>
                  <a:pt x="19433" y="7897"/>
                  <a:pt x="19561" y="7953"/>
                  <a:pt x="19695" y="8012"/>
                </a:cubicBezTo>
                <a:cubicBezTo>
                  <a:pt x="19771" y="8045"/>
                  <a:pt x="19862" y="8081"/>
                  <a:pt x="19844" y="8186"/>
                </a:cubicBezTo>
                <a:cubicBezTo>
                  <a:pt x="19831" y="8261"/>
                  <a:pt x="19805" y="8272"/>
                  <a:pt x="19745" y="8310"/>
                </a:cubicBezTo>
                <a:cubicBezTo>
                  <a:pt x="19633" y="8381"/>
                  <a:pt x="19544" y="8374"/>
                  <a:pt x="19422" y="8409"/>
                </a:cubicBezTo>
                <a:cubicBezTo>
                  <a:pt x="19350" y="8430"/>
                  <a:pt x="19299" y="8434"/>
                  <a:pt x="19224" y="8434"/>
                </a:cubicBezTo>
              </a:path>
              <a:path w="15578" h="3375">
                <a:moveTo>
                  <a:pt x="20290" y="7466"/>
                </a:moveTo>
                <a:cubicBezTo>
                  <a:pt x="20244" y="7512"/>
                  <a:pt x="20220" y="7556"/>
                  <a:pt x="20191" y="7615"/>
                </a:cubicBezTo>
                <a:cubicBezTo>
                  <a:pt x="20157" y="7682"/>
                  <a:pt x="20085" y="7795"/>
                  <a:pt x="20067" y="7863"/>
                </a:cubicBezTo>
                <a:cubicBezTo>
                  <a:pt x="20043" y="7951"/>
                  <a:pt x="20032" y="8052"/>
                  <a:pt x="20067" y="8136"/>
                </a:cubicBezTo>
                <a:cubicBezTo>
                  <a:pt x="20109" y="8235"/>
                  <a:pt x="20140" y="8250"/>
                  <a:pt x="20241" y="8285"/>
                </a:cubicBezTo>
                <a:cubicBezTo>
                  <a:pt x="20356" y="8325"/>
                  <a:pt x="20515" y="8331"/>
                  <a:pt x="20638" y="8310"/>
                </a:cubicBezTo>
                <a:cubicBezTo>
                  <a:pt x="20711" y="8298"/>
                  <a:pt x="20739" y="8296"/>
                  <a:pt x="20786" y="8260"/>
                </a:cubicBezTo>
              </a:path>
              <a:path w="15578" h="3375">
                <a:moveTo>
                  <a:pt x="20365" y="6548"/>
                </a:moveTo>
                <a:cubicBezTo>
                  <a:pt x="20483" y="6548"/>
                  <a:pt x="20661" y="6514"/>
                  <a:pt x="20762" y="6573"/>
                </a:cubicBezTo>
                <a:cubicBezTo>
                  <a:pt x="20832" y="6614"/>
                  <a:pt x="20860" y="6643"/>
                  <a:pt x="20811" y="6722"/>
                </a:cubicBezTo>
                <a:cubicBezTo>
                  <a:pt x="20777" y="6777"/>
                  <a:pt x="20722" y="6818"/>
                  <a:pt x="20687" y="6871"/>
                </a:cubicBezTo>
                <a:cubicBezTo>
                  <a:pt x="20668" y="6899"/>
                  <a:pt x="20642" y="6984"/>
                  <a:pt x="20662" y="7020"/>
                </a:cubicBezTo>
                <a:cubicBezTo>
                  <a:pt x="20681" y="7053"/>
                  <a:pt x="20775" y="7089"/>
                  <a:pt x="20811" y="7094"/>
                </a:cubicBezTo>
                <a:cubicBezTo>
                  <a:pt x="20874" y="7103"/>
                  <a:pt x="20923" y="7111"/>
                  <a:pt x="20985" y="7119"/>
                </a:cubicBezTo>
              </a:path>
              <a:path w="15578" h="3375">
                <a:moveTo>
                  <a:pt x="20985" y="7863"/>
                </a:moveTo>
                <a:cubicBezTo>
                  <a:pt x="21042" y="7849"/>
                  <a:pt x="21094" y="7827"/>
                  <a:pt x="21158" y="7813"/>
                </a:cubicBezTo>
                <a:cubicBezTo>
                  <a:pt x="21283" y="7785"/>
                  <a:pt x="21408" y="7764"/>
                  <a:pt x="21530" y="7739"/>
                </a:cubicBezTo>
                <a:cubicBezTo>
                  <a:pt x="21638" y="7717"/>
                  <a:pt x="21744" y="7677"/>
                  <a:pt x="21853" y="7665"/>
                </a:cubicBezTo>
                <a:cubicBezTo>
                  <a:pt x="21939" y="7656"/>
                  <a:pt x="21988" y="7659"/>
                  <a:pt x="22076" y="7640"/>
                </a:cubicBezTo>
              </a:path>
              <a:path w="15578" h="3375">
                <a:moveTo>
                  <a:pt x="22547" y="6672"/>
                </a:moveTo>
                <a:cubicBezTo>
                  <a:pt x="22558" y="6759"/>
                  <a:pt x="22594" y="6830"/>
                  <a:pt x="22597" y="6921"/>
                </a:cubicBezTo>
                <a:cubicBezTo>
                  <a:pt x="22602" y="7054"/>
                  <a:pt x="22622" y="7181"/>
                  <a:pt x="22622" y="7317"/>
                </a:cubicBezTo>
                <a:cubicBezTo>
                  <a:pt x="22622" y="7495"/>
                  <a:pt x="22636" y="7661"/>
                  <a:pt x="22647" y="7838"/>
                </a:cubicBezTo>
                <a:cubicBezTo>
                  <a:pt x="22654" y="7955"/>
                  <a:pt x="22671" y="8069"/>
                  <a:pt x="22671" y="8186"/>
                </a:cubicBezTo>
                <a:cubicBezTo>
                  <a:pt x="22671" y="8227"/>
                  <a:pt x="22679" y="8243"/>
                  <a:pt x="22647" y="8235"/>
                </a:cubicBezTo>
              </a:path>
              <a:path w="15578" h="3375">
                <a:moveTo>
                  <a:pt x="22622" y="6300"/>
                </a:moveTo>
                <a:cubicBezTo>
                  <a:pt x="22694" y="6326"/>
                  <a:pt x="22753" y="6353"/>
                  <a:pt x="22820" y="6400"/>
                </a:cubicBezTo>
                <a:cubicBezTo>
                  <a:pt x="22956" y="6496"/>
                  <a:pt x="23083" y="6631"/>
                  <a:pt x="23168" y="6772"/>
                </a:cubicBezTo>
                <a:cubicBezTo>
                  <a:pt x="23253" y="6913"/>
                  <a:pt x="23345" y="7069"/>
                  <a:pt x="23416" y="7218"/>
                </a:cubicBezTo>
                <a:cubicBezTo>
                  <a:pt x="23505" y="7405"/>
                  <a:pt x="23583" y="7599"/>
                  <a:pt x="23664" y="7789"/>
                </a:cubicBezTo>
                <a:cubicBezTo>
                  <a:pt x="23727" y="7937"/>
                  <a:pt x="23773" y="8103"/>
                  <a:pt x="23713" y="8260"/>
                </a:cubicBezTo>
                <a:cubicBezTo>
                  <a:pt x="23665" y="8386"/>
                  <a:pt x="23570" y="8499"/>
                  <a:pt x="23465" y="8582"/>
                </a:cubicBezTo>
                <a:cubicBezTo>
                  <a:pt x="23358" y="8667"/>
                  <a:pt x="23266" y="8704"/>
                  <a:pt x="23168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544920" y="3438360"/>
            <a:ext cx="3170160" cy="776520"/>
          </a:xfrm>
          <a:custGeom>
            <a:avLst/>
            <a:gdLst/>
            <a:ahLst/>
            <a:rect l="l" t="t" r="r" b="b"/>
            <a:pathLst>
              <a:path w="8807" h="2159">
                <a:moveTo>
                  <a:pt x="10790" y="10567"/>
                </a:moveTo>
                <a:cubicBezTo>
                  <a:pt x="10754" y="10516"/>
                  <a:pt x="10749" y="10508"/>
                  <a:pt x="10691" y="10492"/>
                </a:cubicBezTo>
                <a:cubicBezTo>
                  <a:pt x="10644" y="10479"/>
                  <a:pt x="10603" y="10498"/>
                  <a:pt x="10567" y="10517"/>
                </a:cubicBezTo>
                <a:cubicBezTo>
                  <a:pt x="10502" y="10552"/>
                  <a:pt x="10437" y="10606"/>
                  <a:pt x="10393" y="10666"/>
                </a:cubicBezTo>
                <a:cubicBezTo>
                  <a:pt x="10339" y="10741"/>
                  <a:pt x="10283" y="10846"/>
                  <a:pt x="10269" y="10939"/>
                </a:cubicBezTo>
                <a:cubicBezTo>
                  <a:pt x="10254" y="11036"/>
                  <a:pt x="10266" y="11145"/>
                  <a:pt x="10294" y="11237"/>
                </a:cubicBezTo>
                <a:cubicBezTo>
                  <a:pt x="10332" y="11365"/>
                  <a:pt x="10355" y="11416"/>
                  <a:pt x="10468" y="11485"/>
                </a:cubicBezTo>
                <a:cubicBezTo>
                  <a:pt x="10531" y="11523"/>
                  <a:pt x="10643" y="11531"/>
                  <a:pt x="10716" y="11534"/>
                </a:cubicBezTo>
                <a:cubicBezTo>
                  <a:pt x="10783" y="11537"/>
                  <a:pt x="10875" y="11526"/>
                  <a:pt x="10939" y="11509"/>
                </a:cubicBezTo>
                <a:cubicBezTo>
                  <a:pt x="10955" y="11501"/>
                  <a:pt x="10972" y="11493"/>
                  <a:pt x="10988" y="11485"/>
                </a:cubicBezTo>
              </a:path>
              <a:path w="8807" h="2159">
                <a:moveTo>
                  <a:pt x="11311" y="10468"/>
                </a:moveTo>
                <a:cubicBezTo>
                  <a:pt x="11280" y="10506"/>
                  <a:pt x="11271" y="10551"/>
                  <a:pt x="11237" y="10592"/>
                </a:cubicBezTo>
                <a:cubicBezTo>
                  <a:pt x="11169" y="10674"/>
                  <a:pt x="11146" y="10761"/>
                  <a:pt x="11112" y="10864"/>
                </a:cubicBezTo>
                <a:cubicBezTo>
                  <a:pt x="11075" y="10978"/>
                  <a:pt x="11080" y="11078"/>
                  <a:pt x="11088" y="11187"/>
                </a:cubicBezTo>
                <a:cubicBezTo>
                  <a:pt x="11095" y="11285"/>
                  <a:pt x="11141" y="11344"/>
                  <a:pt x="11237" y="11385"/>
                </a:cubicBezTo>
                <a:cubicBezTo>
                  <a:pt x="11330" y="11425"/>
                  <a:pt x="11484" y="11428"/>
                  <a:pt x="11584" y="11410"/>
                </a:cubicBezTo>
                <a:cubicBezTo>
                  <a:pt x="11725" y="11385"/>
                  <a:pt x="11827" y="11326"/>
                  <a:pt x="11906" y="11212"/>
                </a:cubicBezTo>
                <a:cubicBezTo>
                  <a:pt x="11960" y="11134"/>
                  <a:pt x="11931" y="11021"/>
                  <a:pt x="11906" y="10939"/>
                </a:cubicBezTo>
                <a:cubicBezTo>
                  <a:pt x="11875" y="10835"/>
                  <a:pt x="11799" y="10772"/>
                  <a:pt x="11708" y="10716"/>
                </a:cubicBezTo>
                <a:cubicBezTo>
                  <a:pt x="11637" y="10672"/>
                  <a:pt x="11557" y="10665"/>
                  <a:pt x="11485" y="10641"/>
                </a:cubicBezTo>
                <a:cubicBezTo>
                  <a:pt x="11435" y="10616"/>
                  <a:pt x="11419" y="10608"/>
                  <a:pt x="11385" y="10592"/>
                </a:cubicBezTo>
              </a:path>
              <a:path w="8807" h="2159">
                <a:moveTo>
                  <a:pt x="11981" y="9996"/>
                </a:moveTo>
                <a:cubicBezTo>
                  <a:pt x="12013" y="10085"/>
                  <a:pt x="12035" y="10156"/>
                  <a:pt x="12055" y="10244"/>
                </a:cubicBezTo>
                <a:cubicBezTo>
                  <a:pt x="12082" y="10362"/>
                  <a:pt x="12119" y="10470"/>
                  <a:pt x="12129" y="10592"/>
                </a:cubicBezTo>
                <a:cubicBezTo>
                  <a:pt x="12139" y="10714"/>
                  <a:pt x="12162" y="10819"/>
                  <a:pt x="12179" y="10939"/>
                </a:cubicBezTo>
                <a:cubicBezTo>
                  <a:pt x="12192" y="11030"/>
                  <a:pt x="12207" y="11123"/>
                  <a:pt x="12229" y="11212"/>
                </a:cubicBezTo>
                <a:cubicBezTo>
                  <a:pt x="12248" y="11269"/>
                  <a:pt x="12257" y="11276"/>
                  <a:pt x="12254" y="11311"/>
                </a:cubicBezTo>
              </a:path>
              <a:path w="8807" h="2159">
                <a:moveTo>
                  <a:pt x="11807" y="10691"/>
                </a:moveTo>
                <a:cubicBezTo>
                  <a:pt x="11883" y="10682"/>
                  <a:pt x="11953" y="10649"/>
                  <a:pt x="12030" y="10641"/>
                </a:cubicBezTo>
                <a:cubicBezTo>
                  <a:pt x="12141" y="10630"/>
                  <a:pt x="12242" y="10597"/>
                  <a:pt x="12353" y="10592"/>
                </a:cubicBezTo>
                <a:cubicBezTo>
                  <a:pt x="12423" y="10589"/>
                  <a:pt x="12463" y="10572"/>
                  <a:pt x="12526" y="10567"/>
                </a:cubicBezTo>
                <a:cubicBezTo>
                  <a:pt x="12569" y="10563"/>
                  <a:pt x="12563" y="10580"/>
                  <a:pt x="12576" y="10542"/>
                </a:cubicBezTo>
              </a:path>
              <a:path w="8807" h="2159">
                <a:moveTo>
                  <a:pt x="12328" y="9575"/>
                </a:moveTo>
                <a:cubicBezTo>
                  <a:pt x="12398" y="9556"/>
                  <a:pt x="12449" y="9550"/>
                  <a:pt x="12526" y="9550"/>
                </a:cubicBezTo>
                <a:cubicBezTo>
                  <a:pt x="12617" y="9550"/>
                  <a:pt x="12716" y="9563"/>
                  <a:pt x="12799" y="9599"/>
                </a:cubicBezTo>
                <a:cubicBezTo>
                  <a:pt x="12882" y="9635"/>
                  <a:pt x="12887" y="9651"/>
                  <a:pt x="12923" y="9723"/>
                </a:cubicBezTo>
                <a:cubicBezTo>
                  <a:pt x="12956" y="9789"/>
                  <a:pt x="12948" y="9849"/>
                  <a:pt x="12948" y="9922"/>
                </a:cubicBezTo>
                <a:cubicBezTo>
                  <a:pt x="12948" y="10005"/>
                  <a:pt x="12937" y="10078"/>
                  <a:pt x="12973" y="10145"/>
                </a:cubicBezTo>
                <a:cubicBezTo>
                  <a:pt x="13014" y="10222"/>
                  <a:pt x="13088" y="10245"/>
                  <a:pt x="13171" y="10269"/>
                </a:cubicBezTo>
                <a:cubicBezTo>
                  <a:pt x="13301" y="10307"/>
                  <a:pt x="13436" y="10297"/>
                  <a:pt x="13568" y="10319"/>
                </a:cubicBezTo>
                <a:cubicBezTo>
                  <a:pt x="13658" y="10342"/>
                  <a:pt x="13682" y="10350"/>
                  <a:pt x="13742" y="10344"/>
                </a:cubicBezTo>
              </a:path>
              <a:path w="8807" h="2159">
                <a:moveTo>
                  <a:pt x="9897" y="10418"/>
                </a:moveTo>
                <a:cubicBezTo>
                  <a:pt x="9859" y="10541"/>
                  <a:pt x="9829" y="10660"/>
                  <a:pt x="9847" y="10790"/>
                </a:cubicBezTo>
                <a:cubicBezTo>
                  <a:pt x="9869" y="10946"/>
                  <a:pt x="9897" y="11093"/>
                  <a:pt x="9971" y="11237"/>
                </a:cubicBezTo>
                <a:cubicBezTo>
                  <a:pt x="10043" y="11377"/>
                  <a:pt x="10143" y="11454"/>
                  <a:pt x="10269" y="11534"/>
                </a:cubicBezTo>
                <a:cubicBezTo>
                  <a:pt x="10423" y="11632"/>
                  <a:pt x="10609" y="11685"/>
                  <a:pt x="10790" y="11708"/>
                </a:cubicBezTo>
                <a:cubicBezTo>
                  <a:pt x="10831" y="11708"/>
                  <a:pt x="10873" y="11708"/>
                  <a:pt x="10914" y="11708"/>
                </a:cubicBezTo>
              </a:path>
              <a:path w="8807" h="2159">
                <a:moveTo>
                  <a:pt x="14089" y="9575"/>
                </a:moveTo>
                <a:cubicBezTo>
                  <a:pt x="14136" y="9667"/>
                  <a:pt x="14185" y="9759"/>
                  <a:pt x="14238" y="9847"/>
                </a:cubicBezTo>
                <a:cubicBezTo>
                  <a:pt x="14311" y="9968"/>
                  <a:pt x="14373" y="10093"/>
                  <a:pt x="14436" y="10220"/>
                </a:cubicBezTo>
                <a:cubicBezTo>
                  <a:pt x="14514" y="10377"/>
                  <a:pt x="14555" y="10501"/>
                  <a:pt x="14585" y="10666"/>
                </a:cubicBezTo>
                <a:cubicBezTo>
                  <a:pt x="14628" y="10905"/>
                  <a:pt x="14517" y="11138"/>
                  <a:pt x="14436" y="11361"/>
                </a:cubicBezTo>
                <a:cubicBezTo>
                  <a:pt x="14428" y="11386"/>
                  <a:pt x="14420" y="11410"/>
                  <a:pt x="14412" y="11435"/>
                </a:cubicBezTo>
              </a:path>
              <a:path w="8807" h="2159">
                <a:moveTo>
                  <a:pt x="15776" y="9649"/>
                </a:moveTo>
                <a:cubicBezTo>
                  <a:pt x="15670" y="9793"/>
                  <a:pt x="15561" y="9938"/>
                  <a:pt x="15478" y="10096"/>
                </a:cubicBezTo>
                <a:cubicBezTo>
                  <a:pt x="15378" y="10286"/>
                  <a:pt x="15327" y="10458"/>
                  <a:pt x="15280" y="10666"/>
                </a:cubicBezTo>
                <a:cubicBezTo>
                  <a:pt x="15249" y="10804"/>
                  <a:pt x="15245" y="10925"/>
                  <a:pt x="15280" y="11063"/>
                </a:cubicBezTo>
                <a:cubicBezTo>
                  <a:pt x="15316" y="11205"/>
                  <a:pt x="15441" y="11301"/>
                  <a:pt x="15553" y="11385"/>
                </a:cubicBezTo>
                <a:cubicBezTo>
                  <a:pt x="15622" y="11432"/>
                  <a:pt x="15642" y="11444"/>
                  <a:pt x="15677" y="11485"/>
                </a:cubicBezTo>
              </a:path>
              <a:path w="8807" h="2159">
                <a:moveTo>
                  <a:pt x="16123" y="10443"/>
                </a:moveTo>
                <a:cubicBezTo>
                  <a:pt x="16077" y="10562"/>
                  <a:pt x="16017" y="10689"/>
                  <a:pt x="15999" y="10815"/>
                </a:cubicBezTo>
                <a:cubicBezTo>
                  <a:pt x="15990" y="10877"/>
                  <a:pt x="16005" y="10957"/>
                  <a:pt x="16024" y="11013"/>
                </a:cubicBezTo>
                <a:cubicBezTo>
                  <a:pt x="16045" y="11074"/>
                  <a:pt x="16115" y="11085"/>
                  <a:pt x="16173" y="11088"/>
                </a:cubicBezTo>
                <a:cubicBezTo>
                  <a:pt x="16264" y="11093"/>
                  <a:pt x="16341" y="11043"/>
                  <a:pt x="16396" y="10988"/>
                </a:cubicBezTo>
                <a:cubicBezTo>
                  <a:pt x="16459" y="10926"/>
                  <a:pt x="16512" y="10874"/>
                  <a:pt x="16545" y="10790"/>
                </a:cubicBezTo>
                <a:cubicBezTo>
                  <a:pt x="16574" y="10717"/>
                  <a:pt x="16588" y="10637"/>
                  <a:pt x="16545" y="10567"/>
                </a:cubicBezTo>
                <a:cubicBezTo>
                  <a:pt x="16512" y="10515"/>
                  <a:pt x="16432" y="10456"/>
                  <a:pt x="16371" y="10443"/>
                </a:cubicBezTo>
                <a:cubicBezTo>
                  <a:pt x="16308" y="10429"/>
                  <a:pt x="16274" y="10457"/>
                  <a:pt x="16222" y="10418"/>
                </a:cubicBezTo>
              </a:path>
              <a:path w="8807" h="2159">
                <a:moveTo>
                  <a:pt x="15577" y="10492"/>
                </a:moveTo>
                <a:cubicBezTo>
                  <a:pt x="15533" y="10596"/>
                  <a:pt x="15528" y="10632"/>
                  <a:pt x="15528" y="10740"/>
                </a:cubicBezTo>
                <a:cubicBezTo>
                  <a:pt x="15528" y="10799"/>
                  <a:pt x="15549" y="10834"/>
                  <a:pt x="15553" y="10889"/>
                </a:cubicBezTo>
                <a:cubicBezTo>
                  <a:pt x="15557" y="10956"/>
                  <a:pt x="15549" y="10996"/>
                  <a:pt x="15652" y="10988"/>
                </a:cubicBezTo>
                <a:cubicBezTo>
                  <a:pt x="15753" y="10980"/>
                  <a:pt x="15857" y="10927"/>
                  <a:pt x="15949" y="10889"/>
                </a:cubicBezTo>
              </a:path>
              <a:path w="8807" h="2159">
                <a:moveTo>
                  <a:pt x="16768" y="9996"/>
                </a:moveTo>
                <a:cubicBezTo>
                  <a:pt x="16768" y="10053"/>
                  <a:pt x="16777" y="10117"/>
                  <a:pt x="16793" y="10170"/>
                </a:cubicBezTo>
                <a:cubicBezTo>
                  <a:pt x="16821" y="10262"/>
                  <a:pt x="16854" y="10370"/>
                  <a:pt x="16867" y="10468"/>
                </a:cubicBezTo>
                <a:cubicBezTo>
                  <a:pt x="16882" y="10582"/>
                  <a:pt x="16905" y="10700"/>
                  <a:pt x="16917" y="10815"/>
                </a:cubicBezTo>
                <a:cubicBezTo>
                  <a:pt x="16926" y="10903"/>
                  <a:pt x="16960" y="10978"/>
                  <a:pt x="16966" y="11063"/>
                </a:cubicBezTo>
                <a:cubicBezTo>
                  <a:pt x="16966" y="11091"/>
                  <a:pt x="16968" y="11102"/>
                  <a:pt x="16991" y="11112"/>
                </a:cubicBezTo>
              </a:path>
              <a:path w="8807" h="2159">
                <a:moveTo>
                  <a:pt x="16570" y="10666"/>
                </a:moveTo>
                <a:cubicBezTo>
                  <a:pt x="16700" y="10679"/>
                  <a:pt x="16811" y="10666"/>
                  <a:pt x="16942" y="10666"/>
                </a:cubicBezTo>
                <a:cubicBezTo>
                  <a:pt x="17004" y="10666"/>
                  <a:pt x="17220" y="10688"/>
                  <a:pt x="17190" y="10641"/>
                </a:cubicBezTo>
              </a:path>
              <a:path w="8807" h="2159">
                <a:moveTo>
                  <a:pt x="17115" y="9897"/>
                </a:moveTo>
                <a:cubicBezTo>
                  <a:pt x="17260" y="9897"/>
                  <a:pt x="17399" y="9900"/>
                  <a:pt x="17537" y="9922"/>
                </a:cubicBezTo>
                <a:cubicBezTo>
                  <a:pt x="17629" y="9937"/>
                  <a:pt x="17674" y="10005"/>
                  <a:pt x="17587" y="10071"/>
                </a:cubicBezTo>
                <a:cubicBezTo>
                  <a:pt x="17524" y="10118"/>
                  <a:pt x="17487" y="10161"/>
                  <a:pt x="17438" y="10220"/>
                </a:cubicBezTo>
                <a:cubicBezTo>
                  <a:pt x="17415" y="10242"/>
                  <a:pt x="17407" y="10247"/>
                  <a:pt x="17413" y="10269"/>
                </a:cubicBezTo>
                <a:cubicBezTo>
                  <a:pt x="17480" y="10323"/>
                  <a:pt x="17509" y="10305"/>
                  <a:pt x="17587" y="10319"/>
                </a:cubicBezTo>
                <a:cubicBezTo>
                  <a:pt x="17734" y="10345"/>
                  <a:pt x="17884" y="10362"/>
                  <a:pt x="18033" y="10368"/>
                </a:cubicBezTo>
                <a:cubicBezTo>
                  <a:pt x="18085" y="10368"/>
                  <a:pt x="18103" y="10369"/>
                  <a:pt x="18132" y="10393"/>
                </a:cubicBezTo>
              </a:path>
              <a:path w="8807" h="2159">
                <a:moveTo>
                  <a:pt x="17835" y="9550"/>
                </a:moveTo>
                <a:cubicBezTo>
                  <a:pt x="17885" y="9575"/>
                  <a:pt x="17929" y="9591"/>
                  <a:pt x="17983" y="9624"/>
                </a:cubicBezTo>
                <a:cubicBezTo>
                  <a:pt x="18043" y="9661"/>
                  <a:pt x="18105" y="9699"/>
                  <a:pt x="18157" y="9748"/>
                </a:cubicBezTo>
                <a:cubicBezTo>
                  <a:pt x="18241" y="9827"/>
                  <a:pt x="18311" y="9929"/>
                  <a:pt x="18380" y="10021"/>
                </a:cubicBezTo>
                <a:cubicBezTo>
                  <a:pt x="18493" y="10171"/>
                  <a:pt x="18573" y="10309"/>
                  <a:pt x="18628" y="10492"/>
                </a:cubicBezTo>
                <a:cubicBezTo>
                  <a:pt x="18668" y="10625"/>
                  <a:pt x="18654" y="10760"/>
                  <a:pt x="18604" y="10889"/>
                </a:cubicBezTo>
                <a:cubicBezTo>
                  <a:pt x="18555" y="11014"/>
                  <a:pt x="18475" y="11148"/>
                  <a:pt x="18405" y="11261"/>
                </a:cubicBezTo>
                <a:cubicBezTo>
                  <a:pt x="18356" y="11340"/>
                  <a:pt x="18313" y="11414"/>
                  <a:pt x="18256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53000" y="4367160"/>
            <a:ext cx="2062080" cy="642960"/>
          </a:xfrm>
          <a:custGeom>
            <a:avLst/>
            <a:gdLst/>
            <a:ahLst/>
            <a:rect l="l" t="t" r="r" b="b"/>
            <a:pathLst>
              <a:path w="5731" h="1787">
                <a:moveTo>
                  <a:pt x="13643" y="12923"/>
                </a:moveTo>
                <a:cubicBezTo>
                  <a:pt x="13635" y="12868"/>
                  <a:pt x="13620" y="12833"/>
                  <a:pt x="13568" y="12799"/>
                </a:cubicBezTo>
                <a:cubicBezTo>
                  <a:pt x="13532" y="12776"/>
                  <a:pt x="13491" y="12776"/>
                  <a:pt x="13444" y="12774"/>
                </a:cubicBezTo>
                <a:cubicBezTo>
                  <a:pt x="13371" y="12770"/>
                  <a:pt x="13310" y="12817"/>
                  <a:pt x="13246" y="12849"/>
                </a:cubicBezTo>
                <a:cubicBezTo>
                  <a:pt x="13133" y="12906"/>
                  <a:pt x="13069" y="13008"/>
                  <a:pt x="13022" y="13122"/>
                </a:cubicBezTo>
                <a:cubicBezTo>
                  <a:pt x="12987" y="13207"/>
                  <a:pt x="12940" y="13305"/>
                  <a:pt x="12923" y="13395"/>
                </a:cubicBezTo>
                <a:cubicBezTo>
                  <a:pt x="12912" y="13455"/>
                  <a:pt x="12919" y="13593"/>
                  <a:pt x="12948" y="13643"/>
                </a:cubicBezTo>
                <a:cubicBezTo>
                  <a:pt x="13001" y="13734"/>
                  <a:pt x="13061" y="13742"/>
                  <a:pt x="13146" y="13791"/>
                </a:cubicBezTo>
                <a:cubicBezTo>
                  <a:pt x="13234" y="13842"/>
                  <a:pt x="13318" y="13879"/>
                  <a:pt x="13419" y="13891"/>
                </a:cubicBezTo>
                <a:cubicBezTo>
                  <a:pt x="13473" y="13897"/>
                  <a:pt x="13593" y="13926"/>
                  <a:pt x="13643" y="13915"/>
                </a:cubicBezTo>
                <a:cubicBezTo>
                  <a:pt x="13686" y="13894"/>
                  <a:pt x="13698" y="13890"/>
                  <a:pt x="13717" y="13866"/>
                </a:cubicBezTo>
              </a:path>
              <a:path w="5731" h="1787">
                <a:moveTo>
                  <a:pt x="13965" y="12973"/>
                </a:moveTo>
                <a:cubicBezTo>
                  <a:pt x="13915" y="13002"/>
                  <a:pt x="13843" y="13043"/>
                  <a:pt x="13816" y="13097"/>
                </a:cubicBezTo>
                <a:cubicBezTo>
                  <a:pt x="13771" y="13186"/>
                  <a:pt x="13763" y="13280"/>
                  <a:pt x="13742" y="13370"/>
                </a:cubicBezTo>
                <a:cubicBezTo>
                  <a:pt x="13723" y="13451"/>
                  <a:pt x="13694" y="13557"/>
                  <a:pt x="13717" y="13643"/>
                </a:cubicBezTo>
                <a:cubicBezTo>
                  <a:pt x="13734" y="13707"/>
                  <a:pt x="13789" y="13801"/>
                  <a:pt x="13841" y="13841"/>
                </a:cubicBezTo>
                <a:cubicBezTo>
                  <a:pt x="13911" y="13894"/>
                  <a:pt x="13991" y="13873"/>
                  <a:pt x="14064" y="13866"/>
                </a:cubicBezTo>
                <a:cubicBezTo>
                  <a:pt x="14166" y="13856"/>
                  <a:pt x="14251" y="13802"/>
                  <a:pt x="14312" y="13717"/>
                </a:cubicBezTo>
                <a:cubicBezTo>
                  <a:pt x="14351" y="13662"/>
                  <a:pt x="14402" y="13560"/>
                  <a:pt x="14412" y="13494"/>
                </a:cubicBezTo>
                <a:cubicBezTo>
                  <a:pt x="14430" y="13378"/>
                  <a:pt x="14403" y="13311"/>
                  <a:pt x="14362" y="13221"/>
                </a:cubicBezTo>
                <a:cubicBezTo>
                  <a:pt x="14314" y="13116"/>
                  <a:pt x="14270" y="13055"/>
                  <a:pt x="14188" y="12973"/>
                </a:cubicBezTo>
                <a:cubicBezTo>
                  <a:pt x="14113" y="12898"/>
                  <a:pt x="14056" y="12879"/>
                  <a:pt x="13965" y="12849"/>
                </a:cubicBezTo>
                <a:cubicBezTo>
                  <a:pt x="13925" y="12829"/>
                  <a:pt x="13918" y="12820"/>
                  <a:pt x="13891" y="12824"/>
                </a:cubicBezTo>
              </a:path>
              <a:path w="5731" h="1787">
                <a:moveTo>
                  <a:pt x="14387" y="12179"/>
                </a:moveTo>
                <a:cubicBezTo>
                  <a:pt x="14456" y="12259"/>
                  <a:pt x="14455" y="12303"/>
                  <a:pt x="14486" y="12402"/>
                </a:cubicBezTo>
                <a:cubicBezTo>
                  <a:pt x="14519" y="12510"/>
                  <a:pt x="14549" y="12613"/>
                  <a:pt x="14560" y="12725"/>
                </a:cubicBezTo>
                <a:cubicBezTo>
                  <a:pt x="14571" y="12840"/>
                  <a:pt x="14560" y="12959"/>
                  <a:pt x="14585" y="13072"/>
                </a:cubicBezTo>
                <a:cubicBezTo>
                  <a:pt x="14600" y="13143"/>
                  <a:pt x="14653" y="13201"/>
                  <a:pt x="14660" y="13271"/>
                </a:cubicBezTo>
                <a:cubicBezTo>
                  <a:pt x="14664" y="13310"/>
                  <a:pt x="14684" y="13290"/>
                  <a:pt x="14684" y="13345"/>
                </a:cubicBezTo>
              </a:path>
              <a:path w="5731" h="1787">
                <a:moveTo>
                  <a:pt x="14163" y="12725"/>
                </a:moveTo>
                <a:cubicBezTo>
                  <a:pt x="14236" y="12725"/>
                  <a:pt x="14289" y="12704"/>
                  <a:pt x="14362" y="12700"/>
                </a:cubicBezTo>
                <a:cubicBezTo>
                  <a:pt x="14502" y="12693"/>
                  <a:pt x="14711" y="12724"/>
                  <a:pt x="14808" y="12675"/>
                </a:cubicBezTo>
                <a:cubicBezTo>
                  <a:pt x="14816" y="12675"/>
                  <a:pt x="14825" y="12675"/>
                  <a:pt x="14833" y="12675"/>
                </a:cubicBezTo>
              </a:path>
              <a:path w="5731" h="1787">
                <a:moveTo>
                  <a:pt x="15007" y="12129"/>
                </a:moveTo>
                <a:cubicBezTo>
                  <a:pt x="15007" y="12176"/>
                  <a:pt x="14990" y="12192"/>
                  <a:pt x="14982" y="12229"/>
                </a:cubicBezTo>
                <a:cubicBezTo>
                  <a:pt x="14970" y="12286"/>
                  <a:pt x="14976" y="12347"/>
                  <a:pt x="14957" y="12402"/>
                </a:cubicBezTo>
                <a:cubicBezTo>
                  <a:pt x="14939" y="12456"/>
                  <a:pt x="14932" y="12471"/>
                  <a:pt x="14932" y="12526"/>
                </a:cubicBezTo>
                <a:cubicBezTo>
                  <a:pt x="14932" y="12597"/>
                  <a:pt x="15005" y="12576"/>
                  <a:pt x="15056" y="12576"/>
                </a:cubicBezTo>
                <a:cubicBezTo>
                  <a:pt x="15137" y="12576"/>
                  <a:pt x="15205" y="12563"/>
                  <a:pt x="15280" y="12551"/>
                </a:cubicBezTo>
                <a:cubicBezTo>
                  <a:pt x="15320" y="12545"/>
                  <a:pt x="15405" y="12540"/>
                  <a:pt x="15429" y="12502"/>
                </a:cubicBezTo>
                <a:cubicBezTo>
                  <a:pt x="15429" y="12477"/>
                  <a:pt x="15429" y="12469"/>
                  <a:pt x="15429" y="12452"/>
                </a:cubicBezTo>
              </a:path>
              <a:path w="5731" h="1787">
                <a:moveTo>
                  <a:pt x="15280" y="12129"/>
                </a:moveTo>
                <a:cubicBezTo>
                  <a:pt x="15316" y="12279"/>
                  <a:pt x="15339" y="12424"/>
                  <a:pt x="15354" y="12576"/>
                </a:cubicBezTo>
                <a:cubicBezTo>
                  <a:pt x="15363" y="12669"/>
                  <a:pt x="15379" y="12754"/>
                  <a:pt x="15379" y="12849"/>
                </a:cubicBezTo>
                <a:cubicBezTo>
                  <a:pt x="15379" y="12865"/>
                  <a:pt x="15379" y="12882"/>
                  <a:pt x="15379" y="12898"/>
                </a:cubicBezTo>
              </a:path>
              <a:path w="5731" h="1787">
                <a:moveTo>
                  <a:pt x="15701" y="13196"/>
                </a:moveTo>
                <a:cubicBezTo>
                  <a:pt x="15640" y="13196"/>
                  <a:pt x="15779" y="13172"/>
                  <a:pt x="15801" y="13171"/>
                </a:cubicBezTo>
                <a:cubicBezTo>
                  <a:pt x="15951" y="13163"/>
                  <a:pt x="16098" y="13158"/>
                  <a:pt x="16247" y="13146"/>
                </a:cubicBezTo>
                <a:cubicBezTo>
                  <a:pt x="16304" y="13141"/>
                  <a:pt x="16380" y="13169"/>
                  <a:pt x="16396" y="13122"/>
                </a:cubicBezTo>
              </a:path>
              <a:path w="5731" h="1787">
                <a:moveTo>
                  <a:pt x="15677" y="13494"/>
                </a:moveTo>
                <a:cubicBezTo>
                  <a:pt x="15765" y="13518"/>
                  <a:pt x="15833" y="13519"/>
                  <a:pt x="15925" y="13519"/>
                </a:cubicBezTo>
                <a:cubicBezTo>
                  <a:pt x="15999" y="13519"/>
                  <a:pt x="16106" y="13549"/>
                  <a:pt x="16173" y="13543"/>
                </a:cubicBezTo>
                <a:cubicBezTo>
                  <a:pt x="16238" y="13537"/>
                  <a:pt x="16300" y="13519"/>
                  <a:pt x="16371" y="13519"/>
                </a:cubicBezTo>
                <a:cubicBezTo>
                  <a:pt x="16406" y="13519"/>
                  <a:pt x="16424" y="13514"/>
                  <a:pt x="16446" y="13494"/>
                </a:cubicBezTo>
              </a:path>
              <a:path w="5731" h="1787">
                <a:moveTo>
                  <a:pt x="17140" y="12973"/>
                </a:moveTo>
                <a:cubicBezTo>
                  <a:pt x="17140" y="12965"/>
                  <a:pt x="17140" y="12956"/>
                  <a:pt x="17140" y="12948"/>
                </a:cubicBezTo>
                <a:cubicBezTo>
                  <a:pt x="17105" y="12960"/>
                  <a:pt x="17108" y="12995"/>
                  <a:pt x="17066" y="13022"/>
                </a:cubicBezTo>
                <a:cubicBezTo>
                  <a:pt x="16989" y="13072"/>
                  <a:pt x="16888" y="13192"/>
                  <a:pt x="16842" y="13271"/>
                </a:cubicBezTo>
                <a:cubicBezTo>
                  <a:pt x="16793" y="13353"/>
                  <a:pt x="16793" y="13451"/>
                  <a:pt x="16793" y="13543"/>
                </a:cubicBezTo>
                <a:cubicBezTo>
                  <a:pt x="16793" y="13619"/>
                  <a:pt x="16830" y="13695"/>
                  <a:pt x="16892" y="13742"/>
                </a:cubicBezTo>
                <a:cubicBezTo>
                  <a:pt x="16948" y="13785"/>
                  <a:pt x="17004" y="13816"/>
                  <a:pt x="17066" y="13841"/>
                </a:cubicBezTo>
                <a:cubicBezTo>
                  <a:pt x="17099" y="13854"/>
                  <a:pt x="17174" y="13888"/>
                  <a:pt x="17214" y="13866"/>
                </a:cubicBezTo>
                <a:cubicBezTo>
                  <a:pt x="17242" y="13850"/>
                  <a:pt x="17257" y="13794"/>
                  <a:pt x="17264" y="13767"/>
                </a:cubicBezTo>
              </a:path>
              <a:path w="5731" h="1787">
                <a:moveTo>
                  <a:pt x="17462" y="13022"/>
                </a:moveTo>
                <a:cubicBezTo>
                  <a:pt x="17391" y="13094"/>
                  <a:pt x="17357" y="13133"/>
                  <a:pt x="17314" y="13221"/>
                </a:cubicBezTo>
                <a:cubicBezTo>
                  <a:pt x="17290" y="13269"/>
                  <a:pt x="17263" y="13390"/>
                  <a:pt x="17289" y="13444"/>
                </a:cubicBezTo>
                <a:cubicBezTo>
                  <a:pt x="17361" y="13597"/>
                  <a:pt x="17382" y="13705"/>
                  <a:pt x="17537" y="13717"/>
                </a:cubicBezTo>
                <a:cubicBezTo>
                  <a:pt x="17624" y="13724"/>
                  <a:pt x="17614" y="13705"/>
                  <a:pt x="17661" y="13643"/>
                </a:cubicBezTo>
                <a:cubicBezTo>
                  <a:pt x="17705" y="13586"/>
                  <a:pt x="17731" y="13542"/>
                  <a:pt x="17735" y="13469"/>
                </a:cubicBezTo>
                <a:cubicBezTo>
                  <a:pt x="17741" y="13364"/>
                  <a:pt x="17688" y="13323"/>
                  <a:pt x="17636" y="13246"/>
                </a:cubicBezTo>
                <a:cubicBezTo>
                  <a:pt x="17590" y="13177"/>
                  <a:pt x="17546" y="13150"/>
                  <a:pt x="17487" y="13097"/>
                </a:cubicBezTo>
                <a:cubicBezTo>
                  <a:pt x="17479" y="13089"/>
                  <a:pt x="17470" y="13080"/>
                  <a:pt x="17462" y="13072"/>
                </a:cubicBezTo>
              </a:path>
              <a:path w="5731" h="1787">
                <a:moveTo>
                  <a:pt x="17785" y="12626"/>
                </a:moveTo>
                <a:cubicBezTo>
                  <a:pt x="17848" y="12813"/>
                  <a:pt x="17854" y="12950"/>
                  <a:pt x="17884" y="13146"/>
                </a:cubicBezTo>
                <a:cubicBezTo>
                  <a:pt x="17910" y="13315"/>
                  <a:pt x="17979" y="13476"/>
                  <a:pt x="18008" y="13643"/>
                </a:cubicBezTo>
                <a:cubicBezTo>
                  <a:pt x="18016" y="13689"/>
                  <a:pt x="18008" y="13745"/>
                  <a:pt x="18008" y="13791"/>
                </a:cubicBezTo>
              </a:path>
              <a:path w="5731" h="1787">
                <a:moveTo>
                  <a:pt x="17537" y="13097"/>
                </a:moveTo>
                <a:cubicBezTo>
                  <a:pt x="17666" y="13097"/>
                  <a:pt x="17784" y="13108"/>
                  <a:pt x="17909" y="13122"/>
                </a:cubicBezTo>
                <a:cubicBezTo>
                  <a:pt x="17982" y="13130"/>
                  <a:pt x="18059" y="13122"/>
                  <a:pt x="18132" y="13122"/>
                </a:cubicBezTo>
              </a:path>
              <a:path w="5731" h="1787">
                <a:moveTo>
                  <a:pt x="18107" y="12427"/>
                </a:moveTo>
                <a:cubicBezTo>
                  <a:pt x="18124" y="12490"/>
                  <a:pt x="18146" y="12571"/>
                  <a:pt x="18157" y="12626"/>
                </a:cubicBezTo>
                <a:cubicBezTo>
                  <a:pt x="18170" y="12690"/>
                  <a:pt x="18178" y="12744"/>
                  <a:pt x="18207" y="12799"/>
                </a:cubicBezTo>
                <a:cubicBezTo>
                  <a:pt x="18228" y="12840"/>
                  <a:pt x="18232" y="12901"/>
                  <a:pt x="18281" y="12923"/>
                </a:cubicBezTo>
                <a:cubicBezTo>
                  <a:pt x="18329" y="12944"/>
                  <a:pt x="18395" y="12908"/>
                  <a:pt x="18430" y="12898"/>
                </a:cubicBezTo>
                <a:cubicBezTo>
                  <a:pt x="18499" y="12877"/>
                  <a:pt x="18562" y="12918"/>
                  <a:pt x="18628" y="12874"/>
                </a:cubicBezTo>
                <a:cubicBezTo>
                  <a:pt x="18651" y="12851"/>
                  <a:pt x="18659" y="12847"/>
                  <a:pt x="18653" y="12824"/>
                </a:cubicBezTo>
              </a:path>
              <a:path w="5731" h="1787">
                <a:moveTo>
                  <a:pt x="18405" y="12601"/>
                </a:moveTo>
                <a:cubicBezTo>
                  <a:pt x="18458" y="12744"/>
                  <a:pt x="18498" y="12848"/>
                  <a:pt x="18504" y="12998"/>
                </a:cubicBezTo>
                <a:cubicBezTo>
                  <a:pt x="18507" y="13072"/>
                  <a:pt x="18504" y="13147"/>
                  <a:pt x="18504" y="132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4599000"/>
            <a:ext cx="901800" cy="714240"/>
          </a:xfrm>
          <a:custGeom>
            <a:avLst/>
            <a:gdLst/>
            <a:ahLst/>
            <a:rect l="l" t="t" r="r" b="b"/>
            <a:pathLst>
              <a:path w="2506" h="1986">
                <a:moveTo>
                  <a:pt x="6722" y="14139"/>
                </a:moveTo>
                <a:cubicBezTo>
                  <a:pt x="6736" y="14123"/>
                  <a:pt x="6771" y="14096"/>
                  <a:pt x="6796" y="14064"/>
                </a:cubicBezTo>
                <a:cubicBezTo>
                  <a:pt x="6858" y="13984"/>
                  <a:pt x="6915" y="13903"/>
                  <a:pt x="6970" y="13816"/>
                </a:cubicBezTo>
                <a:cubicBezTo>
                  <a:pt x="7041" y="13704"/>
                  <a:pt x="7135" y="13588"/>
                  <a:pt x="7193" y="13469"/>
                </a:cubicBezTo>
                <a:cubicBezTo>
                  <a:pt x="7227" y="13398"/>
                  <a:pt x="7308" y="13295"/>
                  <a:pt x="7317" y="13221"/>
                </a:cubicBezTo>
                <a:cubicBezTo>
                  <a:pt x="7317" y="13193"/>
                  <a:pt x="7315" y="13182"/>
                  <a:pt x="7293" y="13171"/>
                </a:cubicBezTo>
                <a:cubicBezTo>
                  <a:pt x="7196" y="13217"/>
                  <a:pt x="7104" y="13250"/>
                  <a:pt x="7020" y="13320"/>
                </a:cubicBezTo>
                <a:cubicBezTo>
                  <a:pt x="6884" y="13434"/>
                  <a:pt x="6765" y="13539"/>
                  <a:pt x="6672" y="13692"/>
                </a:cubicBezTo>
                <a:cubicBezTo>
                  <a:pt x="6607" y="13799"/>
                  <a:pt x="6572" y="13883"/>
                  <a:pt x="6524" y="13990"/>
                </a:cubicBezTo>
                <a:cubicBezTo>
                  <a:pt x="6567" y="14024"/>
                  <a:pt x="6589" y="14053"/>
                  <a:pt x="6648" y="14064"/>
                </a:cubicBezTo>
                <a:cubicBezTo>
                  <a:pt x="6713" y="14076"/>
                  <a:pt x="6790" y="14077"/>
                  <a:pt x="6846" y="14089"/>
                </a:cubicBezTo>
                <a:cubicBezTo>
                  <a:pt x="6835" y="14154"/>
                  <a:pt x="6815" y="14233"/>
                  <a:pt x="6747" y="14312"/>
                </a:cubicBezTo>
                <a:cubicBezTo>
                  <a:pt x="6658" y="14417"/>
                  <a:pt x="6532" y="14522"/>
                  <a:pt x="6499" y="14660"/>
                </a:cubicBezTo>
                <a:cubicBezTo>
                  <a:pt x="6494" y="14683"/>
                  <a:pt x="6501" y="14711"/>
                  <a:pt x="6499" y="14734"/>
                </a:cubicBezTo>
                <a:cubicBezTo>
                  <a:pt x="6535" y="14743"/>
                  <a:pt x="6552" y="14757"/>
                  <a:pt x="6598" y="14759"/>
                </a:cubicBezTo>
                <a:cubicBezTo>
                  <a:pt x="6669" y="14762"/>
                  <a:pt x="6710" y="14742"/>
                  <a:pt x="6772" y="14709"/>
                </a:cubicBezTo>
                <a:cubicBezTo>
                  <a:pt x="6869" y="14657"/>
                  <a:pt x="6961" y="14608"/>
                  <a:pt x="7045" y="14536"/>
                </a:cubicBezTo>
                <a:cubicBezTo>
                  <a:pt x="7132" y="14461"/>
                  <a:pt x="7210" y="14388"/>
                  <a:pt x="7293" y="14312"/>
                </a:cubicBezTo>
                <a:cubicBezTo>
                  <a:pt x="7394" y="14219"/>
                  <a:pt x="7457" y="14095"/>
                  <a:pt x="7541" y="13990"/>
                </a:cubicBezTo>
                <a:cubicBezTo>
                  <a:pt x="7549" y="13982"/>
                  <a:pt x="7557" y="13973"/>
                  <a:pt x="7565" y="13965"/>
                </a:cubicBezTo>
                <a:cubicBezTo>
                  <a:pt x="7544" y="14012"/>
                  <a:pt x="7515" y="14041"/>
                  <a:pt x="7491" y="14089"/>
                </a:cubicBezTo>
                <a:cubicBezTo>
                  <a:pt x="7450" y="14171"/>
                  <a:pt x="7468" y="14108"/>
                  <a:pt x="7516" y="14089"/>
                </a:cubicBezTo>
                <a:cubicBezTo>
                  <a:pt x="7556" y="14073"/>
                  <a:pt x="7602" y="14054"/>
                  <a:pt x="7640" y="14039"/>
                </a:cubicBezTo>
                <a:cubicBezTo>
                  <a:pt x="7648" y="14039"/>
                  <a:pt x="7657" y="14039"/>
                  <a:pt x="7665" y="14039"/>
                </a:cubicBezTo>
                <a:cubicBezTo>
                  <a:pt x="7660" y="14099"/>
                  <a:pt x="7645" y="14158"/>
                  <a:pt x="7640" y="14213"/>
                </a:cubicBezTo>
                <a:cubicBezTo>
                  <a:pt x="7634" y="14275"/>
                  <a:pt x="7629" y="14306"/>
                  <a:pt x="7615" y="14362"/>
                </a:cubicBezTo>
                <a:cubicBezTo>
                  <a:pt x="7651" y="14341"/>
                  <a:pt x="7705" y="14330"/>
                  <a:pt x="7739" y="14312"/>
                </a:cubicBezTo>
                <a:cubicBezTo>
                  <a:pt x="7771" y="14295"/>
                  <a:pt x="7848" y="14251"/>
                  <a:pt x="7863" y="14213"/>
                </a:cubicBezTo>
                <a:cubicBezTo>
                  <a:pt x="7884" y="14159"/>
                  <a:pt x="7893" y="14076"/>
                  <a:pt x="7913" y="14015"/>
                </a:cubicBezTo>
                <a:cubicBezTo>
                  <a:pt x="7946" y="13912"/>
                  <a:pt x="7969" y="13789"/>
                  <a:pt x="8012" y="13692"/>
                </a:cubicBezTo>
                <a:cubicBezTo>
                  <a:pt x="8106" y="13477"/>
                  <a:pt x="8213" y="13273"/>
                  <a:pt x="8334" y="13072"/>
                </a:cubicBezTo>
                <a:cubicBezTo>
                  <a:pt x="8394" y="12973"/>
                  <a:pt x="8451" y="12870"/>
                  <a:pt x="8508" y="12774"/>
                </a:cubicBezTo>
                <a:cubicBezTo>
                  <a:pt x="8500" y="12791"/>
                  <a:pt x="8491" y="12807"/>
                  <a:pt x="8483" y="12824"/>
                </a:cubicBezTo>
                <a:cubicBezTo>
                  <a:pt x="8416" y="12999"/>
                  <a:pt x="8313" y="13164"/>
                  <a:pt x="8260" y="13345"/>
                </a:cubicBezTo>
                <a:cubicBezTo>
                  <a:pt x="8224" y="13470"/>
                  <a:pt x="8142" y="13725"/>
                  <a:pt x="8285" y="13816"/>
                </a:cubicBezTo>
                <a:cubicBezTo>
                  <a:pt x="8395" y="13886"/>
                  <a:pt x="8515" y="13864"/>
                  <a:pt x="8632" y="13841"/>
                </a:cubicBezTo>
                <a:cubicBezTo>
                  <a:pt x="8739" y="13820"/>
                  <a:pt x="8868" y="13767"/>
                  <a:pt x="8979" y="13791"/>
                </a:cubicBezTo>
                <a:cubicBezTo>
                  <a:pt x="9063" y="13809"/>
                  <a:pt x="8921" y="13834"/>
                  <a:pt x="8905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455920" y="5062680"/>
            <a:ext cx="1268280" cy="741240"/>
          </a:xfrm>
          <a:custGeom>
            <a:avLst/>
            <a:gdLst/>
            <a:ahLst/>
            <a:rect l="l" t="t" r="r" b="b"/>
            <a:pathLst>
              <a:path w="3524" h="2060">
                <a:moveTo>
                  <a:pt x="6846" y="15701"/>
                </a:moveTo>
                <a:cubicBezTo>
                  <a:pt x="6899" y="15631"/>
                  <a:pt x="6945" y="15567"/>
                  <a:pt x="6995" y="15503"/>
                </a:cubicBezTo>
                <a:cubicBezTo>
                  <a:pt x="7077" y="15398"/>
                  <a:pt x="7142" y="15290"/>
                  <a:pt x="7218" y="15180"/>
                </a:cubicBezTo>
                <a:cubicBezTo>
                  <a:pt x="7317" y="15035"/>
                  <a:pt x="7433" y="14900"/>
                  <a:pt x="7565" y="14784"/>
                </a:cubicBezTo>
                <a:cubicBezTo>
                  <a:pt x="7729" y="14640"/>
                  <a:pt x="7891" y="14495"/>
                  <a:pt x="8037" y="14337"/>
                </a:cubicBezTo>
                <a:cubicBezTo>
                  <a:pt x="8085" y="14286"/>
                  <a:pt x="8177" y="14207"/>
                  <a:pt x="8210" y="14163"/>
                </a:cubicBezTo>
                <a:cubicBezTo>
                  <a:pt x="8210" y="14155"/>
                  <a:pt x="8210" y="14147"/>
                  <a:pt x="8210" y="14139"/>
                </a:cubicBezTo>
                <a:cubicBezTo>
                  <a:pt x="8091" y="14201"/>
                  <a:pt x="7954" y="14259"/>
                  <a:pt x="7838" y="14337"/>
                </a:cubicBezTo>
                <a:cubicBezTo>
                  <a:pt x="7601" y="14496"/>
                  <a:pt x="7356" y="14666"/>
                  <a:pt x="7144" y="14858"/>
                </a:cubicBezTo>
                <a:cubicBezTo>
                  <a:pt x="7031" y="14960"/>
                  <a:pt x="6906" y="15067"/>
                  <a:pt x="6846" y="15205"/>
                </a:cubicBezTo>
                <a:cubicBezTo>
                  <a:pt x="6816" y="15235"/>
                  <a:pt x="6811" y="15249"/>
                  <a:pt x="6846" y="15280"/>
                </a:cubicBezTo>
                <a:cubicBezTo>
                  <a:pt x="6972" y="15267"/>
                  <a:pt x="7067" y="15237"/>
                  <a:pt x="7193" y="15205"/>
                </a:cubicBezTo>
                <a:cubicBezTo>
                  <a:pt x="7331" y="15169"/>
                  <a:pt x="7448" y="15158"/>
                  <a:pt x="7590" y="15156"/>
                </a:cubicBezTo>
                <a:cubicBezTo>
                  <a:pt x="7655" y="15155"/>
                  <a:pt x="7713" y="15172"/>
                  <a:pt x="7764" y="15180"/>
                </a:cubicBezTo>
                <a:cubicBezTo>
                  <a:pt x="7718" y="15348"/>
                  <a:pt x="7766" y="15294"/>
                  <a:pt x="7615" y="15478"/>
                </a:cubicBezTo>
                <a:cubicBezTo>
                  <a:pt x="7561" y="15544"/>
                  <a:pt x="7489" y="15638"/>
                  <a:pt x="7441" y="15701"/>
                </a:cubicBezTo>
                <a:cubicBezTo>
                  <a:pt x="7492" y="15662"/>
                  <a:pt x="7534" y="15625"/>
                  <a:pt x="7590" y="15577"/>
                </a:cubicBezTo>
                <a:cubicBezTo>
                  <a:pt x="7681" y="15500"/>
                  <a:pt x="7771" y="15430"/>
                  <a:pt x="7838" y="15329"/>
                </a:cubicBezTo>
                <a:cubicBezTo>
                  <a:pt x="7861" y="15294"/>
                  <a:pt x="7947" y="15126"/>
                  <a:pt x="7987" y="15106"/>
                </a:cubicBezTo>
                <a:cubicBezTo>
                  <a:pt x="7987" y="15131"/>
                  <a:pt x="7987" y="15139"/>
                  <a:pt x="7987" y="15156"/>
                </a:cubicBezTo>
                <a:cubicBezTo>
                  <a:pt x="7952" y="15176"/>
                  <a:pt x="7921" y="15237"/>
                  <a:pt x="7938" y="15205"/>
                </a:cubicBezTo>
                <a:cubicBezTo>
                  <a:pt x="7963" y="15156"/>
                  <a:pt x="7995" y="15103"/>
                  <a:pt x="8037" y="15056"/>
                </a:cubicBezTo>
                <a:cubicBezTo>
                  <a:pt x="8076" y="15013"/>
                  <a:pt x="8111" y="14974"/>
                  <a:pt x="8161" y="14957"/>
                </a:cubicBezTo>
                <a:cubicBezTo>
                  <a:pt x="8161" y="14965"/>
                  <a:pt x="8161" y="14974"/>
                  <a:pt x="8161" y="14982"/>
                </a:cubicBezTo>
                <a:cubicBezTo>
                  <a:pt x="8145" y="15014"/>
                  <a:pt x="8092" y="15073"/>
                  <a:pt x="8086" y="15106"/>
                </a:cubicBezTo>
                <a:cubicBezTo>
                  <a:pt x="8073" y="15175"/>
                  <a:pt x="8088" y="15103"/>
                  <a:pt x="8136" y="15081"/>
                </a:cubicBezTo>
                <a:cubicBezTo>
                  <a:pt x="8178" y="15062"/>
                  <a:pt x="8225" y="15051"/>
                  <a:pt x="8260" y="15032"/>
                </a:cubicBezTo>
                <a:cubicBezTo>
                  <a:pt x="8293" y="15014"/>
                  <a:pt x="8354" y="14987"/>
                  <a:pt x="8384" y="14957"/>
                </a:cubicBezTo>
                <a:cubicBezTo>
                  <a:pt x="8446" y="14895"/>
                  <a:pt x="8453" y="14798"/>
                  <a:pt x="8508" y="14734"/>
                </a:cubicBezTo>
                <a:cubicBezTo>
                  <a:pt x="8531" y="14711"/>
                  <a:pt x="8535" y="14703"/>
                  <a:pt x="8558" y="14709"/>
                </a:cubicBezTo>
                <a:cubicBezTo>
                  <a:pt x="8417" y="14989"/>
                  <a:pt x="8253" y="15261"/>
                  <a:pt x="8136" y="15553"/>
                </a:cubicBezTo>
                <a:cubicBezTo>
                  <a:pt x="8095" y="15655"/>
                  <a:pt x="7962" y="15916"/>
                  <a:pt x="7962" y="16049"/>
                </a:cubicBezTo>
                <a:cubicBezTo>
                  <a:pt x="7982" y="16089"/>
                  <a:pt x="7991" y="16095"/>
                  <a:pt x="7987" y="16123"/>
                </a:cubicBezTo>
                <a:cubicBezTo>
                  <a:pt x="8046" y="16089"/>
                  <a:pt x="8035" y="16124"/>
                  <a:pt x="8086" y="16049"/>
                </a:cubicBezTo>
                <a:cubicBezTo>
                  <a:pt x="8141" y="15968"/>
                  <a:pt x="8200" y="15870"/>
                  <a:pt x="8235" y="15776"/>
                </a:cubicBezTo>
                <a:cubicBezTo>
                  <a:pt x="8284" y="15644"/>
                  <a:pt x="8336" y="15511"/>
                  <a:pt x="8384" y="15379"/>
                </a:cubicBezTo>
                <a:cubicBezTo>
                  <a:pt x="8438" y="15230"/>
                  <a:pt x="8506" y="15096"/>
                  <a:pt x="8582" y="14957"/>
                </a:cubicBezTo>
                <a:cubicBezTo>
                  <a:pt x="8604" y="14935"/>
                  <a:pt x="8613" y="14930"/>
                  <a:pt x="8607" y="14908"/>
                </a:cubicBezTo>
                <a:cubicBezTo>
                  <a:pt x="8581" y="14938"/>
                  <a:pt x="8578" y="14923"/>
                  <a:pt x="8558" y="14957"/>
                </a:cubicBezTo>
                <a:cubicBezTo>
                  <a:pt x="8529" y="15008"/>
                  <a:pt x="8508" y="15048"/>
                  <a:pt x="8508" y="15106"/>
                </a:cubicBezTo>
                <a:cubicBezTo>
                  <a:pt x="8516" y="15106"/>
                  <a:pt x="8525" y="15106"/>
                  <a:pt x="8533" y="15106"/>
                </a:cubicBezTo>
                <a:cubicBezTo>
                  <a:pt x="8593" y="15058"/>
                  <a:pt x="8645" y="15005"/>
                  <a:pt x="8706" y="14957"/>
                </a:cubicBezTo>
                <a:cubicBezTo>
                  <a:pt x="8766" y="14911"/>
                  <a:pt x="8796" y="14895"/>
                  <a:pt x="8830" y="14833"/>
                </a:cubicBezTo>
                <a:cubicBezTo>
                  <a:pt x="8853" y="14790"/>
                  <a:pt x="8842" y="14780"/>
                  <a:pt x="8855" y="14734"/>
                </a:cubicBezTo>
                <a:cubicBezTo>
                  <a:pt x="8879" y="14651"/>
                  <a:pt x="8886" y="14569"/>
                  <a:pt x="8905" y="14486"/>
                </a:cubicBezTo>
                <a:cubicBezTo>
                  <a:pt x="8920" y="14421"/>
                  <a:pt x="8941" y="14355"/>
                  <a:pt x="8954" y="14288"/>
                </a:cubicBezTo>
                <a:cubicBezTo>
                  <a:pt x="8954" y="14280"/>
                  <a:pt x="8954" y="14271"/>
                  <a:pt x="8954" y="14263"/>
                </a:cubicBezTo>
                <a:cubicBezTo>
                  <a:pt x="8908" y="14297"/>
                  <a:pt x="8872" y="14312"/>
                  <a:pt x="8830" y="14362"/>
                </a:cubicBezTo>
                <a:cubicBezTo>
                  <a:pt x="8739" y="14470"/>
                  <a:pt x="8666" y="14603"/>
                  <a:pt x="8632" y="14734"/>
                </a:cubicBezTo>
                <a:cubicBezTo>
                  <a:pt x="8632" y="14751"/>
                  <a:pt x="8632" y="14767"/>
                  <a:pt x="8632" y="14784"/>
                </a:cubicBezTo>
                <a:cubicBezTo>
                  <a:pt x="8708" y="14816"/>
                  <a:pt x="8740" y="14829"/>
                  <a:pt x="8830" y="14833"/>
                </a:cubicBezTo>
                <a:cubicBezTo>
                  <a:pt x="8927" y="14837"/>
                  <a:pt x="9123" y="14868"/>
                  <a:pt x="9203" y="14808"/>
                </a:cubicBezTo>
                <a:cubicBezTo>
                  <a:pt x="9229" y="14789"/>
                  <a:pt x="9227" y="14773"/>
                  <a:pt x="9252" y="14734"/>
                </a:cubicBezTo>
                <a:cubicBezTo>
                  <a:pt x="9281" y="14689"/>
                  <a:pt x="9316" y="14626"/>
                  <a:pt x="9351" y="14585"/>
                </a:cubicBezTo>
                <a:cubicBezTo>
                  <a:pt x="9378" y="14554"/>
                  <a:pt x="9427" y="14535"/>
                  <a:pt x="9451" y="14511"/>
                </a:cubicBezTo>
                <a:cubicBezTo>
                  <a:pt x="9473" y="14489"/>
                  <a:pt x="9482" y="14478"/>
                  <a:pt x="9525" y="14461"/>
                </a:cubicBezTo>
                <a:cubicBezTo>
                  <a:pt x="9566" y="14445"/>
                  <a:pt x="9577" y="14444"/>
                  <a:pt x="9624" y="14436"/>
                </a:cubicBezTo>
                <a:cubicBezTo>
                  <a:pt x="9631" y="14435"/>
                  <a:pt x="9664" y="14445"/>
                  <a:pt x="9723" y="14412"/>
                </a:cubicBezTo>
                <a:cubicBezTo>
                  <a:pt x="9810" y="14364"/>
                  <a:pt x="9877" y="14321"/>
                  <a:pt x="9971" y="14288"/>
                </a:cubicBezTo>
                <a:cubicBezTo>
                  <a:pt x="10041" y="14264"/>
                  <a:pt x="10103" y="14250"/>
                  <a:pt x="10170" y="14213"/>
                </a:cubicBezTo>
                <a:cubicBezTo>
                  <a:pt x="10241" y="14174"/>
                  <a:pt x="10286" y="14118"/>
                  <a:pt x="10344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Rectangle 3"/>
          <p:cNvGraphicFramePr/>
          <p:nvPr/>
        </p:nvGraphicFramePr>
        <p:xfrm>
          <a:off x="1219320" y="762120"/>
          <a:ext cx="6095880" cy="67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0958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77920" y="1562040"/>
            <a:ext cx="4314960" cy="849240"/>
          </a:xfrm>
          <a:custGeom>
            <a:avLst/>
            <a:gdLst/>
            <a:ahLst/>
            <a:rect l="l" t="t" r="r" b="b"/>
            <a:pathLst>
              <a:path w="11982" h="2357">
                <a:moveTo>
                  <a:pt x="3746" y="5011"/>
                </a:moveTo>
                <a:cubicBezTo>
                  <a:pt x="3731" y="5029"/>
                  <a:pt x="3721" y="5054"/>
                  <a:pt x="3696" y="5085"/>
                </a:cubicBezTo>
                <a:cubicBezTo>
                  <a:pt x="3636" y="5160"/>
                  <a:pt x="3564" y="5246"/>
                  <a:pt x="3522" y="5333"/>
                </a:cubicBezTo>
                <a:cubicBezTo>
                  <a:pt x="3442" y="5498"/>
                  <a:pt x="3378" y="5679"/>
                  <a:pt x="3324" y="5854"/>
                </a:cubicBezTo>
                <a:cubicBezTo>
                  <a:pt x="3280" y="5996"/>
                  <a:pt x="3290" y="6136"/>
                  <a:pt x="3299" y="6276"/>
                </a:cubicBezTo>
                <a:cubicBezTo>
                  <a:pt x="3306" y="6379"/>
                  <a:pt x="3332" y="6464"/>
                  <a:pt x="3398" y="6548"/>
                </a:cubicBezTo>
                <a:cubicBezTo>
                  <a:pt x="3451" y="6615"/>
                  <a:pt x="3506" y="6627"/>
                  <a:pt x="3572" y="6672"/>
                </a:cubicBezTo>
                <a:cubicBezTo>
                  <a:pt x="3609" y="6697"/>
                  <a:pt x="3601" y="6697"/>
                  <a:pt x="3646" y="6697"/>
                </a:cubicBezTo>
              </a:path>
              <a:path w="11982" h="2357">
                <a:moveTo>
                  <a:pt x="8657" y="4713"/>
                </a:moveTo>
                <a:cubicBezTo>
                  <a:pt x="8747" y="4726"/>
                  <a:pt x="8710" y="4740"/>
                  <a:pt x="8781" y="4837"/>
                </a:cubicBezTo>
                <a:cubicBezTo>
                  <a:pt x="8850" y="4931"/>
                  <a:pt x="8956" y="4998"/>
                  <a:pt x="9004" y="5110"/>
                </a:cubicBezTo>
                <a:cubicBezTo>
                  <a:pt x="9066" y="5256"/>
                  <a:pt x="9121" y="5398"/>
                  <a:pt x="9128" y="5556"/>
                </a:cubicBezTo>
                <a:cubicBezTo>
                  <a:pt x="9136" y="5740"/>
                  <a:pt x="9086" y="5939"/>
                  <a:pt x="9004" y="6102"/>
                </a:cubicBezTo>
                <a:cubicBezTo>
                  <a:pt x="8960" y="6189"/>
                  <a:pt x="8914" y="6274"/>
                  <a:pt x="8855" y="6350"/>
                </a:cubicBezTo>
                <a:cubicBezTo>
                  <a:pt x="8828" y="6385"/>
                  <a:pt x="8810" y="6434"/>
                  <a:pt x="8806" y="6400"/>
                </a:cubicBezTo>
                <a:cubicBezTo>
                  <a:pt x="8801" y="6357"/>
                  <a:pt x="8810" y="6359"/>
                  <a:pt x="8830" y="6325"/>
                </a:cubicBezTo>
              </a:path>
              <a:path w="11982" h="2357">
                <a:moveTo>
                  <a:pt x="9798" y="4862"/>
                </a:moveTo>
                <a:cubicBezTo>
                  <a:pt x="9754" y="4840"/>
                  <a:pt x="9735" y="4862"/>
                  <a:pt x="9699" y="4911"/>
                </a:cubicBezTo>
                <a:cubicBezTo>
                  <a:pt x="9621" y="5018"/>
                  <a:pt x="9582" y="5121"/>
                  <a:pt x="9525" y="5234"/>
                </a:cubicBezTo>
                <a:cubicBezTo>
                  <a:pt x="9462" y="5358"/>
                  <a:pt x="9368" y="5488"/>
                  <a:pt x="9351" y="5631"/>
                </a:cubicBezTo>
                <a:cubicBezTo>
                  <a:pt x="9333" y="5780"/>
                  <a:pt x="9337" y="5905"/>
                  <a:pt x="9351" y="6052"/>
                </a:cubicBezTo>
                <a:cubicBezTo>
                  <a:pt x="9366" y="6214"/>
                  <a:pt x="9436" y="6252"/>
                  <a:pt x="9525" y="6375"/>
                </a:cubicBezTo>
                <a:cubicBezTo>
                  <a:pt x="9561" y="6425"/>
                  <a:pt x="9639" y="6485"/>
                  <a:pt x="9699" y="6474"/>
                </a:cubicBezTo>
                <a:cubicBezTo>
                  <a:pt x="9740" y="6466"/>
                  <a:pt x="9712" y="6461"/>
                  <a:pt x="9723" y="6449"/>
                </a:cubicBezTo>
              </a:path>
              <a:path w="11982" h="2357">
                <a:moveTo>
                  <a:pt x="15032" y="4341"/>
                </a:moveTo>
                <a:cubicBezTo>
                  <a:pt x="15080" y="4395"/>
                  <a:pt x="15147" y="4453"/>
                  <a:pt x="15180" y="4514"/>
                </a:cubicBezTo>
                <a:cubicBezTo>
                  <a:pt x="15234" y="4614"/>
                  <a:pt x="15252" y="4752"/>
                  <a:pt x="15255" y="4862"/>
                </a:cubicBezTo>
                <a:cubicBezTo>
                  <a:pt x="15259" y="5031"/>
                  <a:pt x="15241" y="5192"/>
                  <a:pt x="15230" y="5358"/>
                </a:cubicBezTo>
                <a:cubicBezTo>
                  <a:pt x="15220" y="5513"/>
                  <a:pt x="15207" y="5689"/>
                  <a:pt x="15131" y="5829"/>
                </a:cubicBezTo>
                <a:cubicBezTo>
                  <a:pt x="15067" y="5947"/>
                  <a:pt x="15012" y="6064"/>
                  <a:pt x="14932" y="6176"/>
                </a:cubicBezTo>
                <a:cubicBezTo>
                  <a:pt x="14891" y="6233"/>
                  <a:pt x="14842" y="6304"/>
                  <a:pt x="14784" y="6350"/>
                </a:cubicBezTo>
                <a:cubicBezTo>
                  <a:pt x="14756" y="6350"/>
                  <a:pt x="14745" y="6352"/>
                  <a:pt x="14734" y="6375"/>
                </a:cubicBezTo>
                <a:cubicBezTo>
                  <a:pt x="14752" y="6310"/>
                  <a:pt x="14744" y="6354"/>
                  <a:pt x="14784" y="6300"/>
                </a:cubicBezTo>
                <a:cubicBezTo>
                  <a:pt x="14792" y="6284"/>
                  <a:pt x="14800" y="6267"/>
                  <a:pt x="14808" y="6251"/>
                </a:cubicBezTo>
              </a:path>
              <a:path w="11982" h="2357">
                <a:moveTo>
                  <a:pt x="4093" y="5730"/>
                </a:moveTo>
                <a:cubicBezTo>
                  <a:pt x="4083" y="5701"/>
                  <a:pt x="4059" y="5685"/>
                  <a:pt x="4018" y="5680"/>
                </a:cubicBezTo>
                <a:cubicBezTo>
                  <a:pt x="3954" y="5673"/>
                  <a:pt x="3890" y="5716"/>
                  <a:pt x="3845" y="5755"/>
                </a:cubicBezTo>
                <a:cubicBezTo>
                  <a:pt x="3790" y="5804"/>
                  <a:pt x="3758" y="5813"/>
                  <a:pt x="3721" y="5879"/>
                </a:cubicBezTo>
                <a:cubicBezTo>
                  <a:pt x="3745" y="5885"/>
                  <a:pt x="3828" y="5917"/>
                  <a:pt x="3845" y="5928"/>
                </a:cubicBezTo>
                <a:cubicBezTo>
                  <a:pt x="3899" y="5963"/>
                  <a:pt x="4003" y="6062"/>
                  <a:pt x="4018" y="6127"/>
                </a:cubicBezTo>
                <a:cubicBezTo>
                  <a:pt x="4032" y="6187"/>
                  <a:pt x="4008" y="6234"/>
                  <a:pt x="3969" y="6276"/>
                </a:cubicBezTo>
                <a:cubicBezTo>
                  <a:pt x="3928" y="6321"/>
                  <a:pt x="3876" y="6347"/>
                  <a:pt x="3820" y="6350"/>
                </a:cubicBezTo>
                <a:cubicBezTo>
                  <a:pt x="3777" y="6353"/>
                  <a:pt x="3700" y="6371"/>
                  <a:pt x="3696" y="6325"/>
                </a:cubicBezTo>
                <a:cubicBezTo>
                  <a:pt x="3696" y="6281"/>
                  <a:pt x="3693" y="6267"/>
                  <a:pt x="3721" y="6251"/>
                </a:cubicBezTo>
              </a:path>
              <a:path w="11982" h="2357">
                <a:moveTo>
                  <a:pt x="4118" y="6052"/>
                </a:moveTo>
                <a:cubicBezTo>
                  <a:pt x="4163" y="6052"/>
                  <a:pt x="4182" y="6058"/>
                  <a:pt x="4217" y="6028"/>
                </a:cubicBezTo>
                <a:cubicBezTo>
                  <a:pt x="4252" y="5997"/>
                  <a:pt x="4319" y="5941"/>
                  <a:pt x="4341" y="5904"/>
                </a:cubicBezTo>
                <a:cubicBezTo>
                  <a:pt x="4352" y="5885"/>
                  <a:pt x="4382" y="5807"/>
                  <a:pt x="4366" y="5779"/>
                </a:cubicBezTo>
                <a:cubicBezTo>
                  <a:pt x="4344" y="5741"/>
                  <a:pt x="4289" y="5746"/>
                  <a:pt x="4266" y="5779"/>
                </a:cubicBezTo>
                <a:cubicBezTo>
                  <a:pt x="4217" y="5851"/>
                  <a:pt x="4195" y="5870"/>
                  <a:pt x="4167" y="5953"/>
                </a:cubicBezTo>
                <a:cubicBezTo>
                  <a:pt x="4137" y="6041"/>
                  <a:pt x="4147" y="6065"/>
                  <a:pt x="4167" y="6152"/>
                </a:cubicBezTo>
                <a:cubicBezTo>
                  <a:pt x="4185" y="6231"/>
                  <a:pt x="4234" y="6285"/>
                  <a:pt x="4316" y="6300"/>
                </a:cubicBezTo>
                <a:cubicBezTo>
                  <a:pt x="4351" y="6300"/>
                  <a:pt x="4368" y="6296"/>
                  <a:pt x="4390" y="6276"/>
                </a:cubicBezTo>
              </a:path>
              <a:path w="11982" h="2357">
                <a:moveTo>
                  <a:pt x="4713" y="5804"/>
                </a:moveTo>
                <a:cubicBezTo>
                  <a:pt x="4756" y="5804"/>
                  <a:pt x="4709" y="5786"/>
                  <a:pt x="4688" y="5779"/>
                </a:cubicBezTo>
                <a:cubicBezTo>
                  <a:pt x="4646" y="5810"/>
                  <a:pt x="4619" y="5829"/>
                  <a:pt x="4589" y="5879"/>
                </a:cubicBezTo>
                <a:cubicBezTo>
                  <a:pt x="4551" y="5942"/>
                  <a:pt x="4518" y="6005"/>
                  <a:pt x="4514" y="6077"/>
                </a:cubicBezTo>
                <a:cubicBezTo>
                  <a:pt x="4511" y="6133"/>
                  <a:pt x="4505" y="6183"/>
                  <a:pt x="4539" y="6226"/>
                </a:cubicBezTo>
                <a:cubicBezTo>
                  <a:pt x="4554" y="6244"/>
                  <a:pt x="4614" y="6283"/>
                  <a:pt x="4638" y="6276"/>
                </a:cubicBezTo>
                <a:cubicBezTo>
                  <a:pt x="4683" y="6263"/>
                  <a:pt x="4707" y="6232"/>
                  <a:pt x="4738" y="6201"/>
                </a:cubicBezTo>
              </a:path>
              <a:path w="11982" h="2357">
                <a:moveTo>
                  <a:pt x="4837" y="5432"/>
                </a:moveTo>
                <a:cubicBezTo>
                  <a:pt x="4847" y="5392"/>
                  <a:pt x="4866" y="5363"/>
                  <a:pt x="4911" y="5358"/>
                </a:cubicBezTo>
                <a:cubicBezTo>
                  <a:pt x="4963" y="5352"/>
                  <a:pt x="4998" y="5351"/>
                  <a:pt x="5035" y="5383"/>
                </a:cubicBezTo>
                <a:cubicBezTo>
                  <a:pt x="5076" y="5419"/>
                  <a:pt x="5064" y="5463"/>
                  <a:pt x="5035" y="5507"/>
                </a:cubicBezTo>
                <a:cubicBezTo>
                  <a:pt x="5006" y="5552"/>
                  <a:pt x="4975" y="5593"/>
                  <a:pt x="4936" y="5631"/>
                </a:cubicBezTo>
                <a:cubicBezTo>
                  <a:pt x="4906" y="5661"/>
                  <a:pt x="4911" y="5665"/>
                  <a:pt x="4911" y="5705"/>
                </a:cubicBezTo>
                <a:cubicBezTo>
                  <a:pt x="4968" y="5705"/>
                  <a:pt x="5008" y="5689"/>
                  <a:pt x="5060" y="5680"/>
                </a:cubicBezTo>
                <a:cubicBezTo>
                  <a:pt x="5136" y="5667"/>
                  <a:pt x="5206" y="5651"/>
                  <a:pt x="5283" y="5631"/>
                </a:cubicBezTo>
              </a:path>
              <a:path w="11982" h="2357">
                <a:moveTo>
                  <a:pt x="5308" y="5680"/>
                </a:moveTo>
                <a:cubicBezTo>
                  <a:pt x="5269" y="5752"/>
                  <a:pt x="5222" y="5843"/>
                  <a:pt x="5209" y="5928"/>
                </a:cubicBezTo>
                <a:cubicBezTo>
                  <a:pt x="5194" y="6023"/>
                  <a:pt x="5194" y="6064"/>
                  <a:pt x="5209" y="6152"/>
                </a:cubicBezTo>
                <a:cubicBezTo>
                  <a:pt x="5218" y="6203"/>
                  <a:pt x="5223" y="6274"/>
                  <a:pt x="5283" y="6300"/>
                </a:cubicBezTo>
                <a:cubicBezTo>
                  <a:pt x="5308" y="6311"/>
                  <a:pt x="5415" y="6289"/>
                  <a:pt x="5432" y="6276"/>
                </a:cubicBezTo>
                <a:cubicBezTo>
                  <a:pt x="5526" y="6202"/>
                  <a:pt x="5608" y="6073"/>
                  <a:pt x="5631" y="5953"/>
                </a:cubicBezTo>
                <a:cubicBezTo>
                  <a:pt x="5642" y="5896"/>
                  <a:pt x="5626" y="5829"/>
                  <a:pt x="5606" y="5779"/>
                </a:cubicBezTo>
                <a:cubicBezTo>
                  <a:pt x="5599" y="5761"/>
                  <a:pt x="5541" y="5662"/>
                  <a:pt x="5531" y="5655"/>
                </a:cubicBezTo>
                <a:cubicBezTo>
                  <a:pt x="5494" y="5629"/>
                  <a:pt x="5500" y="5682"/>
                  <a:pt x="5482" y="5631"/>
                </a:cubicBezTo>
              </a:path>
              <a:path w="11982" h="2357">
                <a:moveTo>
                  <a:pt x="5085" y="5953"/>
                </a:moveTo>
                <a:cubicBezTo>
                  <a:pt x="5132" y="5965"/>
                  <a:pt x="5175" y="5995"/>
                  <a:pt x="5234" y="5978"/>
                </a:cubicBezTo>
                <a:cubicBezTo>
                  <a:pt x="5312" y="5956"/>
                  <a:pt x="5372" y="5953"/>
                  <a:pt x="5457" y="5953"/>
                </a:cubicBezTo>
                <a:cubicBezTo>
                  <a:pt x="5509" y="5953"/>
                  <a:pt x="5567" y="5971"/>
                  <a:pt x="5581" y="5928"/>
                </a:cubicBezTo>
              </a:path>
              <a:path w="11982" h="2357">
                <a:moveTo>
                  <a:pt x="6276" y="5482"/>
                </a:moveTo>
                <a:cubicBezTo>
                  <a:pt x="6266" y="5561"/>
                  <a:pt x="6251" y="5621"/>
                  <a:pt x="6251" y="5705"/>
                </a:cubicBezTo>
                <a:cubicBezTo>
                  <a:pt x="6251" y="5782"/>
                  <a:pt x="6257" y="5841"/>
                  <a:pt x="6276" y="5904"/>
                </a:cubicBezTo>
                <a:cubicBezTo>
                  <a:pt x="6282" y="5925"/>
                  <a:pt x="6288" y="6022"/>
                  <a:pt x="6251" y="6003"/>
                </a:cubicBezTo>
                <a:cubicBezTo>
                  <a:pt x="6243" y="5995"/>
                  <a:pt x="6234" y="5986"/>
                  <a:pt x="6226" y="5978"/>
                </a:cubicBezTo>
              </a:path>
              <a:path w="11982" h="2357">
                <a:moveTo>
                  <a:pt x="6052" y="5804"/>
                </a:moveTo>
                <a:cubicBezTo>
                  <a:pt x="6128" y="5827"/>
                  <a:pt x="6172" y="5829"/>
                  <a:pt x="6251" y="5829"/>
                </a:cubicBezTo>
                <a:cubicBezTo>
                  <a:pt x="6336" y="5829"/>
                  <a:pt x="6396" y="5817"/>
                  <a:pt x="6474" y="5804"/>
                </a:cubicBezTo>
                <a:cubicBezTo>
                  <a:pt x="6491" y="5804"/>
                  <a:pt x="6507" y="5804"/>
                  <a:pt x="6524" y="5804"/>
                </a:cubicBezTo>
              </a:path>
              <a:path w="11982" h="2357">
                <a:moveTo>
                  <a:pt x="6846" y="5333"/>
                </a:moveTo>
                <a:cubicBezTo>
                  <a:pt x="6846" y="5414"/>
                  <a:pt x="6831" y="5482"/>
                  <a:pt x="6821" y="5556"/>
                </a:cubicBezTo>
                <a:cubicBezTo>
                  <a:pt x="6808" y="5656"/>
                  <a:pt x="6785" y="5754"/>
                  <a:pt x="6772" y="5854"/>
                </a:cubicBezTo>
                <a:cubicBezTo>
                  <a:pt x="6760" y="5944"/>
                  <a:pt x="6769" y="6044"/>
                  <a:pt x="6747" y="6102"/>
                </a:cubicBezTo>
                <a:cubicBezTo>
                  <a:pt x="6736" y="6131"/>
                  <a:pt x="6752" y="6118"/>
                  <a:pt x="6722" y="6077"/>
                </a:cubicBezTo>
              </a:path>
              <a:path w="11982" h="2357">
                <a:moveTo>
                  <a:pt x="6598" y="5854"/>
                </a:moveTo>
                <a:cubicBezTo>
                  <a:pt x="6653" y="5854"/>
                  <a:pt x="6691" y="5832"/>
                  <a:pt x="6747" y="5829"/>
                </a:cubicBezTo>
                <a:cubicBezTo>
                  <a:pt x="6840" y="5824"/>
                  <a:pt x="6928" y="5792"/>
                  <a:pt x="7020" y="5779"/>
                </a:cubicBezTo>
                <a:cubicBezTo>
                  <a:pt x="7081" y="5771"/>
                  <a:pt x="7134" y="5767"/>
                  <a:pt x="7193" y="5755"/>
                </a:cubicBezTo>
                <a:cubicBezTo>
                  <a:pt x="7183" y="5786"/>
                  <a:pt x="7144" y="5812"/>
                  <a:pt x="7119" y="5854"/>
                </a:cubicBezTo>
                <a:cubicBezTo>
                  <a:pt x="7066" y="5943"/>
                  <a:pt x="7027" y="5970"/>
                  <a:pt x="7020" y="6077"/>
                </a:cubicBezTo>
                <a:cubicBezTo>
                  <a:pt x="7017" y="6122"/>
                  <a:pt x="7020" y="6146"/>
                  <a:pt x="7069" y="6152"/>
                </a:cubicBezTo>
                <a:cubicBezTo>
                  <a:pt x="7096" y="6155"/>
                  <a:pt x="7156" y="6143"/>
                  <a:pt x="7169" y="6127"/>
                </a:cubicBezTo>
                <a:cubicBezTo>
                  <a:pt x="7203" y="6085"/>
                  <a:pt x="7214" y="6003"/>
                  <a:pt x="7218" y="5953"/>
                </a:cubicBezTo>
                <a:cubicBezTo>
                  <a:pt x="7221" y="5920"/>
                  <a:pt x="7218" y="5887"/>
                  <a:pt x="7218" y="5854"/>
                </a:cubicBezTo>
                <a:cubicBezTo>
                  <a:pt x="7262" y="5869"/>
                  <a:pt x="7243" y="5925"/>
                  <a:pt x="7243" y="5978"/>
                </a:cubicBezTo>
                <a:cubicBezTo>
                  <a:pt x="7243" y="6026"/>
                  <a:pt x="7244" y="6087"/>
                  <a:pt x="7268" y="6127"/>
                </a:cubicBezTo>
                <a:cubicBezTo>
                  <a:pt x="7306" y="6190"/>
                  <a:pt x="7335" y="6176"/>
                  <a:pt x="7392" y="6152"/>
                </a:cubicBezTo>
              </a:path>
              <a:path w="11982" h="2357">
                <a:moveTo>
                  <a:pt x="7441" y="5928"/>
                </a:moveTo>
                <a:cubicBezTo>
                  <a:pt x="7426" y="6000"/>
                  <a:pt x="7405" y="6089"/>
                  <a:pt x="7392" y="6152"/>
                </a:cubicBezTo>
                <a:cubicBezTo>
                  <a:pt x="7382" y="6201"/>
                  <a:pt x="7411" y="6241"/>
                  <a:pt x="7441" y="6251"/>
                </a:cubicBezTo>
                <a:cubicBezTo>
                  <a:pt x="7441" y="6202"/>
                  <a:pt x="7458" y="6165"/>
                  <a:pt x="7466" y="6127"/>
                </a:cubicBezTo>
                <a:cubicBezTo>
                  <a:pt x="7479" y="6064"/>
                  <a:pt x="7464" y="5986"/>
                  <a:pt x="7491" y="5928"/>
                </a:cubicBezTo>
                <a:cubicBezTo>
                  <a:pt x="7511" y="5886"/>
                  <a:pt x="7593" y="5813"/>
                  <a:pt x="7640" y="5829"/>
                </a:cubicBezTo>
                <a:cubicBezTo>
                  <a:pt x="7697" y="5848"/>
                  <a:pt x="7711" y="5932"/>
                  <a:pt x="7714" y="5978"/>
                </a:cubicBezTo>
                <a:cubicBezTo>
                  <a:pt x="7718" y="6048"/>
                  <a:pt x="7721" y="6068"/>
                  <a:pt x="7714" y="6127"/>
                </a:cubicBezTo>
                <a:cubicBezTo>
                  <a:pt x="7714" y="6155"/>
                  <a:pt x="7716" y="6161"/>
                  <a:pt x="7739" y="6127"/>
                </a:cubicBezTo>
              </a:path>
              <a:path w="11982" h="2357">
                <a:moveTo>
                  <a:pt x="7838" y="5432"/>
                </a:moveTo>
                <a:cubicBezTo>
                  <a:pt x="7901" y="5381"/>
                  <a:pt x="7967" y="5321"/>
                  <a:pt x="8062" y="5358"/>
                </a:cubicBezTo>
                <a:cubicBezTo>
                  <a:pt x="8098" y="5372"/>
                  <a:pt x="8124" y="5445"/>
                  <a:pt x="8111" y="5482"/>
                </a:cubicBezTo>
                <a:cubicBezTo>
                  <a:pt x="8086" y="5550"/>
                  <a:pt x="8012" y="5544"/>
                  <a:pt x="7987" y="5581"/>
                </a:cubicBezTo>
                <a:cubicBezTo>
                  <a:pt x="7987" y="5609"/>
                  <a:pt x="7985" y="5620"/>
                  <a:pt x="7962" y="5631"/>
                </a:cubicBezTo>
                <a:cubicBezTo>
                  <a:pt x="8006" y="5662"/>
                  <a:pt x="8029" y="5655"/>
                  <a:pt x="8086" y="5655"/>
                </a:cubicBezTo>
                <a:cubicBezTo>
                  <a:pt x="8103" y="5655"/>
                  <a:pt x="8119" y="5655"/>
                  <a:pt x="8136" y="5655"/>
                </a:cubicBezTo>
              </a:path>
              <a:path w="11982" h="2357">
                <a:moveTo>
                  <a:pt x="8359" y="5581"/>
                </a:moveTo>
                <a:cubicBezTo>
                  <a:pt x="8289" y="5690"/>
                  <a:pt x="8189" y="5797"/>
                  <a:pt x="8161" y="5928"/>
                </a:cubicBezTo>
                <a:cubicBezTo>
                  <a:pt x="8141" y="6020"/>
                  <a:pt x="8174" y="6051"/>
                  <a:pt x="8235" y="6102"/>
                </a:cubicBezTo>
                <a:cubicBezTo>
                  <a:pt x="8284" y="6143"/>
                  <a:pt x="8341" y="6171"/>
                  <a:pt x="8409" y="6152"/>
                </a:cubicBezTo>
                <a:cubicBezTo>
                  <a:pt x="8476" y="6133"/>
                  <a:pt x="8553" y="6090"/>
                  <a:pt x="8582" y="6028"/>
                </a:cubicBezTo>
                <a:cubicBezTo>
                  <a:pt x="8632" y="5922"/>
                  <a:pt x="8653" y="5857"/>
                  <a:pt x="8607" y="5755"/>
                </a:cubicBezTo>
                <a:cubicBezTo>
                  <a:pt x="8584" y="5703"/>
                  <a:pt x="8582" y="5619"/>
                  <a:pt x="8533" y="5581"/>
                </a:cubicBezTo>
                <a:cubicBezTo>
                  <a:pt x="8525" y="5581"/>
                  <a:pt x="8516" y="5581"/>
                  <a:pt x="8508" y="5581"/>
                </a:cubicBezTo>
              </a:path>
              <a:path w="11982" h="2357">
                <a:moveTo>
                  <a:pt x="8037" y="5829"/>
                </a:moveTo>
                <a:cubicBezTo>
                  <a:pt x="8153" y="5893"/>
                  <a:pt x="8269" y="5893"/>
                  <a:pt x="8409" y="5904"/>
                </a:cubicBezTo>
                <a:cubicBezTo>
                  <a:pt x="8486" y="5910"/>
                  <a:pt x="8554" y="5928"/>
                  <a:pt x="8632" y="5928"/>
                </a:cubicBezTo>
                <a:cubicBezTo>
                  <a:pt x="8657" y="5928"/>
                  <a:pt x="8608" y="5945"/>
                  <a:pt x="8632" y="5953"/>
                </a:cubicBezTo>
              </a:path>
              <a:path w="11982" h="2357">
                <a:moveTo>
                  <a:pt x="9996" y="5531"/>
                </a:moveTo>
                <a:cubicBezTo>
                  <a:pt x="9943" y="5541"/>
                  <a:pt x="9804" y="5537"/>
                  <a:pt x="9773" y="5606"/>
                </a:cubicBezTo>
                <a:cubicBezTo>
                  <a:pt x="9756" y="5644"/>
                  <a:pt x="9804" y="5704"/>
                  <a:pt x="9823" y="5730"/>
                </a:cubicBezTo>
                <a:cubicBezTo>
                  <a:pt x="9868" y="5791"/>
                  <a:pt x="9923" y="5827"/>
                  <a:pt x="9947" y="5904"/>
                </a:cubicBezTo>
                <a:cubicBezTo>
                  <a:pt x="9959" y="5942"/>
                  <a:pt x="9954" y="6004"/>
                  <a:pt x="9922" y="6028"/>
                </a:cubicBezTo>
                <a:cubicBezTo>
                  <a:pt x="9861" y="6074"/>
                  <a:pt x="9822" y="6077"/>
                  <a:pt x="9748" y="6077"/>
                </a:cubicBezTo>
                <a:cubicBezTo>
                  <a:pt x="9697" y="6077"/>
                  <a:pt x="9699" y="6079"/>
                  <a:pt x="9699" y="6028"/>
                </a:cubicBezTo>
              </a:path>
              <a:path w="11982" h="2357">
                <a:moveTo>
                  <a:pt x="10046" y="5953"/>
                </a:moveTo>
                <a:cubicBezTo>
                  <a:pt x="10154" y="5921"/>
                  <a:pt x="10276" y="5906"/>
                  <a:pt x="10344" y="5804"/>
                </a:cubicBezTo>
                <a:cubicBezTo>
                  <a:pt x="10374" y="5758"/>
                  <a:pt x="10424" y="5680"/>
                  <a:pt x="10368" y="5631"/>
                </a:cubicBezTo>
                <a:cubicBezTo>
                  <a:pt x="10343" y="5609"/>
                  <a:pt x="10238" y="5637"/>
                  <a:pt x="10220" y="5655"/>
                </a:cubicBezTo>
                <a:cubicBezTo>
                  <a:pt x="10175" y="5700"/>
                  <a:pt x="10110" y="5820"/>
                  <a:pt x="10096" y="5879"/>
                </a:cubicBezTo>
                <a:cubicBezTo>
                  <a:pt x="10083" y="5932"/>
                  <a:pt x="10088" y="6012"/>
                  <a:pt x="10120" y="6052"/>
                </a:cubicBezTo>
                <a:cubicBezTo>
                  <a:pt x="10172" y="6117"/>
                  <a:pt x="10245" y="6102"/>
                  <a:pt x="10319" y="6102"/>
                </a:cubicBezTo>
                <a:cubicBezTo>
                  <a:pt x="10370" y="6102"/>
                  <a:pt x="10389" y="6101"/>
                  <a:pt x="10418" y="6077"/>
                </a:cubicBezTo>
              </a:path>
              <a:path w="11982" h="2357">
                <a:moveTo>
                  <a:pt x="10815" y="5655"/>
                </a:moveTo>
                <a:cubicBezTo>
                  <a:pt x="10815" y="5704"/>
                  <a:pt x="10804" y="5623"/>
                  <a:pt x="10765" y="5606"/>
                </a:cubicBezTo>
                <a:cubicBezTo>
                  <a:pt x="10721" y="5587"/>
                  <a:pt x="10657" y="5678"/>
                  <a:pt x="10641" y="5705"/>
                </a:cubicBezTo>
                <a:cubicBezTo>
                  <a:pt x="10598" y="5778"/>
                  <a:pt x="10570" y="5870"/>
                  <a:pt x="10567" y="5953"/>
                </a:cubicBezTo>
                <a:cubicBezTo>
                  <a:pt x="10562" y="6067"/>
                  <a:pt x="10560" y="6066"/>
                  <a:pt x="10641" y="6127"/>
                </a:cubicBezTo>
                <a:cubicBezTo>
                  <a:pt x="10679" y="6156"/>
                  <a:pt x="10748" y="6171"/>
                  <a:pt x="10790" y="6127"/>
                </a:cubicBezTo>
                <a:cubicBezTo>
                  <a:pt x="10815" y="6094"/>
                  <a:pt x="10839" y="6061"/>
                  <a:pt x="10864" y="6028"/>
                </a:cubicBezTo>
              </a:path>
              <a:path w="11982" h="2357">
                <a:moveTo>
                  <a:pt x="10889" y="5308"/>
                </a:moveTo>
                <a:cubicBezTo>
                  <a:pt x="10983" y="5249"/>
                  <a:pt x="11074" y="5164"/>
                  <a:pt x="11187" y="5234"/>
                </a:cubicBezTo>
                <a:cubicBezTo>
                  <a:pt x="11249" y="5272"/>
                  <a:pt x="11185" y="5320"/>
                  <a:pt x="11162" y="5358"/>
                </a:cubicBezTo>
                <a:cubicBezTo>
                  <a:pt x="11131" y="5410"/>
                  <a:pt x="11062" y="5428"/>
                  <a:pt x="11038" y="5482"/>
                </a:cubicBezTo>
                <a:cubicBezTo>
                  <a:pt x="11038" y="5490"/>
                  <a:pt x="11038" y="5499"/>
                  <a:pt x="11038" y="5507"/>
                </a:cubicBezTo>
                <a:cubicBezTo>
                  <a:pt x="11119" y="5507"/>
                  <a:pt x="11185" y="5507"/>
                  <a:pt x="11261" y="5482"/>
                </a:cubicBezTo>
                <a:cubicBezTo>
                  <a:pt x="11336" y="5457"/>
                  <a:pt x="11360" y="5449"/>
                  <a:pt x="11410" y="5432"/>
                </a:cubicBezTo>
              </a:path>
              <a:path w="11982" h="2357">
                <a:moveTo>
                  <a:pt x="11534" y="5482"/>
                </a:moveTo>
                <a:cubicBezTo>
                  <a:pt x="11411" y="5654"/>
                  <a:pt x="11320" y="5744"/>
                  <a:pt x="11311" y="5953"/>
                </a:cubicBezTo>
                <a:cubicBezTo>
                  <a:pt x="11309" y="6009"/>
                  <a:pt x="11336" y="6092"/>
                  <a:pt x="11385" y="6127"/>
                </a:cubicBezTo>
                <a:cubicBezTo>
                  <a:pt x="11454" y="6177"/>
                  <a:pt x="11538" y="6151"/>
                  <a:pt x="11609" y="6127"/>
                </a:cubicBezTo>
                <a:cubicBezTo>
                  <a:pt x="11728" y="6087"/>
                  <a:pt x="11754" y="6064"/>
                  <a:pt x="11807" y="5953"/>
                </a:cubicBezTo>
                <a:cubicBezTo>
                  <a:pt x="11851" y="5862"/>
                  <a:pt x="11841" y="5795"/>
                  <a:pt x="11832" y="5705"/>
                </a:cubicBezTo>
                <a:cubicBezTo>
                  <a:pt x="11824" y="5618"/>
                  <a:pt x="11795" y="5592"/>
                  <a:pt x="11733" y="5531"/>
                </a:cubicBezTo>
                <a:cubicBezTo>
                  <a:pt x="11694" y="5492"/>
                  <a:pt x="11638" y="5507"/>
                  <a:pt x="11584" y="5507"/>
                </a:cubicBezTo>
              </a:path>
              <a:path w="11982" h="2357">
                <a:moveTo>
                  <a:pt x="11212" y="5779"/>
                </a:moveTo>
                <a:cubicBezTo>
                  <a:pt x="11263" y="5818"/>
                  <a:pt x="11317" y="5804"/>
                  <a:pt x="11385" y="5804"/>
                </a:cubicBezTo>
                <a:cubicBezTo>
                  <a:pt x="11487" y="5804"/>
                  <a:pt x="11579" y="5829"/>
                  <a:pt x="11683" y="5829"/>
                </a:cubicBezTo>
                <a:cubicBezTo>
                  <a:pt x="11734" y="5829"/>
                  <a:pt x="11769" y="5844"/>
                  <a:pt x="11782" y="5804"/>
                </a:cubicBezTo>
              </a:path>
              <a:path w="11982" h="2357">
                <a:moveTo>
                  <a:pt x="12303" y="5730"/>
                </a:moveTo>
                <a:cubicBezTo>
                  <a:pt x="12440" y="5730"/>
                  <a:pt x="12599" y="5753"/>
                  <a:pt x="12725" y="5705"/>
                </a:cubicBezTo>
              </a:path>
              <a:path w="11982" h="2357">
                <a:moveTo>
                  <a:pt x="13022" y="5283"/>
                </a:moveTo>
                <a:cubicBezTo>
                  <a:pt x="12986" y="5450"/>
                  <a:pt x="12973" y="5608"/>
                  <a:pt x="12973" y="5779"/>
                </a:cubicBezTo>
                <a:cubicBezTo>
                  <a:pt x="12973" y="5876"/>
                  <a:pt x="13005" y="5958"/>
                  <a:pt x="13022" y="6052"/>
                </a:cubicBezTo>
                <a:cubicBezTo>
                  <a:pt x="13028" y="6083"/>
                  <a:pt x="13039" y="6097"/>
                  <a:pt x="13047" y="6127"/>
                </a:cubicBezTo>
                <a:cubicBezTo>
                  <a:pt x="13037" y="6085"/>
                  <a:pt x="13016" y="6050"/>
                  <a:pt x="12998" y="6003"/>
                </a:cubicBezTo>
              </a:path>
              <a:path w="11982" h="2357">
                <a:moveTo>
                  <a:pt x="12774" y="5631"/>
                </a:moveTo>
                <a:cubicBezTo>
                  <a:pt x="12845" y="5588"/>
                  <a:pt x="12916" y="5625"/>
                  <a:pt x="12998" y="5606"/>
                </a:cubicBezTo>
                <a:cubicBezTo>
                  <a:pt x="13091" y="5585"/>
                  <a:pt x="13198" y="5567"/>
                  <a:pt x="13295" y="5556"/>
                </a:cubicBezTo>
                <a:cubicBezTo>
                  <a:pt x="13357" y="5549"/>
                  <a:pt x="13408" y="5531"/>
                  <a:pt x="13469" y="5531"/>
                </a:cubicBezTo>
                <a:cubicBezTo>
                  <a:pt x="13406" y="5594"/>
                  <a:pt x="13367" y="5654"/>
                  <a:pt x="13320" y="5730"/>
                </a:cubicBezTo>
                <a:cubicBezTo>
                  <a:pt x="13271" y="5809"/>
                  <a:pt x="13214" y="5890"/>
                  <a:pt x="13271" y="5978"/>
                </a:cubicBezTo>
                <a:cubicBezTo>
                  <a:pt x="13289" y="6005"/>
                  <a:pt x="13364" y="6020"/>
                  <a:pt x="13395" y="6003"/>
                </a:cubicBezTo>
                <a:cubicBezTo>
                  <a:pt x="13430" y="5983"/>
                  <a:pt x="13485" y="5916"/>
                  <a:pt x="13494" y="5879"/>
                </a:cubicBezTo>
                <a:cubicBezTo>
                  <a:pt x="13503" y="5840"/>
                  <a:pt x="13530" y="5715"/>
                  <a:pt x="13519" y="5680"/>
                </a:cubicBezTo>
                <a:cubicBezTo>
                  <a:pt x="13488" y="5580"/>
                  <a:pt x="13488" y="5697"/>
                  <a:pt x="13494" y="5730"/>
                </a:cubicBezTo>
                <a:cubicBezTo>
                  <a:pt x="13505" y="5793"/>
                  <a:pt x="13532" y="5872"/>
                  <a:pt x="13543" y="5928"/>
                </a:cubicBezTo>
                <a:cubicBezTo>
                  <a:pt x="13551" y="5968"/>
                  <a:pt x="13588" y="6082"/>
                  <a:pt x="13667" y="6028"/>
                </a:cubicBezTo>
                <a:cubicBezTo>
                  <a:pt x="13678" y="6021"/>
                  <a:pt x="13688" y="5948"/>
                  <a:pt x="13692" y="5928"/>
                </a:cubicBezTo>
              </a:path>
              <a:path w="11982" h="2357">
                <a:moveTo>
                  <a:pt x="13767" y="5705"/>
                </a:moveTo>
                <a:cubicBezTo>
                  <a:pt x="13735" y="5823"/>
                  <a:pt x="13717" y="5906"/>
                  <a:pt x="13717" y="6028"/>
                </a:cubicBezTo>
                <a:cubicBezTo>
                  <a:pt x="13717" y="6053"/>
                  <a:pt x="13717" y="6077"/>
                  <a:pt x="13717" y="6102"/>
                </a:cubicBezTo>
                <a:cubicBezTo>
                  <a:pt x="13757" y="6089"/>
                  <a:pt x="13742" y="6054"/>
                  <a:pt x="13742" y="6003"/>
                </a:cubicBezTo>
                <a:cubicBezTo>
                  <a:pt x="13742" y="5929"/>
                  <a:pt x="13763" y="5875"/>
                  <a:pt x="13767" y="5804"/>
                </a:cubicBezTo>
                <a:cubicBezTo>
                  <a:pt x="13770" y="5745"/>
                  <a:pt x="13781" y="5674"/>
                  <a:pt x="13816" y="5631"/>
                </a:cubicBezTo>
                <a:cubicBezTo>
                  <a:pt x="13850" y="5589"/>
                  <a:pt x="13881" y="5601"/>
                  <a:pt x="13915" y="5631"/>
                </a:cubicBezTo>
                <a:cubicBezTo>
                  <a:pt x="13978" y="5687"/>
                  <a:pt x="13965" y="5752"/>
                  <a:pt x="13965" y="5829"/>
                </a:cubicBezTo>
                <a:cubicBezTo>
                  <a:pt x="13965" y="5852"/>
                  <a:pt x="13971" y="6054"/>
                  <a:pt x="13990" y="5978"/>
                </a:cubicBezTo>
                <a:cubicBezTo>
                  <a:pt x="13990" y="5961"/>
                  <a:pt x="13990" y="5945"/>
                  <a:pt x="13990" y="5928"/>
                </a:cubicBezTo>
              </a:path>
              <a:path w="11982" h="2357">
                <a:moveTo>
                  <a:pt x="14064" y="5184"/>
                </a:moveTo>
                <a:cubicBezTo>
                  <a:pt x="14191" y="5147"/>
                  <a:pt x="14221" y="5132"/>
                  <a:pt x="14337" y="5184"/>
                </a:cubicBezTo>
                <a:cubicBezTo>
                  <a:pt x="14383" y="5205"/>
                  <a:pt x="14411" y="5250"/>
                  <a:pt x="14387" y="5308"/>
                </a:cubicBezTo>
                <a:cubicBezTo>
                  <a:pt x="14365" y="5361"/>
                  <a:pt x="14295" y="5342"/>
                  <a:pt x="14288" y="5407"/>
                </a:cubicBezTo>
                <a:cubicBezTo>
                  <a:pt x="14283" y="5452"/>
                  <a:pt x="14348" y="5498"/>
                  <a:pt x="14387" y="5507"/>
                </a:cubicBezTo>
                <a:cubicBezTo>
                  <a:pt x="14435" y="5518"/>
                  <a:pt x="14512" y="5507"/>
                  <a:pt x="14560" y="5507"/>
                </a:cubicBezTo>
              </a:path>
              <a:path w="11982" h="2357">
                <a:moveTo>
                  <a:pt x="14610" y="5507"/>
                </a:moveTo>
                <a:cubicBezTo>
                  <a:pt x="14456" y="5703"/>
                  <a:pt x="14394" y="5733"/>
                  <a:pt x="14412" y="5953"/>
                </a:cubicBezTo>
                <a:cubicBezTo>
                  <a:pt x="14421" y="6062"/>
                  <a:pt x="14437" y="6097"/>
                  <a:pt x="14536" y="6152"/>
                </a:cubicBezTo>
                <a:cubicBezTo>
                  <a:pt x="14595" y="6185"/>
                  <a:pt x="14663" y="6221"/>
                  <a:pt x="14734" y="6201"/>
                </a:cubicBezTo>
                <a:cubicBezTo>
                  <a:pt x="14855" y="6167"/>
                  <a:pt x="14869" y="6025"/>
                  <a:pt x="14908" y="5928"/>
                </a:cubicBezTo>
                <a:cubicBezTo>
                  <a:pt x="14942" y="5844"/>
                  <a:pt x="14943" y="5764"/>
                  <a:pt x="14908" y="5680"/>
                </a:cubicBezTo>
                <a:cubicBezTo>
                  <a:pt x="14883" y="5620"/>
                  <a:pt x="14843" y="5541"/>
                  <a:pt x="14784" y="5507"/>
                </a:cubicBezTo>
                <a:cubicBezTo>
                  <a:pt x="14716" y="5467"/>
                  <a:pt x="14657" y="5451"/>
                  <a:pt x="14585" y="5482"/>
                </a:cubicBezTo>
              </a:path>
              <a:path w="11982" h="2357">
                <a:moveTo>
                  <a:pt x="14288" y="5804"/>
                </a:moveTo>
                <a:cubicBezTo>
                  <a:pt x="14385" y="5837"/>
                  <a:pt x="14485" y="5868"/>
                  <a:pt x="14585" y="5879"/>
                </a:cubicBezTo>
                <a:cubicBezTo>
                  <a:pt x="14712" y="5893"/>
                  <a:pt x="14833" y="5906"/>
                  <a:pt x="14957" y="5928"/>
                </a:cubicBezTo>
                <a:cubicBezTo>
                  <a:pt x="14970" y="5930"/>
                  <a:pt x="15093" y="5953"/>
                  <a:pt x="15032" y="5953"/>
                </a:cubicBezTo>
                <a:cubicBezTo>
                  <a:pt x="15024" y="5953"/>
                  <a:pt x="15015" y="5953"/>
                  <a:pt x="15007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759280" y="1982880"/>
            <a:ext cx="258840" cy="125280"/>
          </a:xfrm>
          <a:custGeom>
            <a:avLst/>
            <a:gdLst/>
            <a:ahLst/>
            <a:rect l="l" t="t" r="r" b="b"/>
            <a:pathLst>
              <a:path w="720" h="348">
                <a:moveTo>
                  <a:pt x="15999" y="5507"/>
                </a:moveTo>
                <a:cubicBezTo>
                  <a:pt x="16072" y="5507"/>
                  <a:pt x="16125" y="5521"/>
                  <a:pt x="16197" y="5531"/>
                </a:cubicBezTo>
                <a:cubicBezTo>
                  <a:pt x="16337" y="5550"/>
                  <a:pt x="16483" y="5534"/>
                  <a:pt x="16619" y="5556"/>
                </a:cubicBezTo>
                <a:cubicBezTo>
                  <a:pt x="16671" y="5556"/>
                  <a:pt x="16689" y="5557"/>
                  <a:pt x="16718" y="5581"/>
                </a:cubicBezTo>
              </a:path>
              <a:path w="720" h="348">
                <a:moveTo>
                  <a:pt x="16098" y="5779"/>
                </a:moveTo>
                <a:cubicBezTo>
                  <a:pt x="16179" y="5809"/>
                  <a:pt x="16258" y="5825"/>
                  <a:pt x="16346" y="5829"/>
                </a:cubicBezTo>
                <a:cubicBezTo>
                  <a:pt x="16436" y="5833"/>
                  <a:pt x="16510" y="5836"/>
                  <a:pt x="16594" y="5854"/>
                </a:cubicBezTo>
                <a:cubicBezTo>
                  <a:pt x="16622" y="5854"/>
                  <a:pt x="16628" y="5852"/>
                  <a:pt x="16594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010040" y="2411280"/>
            <a:ext cx="276120" cy="1098720"/>
          </a:xfrm>
          <a:custGeom>
            <a:avLst/>
            <a:gdLst/>
            <a:ahLst/>
            <a:rect l="l" t="t" r="r" b="b"/>
            <a:pathLst>
              <a:path w="770" h="3052">
                <a:moveTo>
                  <a:pt x="11584" y="6697"/>
                </a:moveTo>
                <a:cubicBezTo>
                  <a:pt x="11555" y="6793"/>
                  <a:pt x="11543" y="6917"/>
                  <a:pt x="11534" y="7020"/>
                </a:cubicBezTo>
                <a:cubicBezTo>
                  <a:pt x="11510" y="7301"/>
                  <a:pt x="11561" y="7587"/>
                  <a:pt x="11509" y="7863"/>
                </a:cubicBezTo>
                <a:cubicBezTo>
                  <a:pt x="11503" y="7896"/>
                  <a:pt x="11495" y="7970"/>
                  <a:pt x="11460" y="7987"/>
                </a:cubicBezTo>
                <a:cubicBezTo>
                  <a:pt x="11426" y="8004"/>
                  <a:pt x="11403" y="7935"/>
                  <a:pt x="11385" y="7913"/>
                </a:cubicBezTo>
              </a:path>
              <a:path w="770" h="3052">
                <a:moveTo>
                  <a:pt x="11137" y="7813"/>
                </a:moveTo>
                <a:cubicBezTo>
                  <a:pt x="11183" y="7904"/>
                  <a:pt x="11217" y="7988"/>
                  <a:pt x="11286" y="8062"/>
                </a:cubicBezTo>
                <a:cubicBezTo>
                  <a:pt x="11331" y="8111"/>
                  <a:pt x="11379" y="8202"/>
                  <a:pt x="11435" y="8235"/>
                </a:cubicBezTo>
                <a:cubicBezTo>
                  <a:pt x="11452" y="8245"/>
                  <a:pt x="11553" y="8302"/>
                  <a:pt x="11584" y="8285"/>
                </a:cubicBezTo>
                <a:cubicBezTo>
                  <a:pt x="11642" y="8253"/>
                  <a:pt x="11616" y="8200"/>
                  <a:pt x="11658" y="8161"/>
                </a:cubicBezTo>
                <a:cubicBezTo>
                  <a:pt x="11703" y="8120"/>
                  <a:pt x="11737" y="8051"/>
                  <a:pt x="11782" y="8012"/>
                </a:cubicBezTo>
                <a:cubicBezTo>
                  <a:pt x="11819" y="7980"/>
                  <a:pt x="11884" y="7939"/>
                  <a:pt x="11906" y="7888"/>
                </a:cubicBezTo>
                <a:cubicBezTo>
                  <a:pt x="11906" y="7880"/>
                  <a:pt x="11906" y="7871"/>
                  <a:pt x="11906" y="7863"/>
                </a:cubicBezTo>
              </a:path>
              <a:path w="770" h="3052">
                <a:moveTo>
                  <a:pt x="11410" y="8756"/>
                </a:moveTo>
                <a:cubicBezTo>
                  <a:pt x="11390" y="8884"/>
                  <a:pt x="11385" y="8999"/>
                  <a:pt x="11385" y="9128"/>
                </a:cubicBezTo>
                <a:cubicBezTo>
                  <a:pt x="11385" y="9266"/>
                  <a:pt x="11373" y="9390"/>
                  <a:pt x="11361" y="9525"/>
                </a:cubicBezTo>
                <a:cubicBezTo>
                  <a:pt x="11360" y="9540"/>
                  <a:pt x="11358" y="9777"/>
                  <a:pt x="11336" y="9748"/>
                </a:cubicBezTo>
                <a:cubicBezTo>
                  <a:pt x="11336" y="9723"/>
                  <a:pt x="11336" y="9715"/>
                  <a:pt x="11336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46080" y="2982960"/>
            <a:ext cx="2635200" cy="723960"/>
          </a:xfrm>
          <a:custGeom>
            <a:avLst/>
            <a:gdLst/>
            <a:ahLst/>
            <a:rect l="l" t="t" r="r" b="b"/>
            <a:pathLst>
              <a:path w="7319" h="2010">
                <a:moveTo>
                  <a:pt x="9624" y="8359"/>
                </a:moveTo>
                <a:cubicBezTo>
                  <a:pt x="9681" y="8401"/>
                  <a:pt x="9704" y="8442"/>
                  <a:pt x="9748" y="8508"/>
                </a:cubicBezTo>
                <a:cubicBezTo>
                  <a:pt x="9819" y="8616"/>
                  <a:pt x="9866" y="8754"/>
                  <a:pt x="9897" y="8880"/>
                </a:cubicBezTo>
                <a:cubicBezTo>
                  <a:pt x="9940" y="9055"/>
                  <a:pt x="9966" y="9245"/>
                  <a:pt x="9947" y="9426"/>
                </a:cubicBezTo>
                <a:cubicBezTo>
                  <a:pt x="9931" y="9583"/>
                  <a:pt x="9867" y="9709"/>
                  <a:pt x="9798" y="9847"/>
                </a:cubicBezTo>
                <a:cubicBezTo>
                  <a:pt x="9745" y="9953"/>
                  <a:pt x="9705" y="10059"/>
                  <a:pt x="9624" y="10145"/>
                </a:cubicBezTo>
                <a:cubicBezTo>
                  <a:pt x="9580" y="10192"/>
                  <a:pt x="9526" y="10304"/>
                  <a:pt x="9500" y="10269"/>
                </a:cubicBezTo>
                <a:cubicBezTo>
                  <a:pt x="9525" y="10244"/>
                  <a:pt x="9533" y="10236"/>
                  <a:pt x="9500" y="10220"/>
                </a:cubicBezTo>
              </a:path>
              <a:path w="7319" h="2010">
                <a:moveTo>
                  <a:pt x="3051" y="8285"/>
                </a:moveTo>
                <a:cubicBezTo>
                  <a:pt x="3029" y="8322"/>
                  <a:pt x="3019" y="8372"/>
                  <a:pt x="3001" y="8409"/>
                </a:cubicBezTo>
                <a:cubicBezTo>
                  <a:pt x="2945" y="8522"/>
                  <a:pt x="2872" y="8636"/>
                  <a:pt x="2828" y="8756"/>
                </a:cubicBezTo>
                <a:cubicBezTo>
                  <a:pt x="2777" y="8898"/>
                  <a:pt x="2737" y="9057"/>
                  <a:pt x="2704" y="9203"/>
                </a:cubicBezTo>
                <a:cubicBezTo>
                  <a:pt x="2670" y="9350"/>
                  <a:pt x="2633" y="9499"/>
                  <a:pt x="2629" y="9649"/>
                </a:cubicBezTo>
                <a:cubicBezTo>
                  <a:pt x="2626" y="9757"/>
                  <a:pt x="2619" y="9867"/>
                  <a:pt x="2654" y="9971"/>
                </a:cubicBezTo>
                <a:cubicBezTo>
                  <a:pt x="2673" y="10028"/>
                  <a:pt x="2687" y="10054"/>
                  <a:pt x="2729" y="10096"/>
                </a:cubicBezTo>
              </a:path>
              <a:path w="7319" h="2010">
                <a:moveTo>
                  <a:pt x="3398" y="9103"/>
                </a:moveTo>
                <a:cubicBezTo>
                  <a:pt x="3332" y="9085"/>
                  <a:pt x="3297" y="9096"/>
                  <a:pt x="3225" y="9128"/>
                </a:cubicBezTo>
                <a:cubicBezTo>
                  <a:pt x="3158" y="9158"/>
                  <a:pt x="3112" y="9186"/>
                  <a:pt x="3101" y="9252"/>
                </a:cubicBezTo>
                <a:cubicBezTo>
                  <a:pt x="3086" y="9344"/>
                  <a:pt x="3180" y="9391"/>
                  <a:pt x="3225" y="9451"/>
                </a:cubicBezTo>
                <a:cubicBezTo>
                  <a:pt x="3283" y="9528"/>
                  <a:pt x="3365" y="9606"/>
                  <a:pt x="3398" y="9699"/>
                </a:cubicBezTo>
                <a:cubicBezTo>
                  <a:pt x="3417" y="9753"/>
                  <a:pt x="3358" y="9804"/>
                  <a:pt x="3324" y="9823"/>
                </a:cubicBezTo>
                <a:cubicBezTo>
                  <a:pt x="3259" y="9859"/>
                  <a:pt x="3208" y="9854"/>
                  <a:pt x="3150" y="9823"/>
                </a:cubicBezTo>
                <a:cubicBezTo>
                  <a:pt x="3083" y="9788"/>
                  <a:pt x="3053" y="9772"/>
                  <a:pt x="3101" y="9699"/>
                </a:cubicBezTo>
                <a:cubicBezTo>
                  <a:pt x="3109" y="9691"/>
                  <a:pt x="3117" y="9682"/>
                  <a:pt x="3125" y="9674"/>
                </a:cubicBezTo>
              </a:path>
              <a:path w="7319" h="2010">
                <a:moveTo>
                  <a:pt x="3671" y="9525"/>
                </a:moveTo>
                <a:cubicBezTo>
                  <a:pt x="3793" y="9461"/>
                  <a:pt x="3826" y="9468"/>
                  <a:pt x="3894" y="9376"/>
                </a:cubicBezTo>
                <a:cubicBezTo>
                  <a:pt x="3922" y="9338"/>
                  <a:pt x="3972" y="9282"/>
                  <a:pt x="3944" y="9227"/>
                </a:cubicBezTo>
                <a:cubicBezTo>
                  <a:pt x="3930" y="9199"/>
                  <a:pt x="3873" y="9193"/>
                  <a:pt x="3845" y="9203"/>
                </a:cubicBezTo>
                <a:cubicBezTo>
                  <a:pt x="3794" y="9221"/>
                  <a:pt x="3698" y="9328"/>
                  <a:pt x="3671" y="9376"/>
                </a:cubicBezTo>
                <a:cubicBezTo>
                  <a:pt x="3621" y="9464"/>
                  <a:pt x="3612" y="9566"/>
                  <a:pt x="3621" y="9649"/>
                </a:cubicBezTo>
                <a:cubicBezTo>
                  <a:pt x="3629" y="9721"/>
                  <a:pt x="3646" y="9764"/>
                  <a:pt x="3721" y="9773"/>
                </a:cubicBezTo>
                <a:cubicBezTo>
                  <a:pt x="3780" y="9773"/>
                  <a:pt x="3806" y="9770"/>
                  <a:pt x="3845" y="9748"/>
                </a:cubicBezTo>
              </a:path>
              <a:path w="7319" h="2010">
                <a:moveTo>
                  <a:pt x="4291" y="9227"/>
                </a:moveTo>
                <a:cubicBezTo>
                  <a:pt x="4299" y="9227"/>
                  <a:pt x="4308" y="9227"/>
                  <a:pt x="4316" y="9227"/>
                </a:cubicBezTo>
                <a:cubicBezTo>
                  <a:pt x="4298" y="9174"/>
                  <a:pt x="4280" y="9215"/>
                  <a:pt x="4242" y="9227"/>
                </a:cubicBezTo>
                <a:cubicBezTo>
                  <a:pt x="4196" y="9242"/>
                  <a:pt x="4149" y="9305"/>
                  <a:pt x="4118" y="9351"/>
                </a:cubicBezTo>
                <a:cubicBezTo>
                  <a:pt x="4051" y="9450"/>
                  <a:pt x="4023" y="9499"/>
                  <a:pt x="4018" y="9624"/>
                </a:cubicBezTo>
                <a:cubicBezTo>
                  <a:pt x="4013" y="9750"/>
                  <a:pt x="4028" y="9759"/>
                  <a:pt x="4142" y="9823"/>
                </a:cubicBezTo>
                <a:cubicBezTo>
                  <a:pt x="4214" y="9864"/>
                  <a:pt x="4286" y="9823"/>
                  <a:pt x="4341" y="9773"/>
                </a:cubicBezTo>
                <a:cubicBezTo>
                  <a:pt x="4402" y="9718"/>
                  <a:pt x="4413" y="9674"/>
                  <a:pt x="4440" y="9599"/>
                </a:cubicBezTo>
              </a:path>
              <a:path w="7319" h="2010">
                <a:moveTo>
                  <a:pt x="4465" y="8905"/>
                </a:moveTo>
                <a:cubicBezTo>
                  <a:pt x="4500" y="8874"/>
                  <a:pt x="4577" y="8789"/>
                  <a:pt x="4638" y="8830"/>
                </a:cubicBezTo>
                <a:cubicBezTo>
                  <a:pt x="4716" y="8883"/>
                  <a:pt x="4663" y="8945"/>
                  <a:pt x="4614" y="9004"/>
                </a:cubicBezTo>
                <a:cubicBezTo>
                  <a:pt x="4581" y="9043"/>
                  <a:pt x="4510" y="9081"/>
                  <a:pt x="4490" y="9128"/>
                </a:cubicBezTo>
                <a:cubicBezTo>
                  <a:pt x="4490" y="9153"/>
                  <a:pt x="4490" y="9161"/>
                  <a:pt x="4490" y="9178"/>
                </a:cubicBezTo>
                <a:cubicBezTo>
                  <a:pt x="4633" y="9178"/>
                  <a:pt x="4773" y="9188"/>
                  <a:pt x="4911" y="9153"/>
                </a:cubicBezTo>
              </a:path>
              <a:path w="7319" h="2010">
                <a:moveTo>
                  <a:pt x="5135" y="9203"/>
                </a:moveTo>
                <a:cubicBezTo>
                  <a:pt x="5048" y="9383"/>
                  <a:pt x="4968" y="9482"/>
                  <a:pt x="4961" y="9674"/>
                </a:cubicBezTo>
                <a:cubicBezTo>
                  <a:pt x="4958" y="9755"/>
                  <a:pt x="4995" y="9809"/>
                  <a:pt x="5060" y="9847"/>
                </a:cubicBezTo>
                <a:cubicBezTo>
                  <a:pt x="5137" y="9892"/>
                  <a:pt x="5209" y="9866"/>
                  <a:pt x="5283" y="9823"/>
                </a:cubicBezTo>
                <a:cubicBezTo>
                  <a:pt x="5368" y="9773"/>
                  <a:pt x="5479" y="9703"/>
                  <a:pt x="5507" y="9599"/>
                </a:cubicBezTo>
                <a:cubicBezTo>
                  <a:pt x="5527" y="9526"/>
                  <a:pt x="5542" y="9371"/>
                  <a:pt x="5507" y="9302"/>
                </a:cubicBezTo>
                <a:cubicBezTo>
                  <a:pt x="5477" y="9241"/>
                  <a:pt x="5389" y="9143"/>
                  <a:pt x="5333" y="9103"/>
                </a:cubicBezTo>
                <a:cubicBezTo>
                  <a:pt x="5273" y="9061"/>
                  <a:pt x="5228" y="9060"/>
                  <a:pt x="5159" y="9054"/>
                </a:cubicBezTo>
              </a:path>
              <a:path w="7319" h="2010">
                <a:moveTo>
                  <a:pt x="4837" y="9376"/>
                </a:moveTo>
                <a:cubicBezTo>
                  <a:pt x="4883" y="9457"/>
                  <a:pt x="4893" y="9451"/>
                  <a:pt x="4986" y="9451"/>
                </a:cubicBezTo>
                <a:cubicBezTo>
                  <a:pt x="5113" y="9451"/>
                  <a:pt x="5234" y="9468"/>
                  <a:pt x="5358" y="9475"/>
                </a:cubicBezTo>
                <a:cubicBezTo>
                  <a:pt x="5511" y="9484"/>
                  <a:pt x="5654" y="9475"/>
                  <a:pt x="5804" y="9451"/>
                </a:cubicBezTo>
              </a:path>
              <a:path w="7319" h="2010">
                <a:moveTo>
                  <a:pt x="6127" y="9103"/>
                </a:moveTo>
                <a:cubicBezTo>
                  <a:pt x="6108" y="9218"/>
                  <a:pt x="6090" y="9337"/>
                  <a:pt x="6077" y="9451"/>
                </a:cubicBezTo>
                <a:cubicBezTo>
                  <a:pt x="6066" y="9549"/>
                  <a:pt x="6096" y="9629"/>
                  <a:pt x="6102" y="9723"/>
                </a:cubicBezTo>
                <a:cubicBezTo>
                  <a:pt x="6105" y="9766"/>
                  <a:pt x="6127" y="9890"/>
                  <a:pt x="6127" y="9847"/>
                </a:cubicBezTo>
                <a:cubicBezTo>
                  <a:pt x="6127" y="9839"/>
                  <a:pt x="6127" y="9831"/>
                  <a:pt x="6127" y="9823"/>
                </a:cubicBezTo>
              </a:path>
              <a:path w="7319" h="2010">
                <a:moveTo>
                  <a:pt x="5953" y="9550"/>
                </a:moveTo>
                <a:cubicBezTo>
                  <a:pt x="6082" y="9550"/>
                  <a:pt x="6204" y="9540"/>
                  <a:pt x="6325" y="9525"/>
                </a:cubicBezTo>
                <a:cubicBezTo>
                  <a:pt x="6350" y="9525"/>
                  <a:pt x="6375" y="9525"/>
                  <a:pt x="6400" y="9525"/>
                </a:cubicBezTo>
              </a:path>
              <a:path w="7319" h="2010">
                <a:moveTo>
                  <a:pt x="6945" y="8954"/>
                </a:moveTo>
                <a:cubicBezTo>
                  <a:pt x="6925" y="9078"/>
                  <a:pt x="6918" y="9205"/>
                  <a:pt x="6896" y="9327"/>
                </a:cubicBezTo>
                <a:cubicBezTo>
                  <a:pt x="6871" y="9465"/>
                  <a:pt x="6872" y="9602"/>
                  <a:pt x="6896" y="9723"/>
                </a:cubicBezTo>
                <a:cubicBezTo>
                  <a:pt x="6904" y="9764"/>
                  <a:pt x="6896" y="9840"/>
                  <a:pt x="6896" y="9798"/>
                </a:cubicBezTo>
              </a:path>
              <a:path w="7319" h="2010">
                <a:moveTo>
                  <a:pt x="6623" y="9451"/>
                </a:moveTo>
                <a:cubicBezTo>
                  <a:pt x="6775" y="9451"/>
                  <a:pt x="6919" y="9438"/>
                  <a:pt x="7069" y="9426"/>
                </a:cubicBezTo>
                <a:cubicBezTo>
                  <a:pt x="7203" y="9416"/>
                  <a:pt x="7333" y="9407"/>
                  <a:pt x="7466" y="9401"/>
                </a:cubicBezTo>
                <a:cubicBezTo>
                  <a:pt x="7491" y="9401"/>
                  <a:pt x="7499" y="9401"/>
                  <a:pt x="7516" y="9401"/>
                </a:cubicBezTo>
                <a:cubicBezTo>
                  <a:pt x="7446" y="9457"/>
                  <a:pt x="7404" y="9481"/>
                  <a:pt x="7342" y="9550"/>
                </a:cubicBezTo>
                <a:cubicBezTo>
                  <a:pt x="7278" y="9621"/>
                  <a:pt x="7226" y="9649"/>
                  <a:pt x="7218" y="9748"/>
                </a:cubicBezTo>
                <a:cubicBezTo>
                  <a:pt x="7215" y="9793"/>
                  <a:pt x="7218" y="9819"/>
                  <a:pt x="7268" y="9823"/>
                </a:cubicBezTo>
                <a:cubicBezTo>
                  <a:pt x="7332" y="9828"/>
                  <a:pt x="7350" y="9790"/>
                  <a:pt x="7392" y="9748"/>
                </a:cubicBezTo>
                <a:cubicBezTo>
                  <a:pt x="7447" y="9693"/>
                  <a:pt x="7481" y="9626"/>
                  <a:pt x="7491" y="9550"/>
                </a:cubicBezTo>
                <a:cubicBezTo>
                  <a:pt x="7491" y="9525"/>
                  <a:pt x="7491" y="9500"/>
                  <a:pt x="7491" y="9475"/>
                </a:cubicBezTo>
                <a:cubicBezTo>
                  <a:pt x="7491" y="9549"/>
                  <a:pt x="7474" y="9577"/>
                  <a:pt x="7491" y="9649"/>
                </a:cubicBezTo>
                <a:cubicBezTo>
                  <a:pt x="7504" y="9705"/>
                  <a:pt x="7552" y="9781"/>
                  <a:pt x="7590" y="9823"/>
                </a:cubicBezTo>
                <a:cubicBezTo>
                  <a:pt x="7609" y="9843"/>
                  <a:pt x="7659" y="9863"/>
                  <a:pt x="7689" y="9847"/>
                </a:cubicBezTo>
                <a:cubicBezTo>
                  <a:pt x="7697" y="9839"/>
                  <a:pt x="7706" y="9831"/>
                  <a:pt x="7714" y="9823"/>
                </a:cubicBezTo>
              </a:path>
              <a:path w="7319" h="2010">
                <a:moveTo>
                  <a:pt x="7764" y="9550"/>
                </a:moveTo>
                <a:cubicBezTo>
                  <a:pt x="7764" y="9662"/>
                  <a:pt x="7753" y="9824"/>
                  <a:pt x="7789" y="9897"/>
                </a:cubicBezTo>
                <a:cubicBezTo>
                  <a:pt x="7789" y="9905"/>
                  <a:pt x="7789" y="9914"/>
                  <a:pt x="7789" y="9922"/>
                </a:cubicBezTo>
                <a:cubicBezTo>
                  <a:pt x="7789" y="9866"/>
                  <a:pt x="7807" y="9824"/>
                  <a:pt x="7813" y="9773"/>
                </a:cubicBezTo>
                <a:cubicBezTo>
                  <a:pt x="7823" y="9692"/>
                  <a:pt x="7829" y="9605"/>
                  <a:pt x="7838" y="9525"/>
                </a:cubicBezTo>
                <a:cubicBezTo>
                  <a:pt x="7847" y="9450"/>
                  <a:pt x="7846" y="9445"/>
                  <a:pt x="7913" y="9401"/>
                </a:cubicBezTo>
                <a:cubicBezTo>
                  <a:pt x="7955" y="9374"/>
                  <a:pt x="8068" y="9389"/>
                  <a:pt x="8086" y="9451"/>
                </a:cubicBezTo>
                <a:cubicBezTo>
                  <a:pt x="8114" y="9545"/>
                  <a:pt x="8136" y="9650"/>
                  <a:pt x="8136" y="9748"/>
                </a:cubicBezTo>
                <a:cubicBezTo>
                  <a:pt x="8136" y="9758"/>
                  <a:pt x="8136" y="9914"/>
                  <a:pt x="8136" y="9847"/>
                </a:cubicBezTo>
                <a:cubicBezTo>
                  <a:pt x="8136" y="9823"/>
                  <a:pt x="8136" y="9814"/>
                  <a:pt x="8136" y="9798"/>
                </a:cubicBezTo>
              </a:path>
              <a:path w="7319" h="2010">
                <a:moveTo>
                  <a:pt x="8161" y="8880"/>
                </a:moveTo>
                <a:cubicBezTo>
                  <a:pt x="8290" y="8835"/>
                  <a:pt x="8378" y="8778"/>
                  <a:pt x="8508" y="8830"/>
                </a:cubicBezTo>
                <a:cubicBezTo>
                  <a:pt x="8588" y="8862"/>
                  <a:pt x="8591" y="8883"/>
                  <a:pt x="8558" y="8954"/>
                </a:cubicBezTo>
                <a:cubicBezTo>
                  <a:pt x="8521" y="9034"/>
                  <a:pt x="8478" y="9032"/>
                  <a:pt x="8409" y="9079"/>
                </a:cubicBezTo>
                <a:cubicBezTo>
                  <a:pt x="8386" y="9101"/>
                  <a:pt x="8378" y="9106"/>
                  <a:pt x="8384" y="9128"/>
                </a:cubicBezTo>
                <a:cubicBezTo>
                  <a:pt x="8495" y="9173"/>
                  <a:pt x="8608" y="9178"/>
                  <a:pt x="8731" y="9178"/>
                </a:cubicBezTo>
              </a:path>
              <a:path w="7319" h="2010">
                <a:moveTo>
                  <a:pt x="9004" y="9153"/>
                </a:moveTo>
                <a:cubicBezTo>
                  <a:pt x="8900" y="9285"/>
                  <a:pt x="8802" y="9389"/>
                  <a:pt x="8756" y="9550"/>
                </a:cubicBezTo>
                <a:cubicBezTo>
                  <a:pt x="8724" y="9663"/>
                  <a:pt x="8721" y="9743"/>
                  <a:pt x="8781" y="9847"/>
                </a:cubicBezTo>
                <a:cubicBezTo>
                  <a:pt x="8823" y="9919"/>
                  <a:pt x="8891" y="10003"/>
                  <a:pt x="8979" y="10021"/>
                </a:cubicBezTo>
                <a:cubicBezTo>
                  <a:pt x="9076" y="10041"/>
                  <a:pt x="9205" y="10019"/>
                  <a:pt x="9277" y="9947"/>
                </a:cubicBezTo>
                <a:cubicBezTo>
                  <a:pt x="9343" y="9881"/>
                  <a:pt x="9394" y="9739"/>
                  <a:pt x="9401" y="9649"/>
                </a:cubicBezTo>
                <a:cubicBezTo>
                  <a:pt x="9410" y="9540"/>
                  <a:pt x="9390" y="9377"/>
                  <a:pt x="9327" y="9277"/>
                </a:cubicBezTo>
                <a:cubicBezTo>
                  <a:pt x="9269" y="9185"/>
                  <a:pt x="9175" y="9160"/>
                  <a:pt x="9079" y="9128"/>
                </a:cubicBezTo>
              </a:path>
              <a:path w="7319" h="2010">
                <a:moveTo>
                  <a:pt x="8582" y="9550"/>
                </a:moveTo>
                <a:cubicBezTo>
                  <a:pt x="8799" y="9587"/>
                  <a:pt x="8958" y="9587"/>
                  <a:pt x="9178" y="9550"/>
                </a:cubicBezTo>
                <a:cubicBezTo>
                  <a:pt x="9294" y="9530"/>
                  <a:pt x="9440" y="9491"/>
                  <a:pt x="9550" y="9550"/>
                </a:cubicBezTo>
                <a:cubicBezTo>
                  <a:pt x="9558" y="9558"/>
                  <a:pt x="9567" y="9567"/>
                  <a:pt x="9575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374840" y="3633840"/>
            <a:ext cx="268200" cy="706320"/>
          </a:xfrm>
          <a:custGeom>
            <a:avLst/>
            <a:gdLst/>
            <a:ahLst/>
            <a:rect l="l" t="t" r="r" b="b"/>
            <a:pathLst>
              <a:path w="745" h="1960">
                <a:moveTo>
                  <a:pt x="4242" y="10096"/>
                </a:moveTo>
                <a:cubicBezTo>
                  <a:pt x="4242" y="10248"/>
                  <a:pt x="4231" y="10394"/>
                  <a:pt x="4217" y="10542"/>
                </a:cubicBezTo>
                <a:cubicBezTo>
                  <a:pt x="4188" y="10846"/>
                  <a:pt x="4154" y="11301"/>
                  <a:pt x="4192" y="11584"/>
                </a:cubicBezTo>
                <a:cubicBezTo>
                  <a:pt x="4199" y="11637"/>
                  <a:pt x="4223" y="11664"/>
                  <a:pt x="4167" y="11683"/>
                </a:cubicBezTo>
              </a:path>
              <a:path w="745" h="1960">
                <a:moveTo>
                  <a:pt x="3820" y="11485"/>
                </a:moveTo>
                <a:cubicBezTo>
                  <a:pt x="3869" y="11545"/>
                  <a:pt x="3846" y="11573"/>
                  <a:pt x="3870" y="11633"/>
                </a:cubicBezTo>
                <a:cubicBezTo>
                  <a:pt x="3893" y="11690"/>
                  <a:pt x="3918" y="11749"/>
                  <a:pt x="3944" y="11807"/>
                </a:cubicBezTo>
                <a:cubicBezTo>
                  <a:pt x="3967" y="11858"/>
                  <a:pt x="4028" y="11947"/>
                  <a:pt x="4068" y="11981"/>
                </a:cubicBezTo>
                <a:cubicBezTo>
                  <a:pt x="4098" y="12007"/>
                  <a:pt x="4180" y="12051"/>
                  <a:pt x="4217" y="12055"/>
                </a:cubicBezTo>
                <a:cubicBezTo>
                  <a:pt x="4270" y="12061"/>
                  <a:pt x="4295" y="12058"/>
                  <a:pt x="4316" y="12030"/>
                </a:cubicBezTo>
                <a:cubicBezTo>
                  <a:pt x="4340" y="11998"/>
                  <a:pt x="4346" y="11961"/>
                  <a:pt x="4366" y="11931"/>
                </a:cubicBezTo>
                <a:cubicBezTo>
                  <a:pt x="4394" y="11888"/>
                  <a:pt x="4431" y="11887"/>
                  <a:pt x="4465" y="11857"/>
                </a:cubicBezTo>
                <a:cubicBezTo>
                  <a:pt x="4501" y="11825"/>
                  <a:pt x="4517" y="11789"/>
                  <a:pt x="4539" y="11757"/>
                </a:cubicBezTo>
                <a:cubicBezTo>
                  <a:pt x="4562" y="11735"/>
                  <a:pt x="4570" y="11730"/>
                  <a:pt x="4564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30160" y="4402080"/>
            <a:ext cx="3438720" cy="652680"/>
          </a:xfrm>
          <a:custGeom>
            <a:avLst/>
            <a:gdLst/>
            <a:ahLst/>
            <a:rect l="l" t="t" r="r" b="b"/>
            <a:pathLst>
              <a:path w="9551" h="1811">
                <a:moveTo>
                  <a:pt x="7516" y="12229"/>
                </a:moveTo>
                <a:cubicBezTo>
                  <a:pt x="7516" y="12311"/>
                  <a:pt x="7502" y="12373"/>
                  <a:pt x="7491" y="12452"/>
                </a:cubicBezTo>
                <a:cubicBezTo>
                  <a:pt x="7477" y="12547"/>
                  <a:pt x="7475" y="12656"/>
                  <a:pt x="7466" y="12750"/>
                </a:cubicBezTo>
                <a:cubicBezTo>
                  <a:pt x="7442" y="13014"/>
                  <a:pt x="7712" y="13592"/>
                  <a:pt x="7466" y="13494"/>
                </a:cubicBezTo>
                <a:cubicBezTo>
                  <a:pt x="7433" y="13494"/>
                  <a:pt x="7424" y="13486"/>
                  <a:pt x="7441" y="13444"/>
                </a:cubicBezTo>
              </a:path>
              <a:path w="9551" h="1811">
                <a:moveTo>
                  <a:pt x="7094" y="12874"/>
                </a:moveTo>
                <a:cubicBezTo>
                  <a:pt x="7158" y="12882"/>
                  <a:pt x="7230" y="12884"/>
                  <a:pt x="7293" y="12898"/>
                </a:cubicBezTo>
                <a:cubicBezTo>
                  <a:pt x="7385" y="12918"/>
                  <a:pt x="7472" y="12960"/>
                  <a:pt x="7565" y="12973"/>
                </a:cubicBezTo>
                <a:cubicBezTo>
                  <a:pt x="7618" y="12981"/>
                  <a:pt x="7749" y="12992"/>
                  <a:pt x="7764" y="12948"/>
                </a:cubicBezTo>
              </a:path>
              <a:path w="9551" h="1811">
                <a:moveTo>
                  <a:pt x="8558" y="12576"/>
                </a:moveTo>
                <a:cubicBezTo>
                  <a:pt x="8550" y="12664"/>
                  <a:pt x="8549" y="12761"/>
                  <a:pt x="8533" y="12849"/>
                </a:cubicBezTo>
                <a:cubicBezTo>
                  <a:pt x="8511" y="12969"/>
                  <a:pt x="8533" y="13092"/>
                  <a:pt x="8533" y="13221"/>
                </a:cubicBezTo>
                <a:cubicBezTo>
                  <a:pt x="8533" y="13314"/>
                  <a:pt x="8536" y="13405"/>
                  <a:pt x="8558" y="13494"/>
                </a:cubicBezTo>
                <a:cubicBezTo>
                  <a:pt x="8574" y="13558"/>
                  <a:pt x="8593" y="13611"/>
                  <a:pt x="8607" y="13667"/>
                </a:cubicBezTo>
                <a:cubicBezTo>
                  <a:pt x="8575" y="13628"/>
                  <a:pt x="8556" y="13589"/>
                  <a:pt x="8533" y="13543"/>
                </a:cubicBezTo>
              </a:path>
              <a:path w="9551" h="1811">
                <a:moveTo>
                  <a:pt x="8310" y="13196"/>
                </a:moveTo>
                <a:cubicBezTo>
                  <a:pt x="8330" y="13130"/>
                  <a:pt x="8323" y="13078"/>
                  <a:pt x="8434" y="13097"/>
                </a:cubicBezTo>
                <a:cubicBezTo>
                  <a:pt x="8565" y="13120"/>
                  <a:pt x="8696" y="13142"/>
                  <a:pt x="8830" y="13146"/>
                </a:cubicBezTo>
                <a:cubicBezTo>
                  <a:pt x="8903" y="13148"/>
                  <a:pt x="9035" y="13147"/>
                  <a:pt x="9103" y="13171"/>
                </a:cubicBezTo>
                <a:cubicBezTo>
                  <a:pt x="9126" y="13194"/>
                  <a:pt x="9130" y="13202"/>
                  <a:pt x="9153" y="13196"/>
                </a:cubicBezTo>
                <a:cubicBezTo>
                  <a:pt x="9118" y="13245"/>
                  <a:pt x="9095" y="13262"/>
                  <a:pt x="9029" y="13295"/>
                </a:cubicBezTo>
                <a:cubicBezTo>
                  <a:pt x="8981" y="13319"/>
                  <a:pt x="8873" y="13390"/>
                  <a:pt x="8855" y="13444"/>
                </a:cubicBezTo>
                <a:cubicBezTo>
                  <a:pt x="8831" y="13517"/>
                  <a:pt x="8833" y="13556"/>
                  <a:pt x="8880" y="13618"/>
                </a:cubicBezTo>
                <a:cubicBezTo>
                  <a:pt x="8916" y="13666"/>
                  <a:pt x="8973" y="13675"/>
                  <a:pt x="9029" y="13667"/>
                </a:cubicBezTo>
                <a:cubicBezTo>
                  <a:pt x="9108" y="13655"/>
                  <a:pt x="9161" y="13571"/>
                  <a:pt x="9178" y="13494"/>
                </a:cubicBezTo>
                <a:cubicBezTo>
                  <a:pt x="9193" y="13427"/>
                  <a:pt x="9203" y="13367"/>
                  <a:pt x="9203" y="13295"/>
                </a:cubicBezTo>
                <a:cubicBezTo>
                  <a:pt x="9203" y="13287"/>
                  <a:pt x="9203" y="13279"/>
                  <a:pt x="9203" y="13271"/>
                </a:cubicBezTo>
                <a:cubicBezTo>
                  <a:pt x="9228" y="13341"/>
                  <a:pt x="9227" y="13394"/>
                  <a:pt x="9227" y="13469"/>
                </a:cubicBezTo>
                <a:cubicBezTo>
                  <a:pt x="9227" y="13518"/>
                  <a:pt x="9251" y="13604"/>
                  <a:pt x="9277" y="13643"/>
                </a:cubicBezTo>
                <a:cubicBezTo>
                  <a:pt x="9305" y="13685"/>
                  <a:pt x="9397" y="13734"/>
                  <a:pt x="9451" y="13717"/>
                </a:cubicBezTo>
                <a:cubicBezTo>
                  <a:pt x="9488" y="13679"/>
                  <a:pt x="9506" y="13655"/>
                  <a:pt x="9525" y="13618"/>
                </a:cubicBezTo>
              </a:path>
              <a:path w="9551" h="1811">
                <a:moveTo>
                  <a:pt x="9575" y="13320"/>
                </a:moveTo>
                <a:cubicBezTo>
                  <a:pt x="9530" y="13507"/>
                  <a:pt x="9500" y="13544"/>
                  <a:pt x="9525" y="13692"/>
                </a:cubicBezTo>
                <a:cubicBezTo>
                  <a:pt x="9535" y="13750"/>
                  <a:pt x="9541" y="13771"/>
                  <a:pt x="9575" y="13816"/>
                </a:cubicBezTo>
                <a:cubicBezTo>
                  <a:pt x="9607" y="13808"/>
                  <a:pt x="9641" y="13778"/>
                  <a:pt x="9649" y="13742"/>
                </a:cubicBezTo>
                <a:cubicBezTo>
                  <a:pt x="9663" y="13677"/>
                  <a:pt x="9688" y="13608"/>
                  <a:pt x="9699" y="13543"/>
                </a:cubicBezTo>
                <a:cubicBezTo>
                  <a:pt x="9708" y="13491"/>
                  <a:pt x="9722" y="13431"/>
                  <a:pt x="9773" y="13395"/>
                </a:cubicBezTo>
                <a:cubicBezTo>
                  <a:pt x="9860" y="13334"/>
                  <a:pt x="9911" y="13331"/>
                  <a:pt x="9996" y="13395"/>
                </a:cubicBezTo>
                <a:cubicBezTo>
                  <a:pt x="10079" y="13458"/>
                  <a:pt x="10092" y="13547"/>
                  <a:pt x="10096" y="13643"/>
                </a:cubicBezTo>
                <a:cubicBezTo>
                  <a:pt x="10100" y="13750"/>
                  <a:pt x="10094" y="13841"/>
                  <a:pt x="10071" y="13940"/>
                </a:cubicBezTo>
                <a:cubicBezTo>
                  <a:pt x="10056" y="14005"/>
                  <a:pt x="10071" y="13982"/>
                  <a:pt x="10071" y="13915"/>
                </a:cubicBezTo>
                <a:cubicBezTo>
                  <a:pt x="10071" y="13899"/>
                  <a:pt x="10071" y="13882"/>
                  <a:pt x="10071" y="13866"/>
                </a:cubicBezTo>
              </a:path>
              <a:path w="9551" h="1811">
                <a:moveTo>
                  <a:pt x="10145" y="12774"/>
                </a:moveTo>
                <a:cubicBezTo>
                  <a:pt x="10334" y="12666"/>
                  <a:pt x="10309" y="12674"/>
                  <a:pt x="10492" y="12700"/>
                </a:cubicBezTo>
                <a:cubicBezTo>
                  <a:pt x="10568" y="12711"/>
                  <a:pt x="10589" y="12754"/>
                  <a:pt x="10542" y="12824"/>
                </a:cubicBezTo>
                <a:cubicBezTo>
                  <a:pt x="10504" y="12881"/>
                  <a:pt x="10419" y="12921"/>
                  <a:pt x="10368" y="12973"/>
                </a:cubicBezTo>
                <a:cubicBezTo>
                  <a:pt x="10339" y="13002"/>
                  <a:pt x="10327" y="13043"/>
                  <a:pt x="10368" y="13072"/>
                </a:cubicBezTo>
                <a:cubicBezTo>
                  <a:pt x="10459" y="13135"/>
                  <a:pt x="10536" y="13146"/>
                  <a:pt x="10641" y="13146"/>
                </a:cubicBezTo>
                <a:cubicBezTo>
                  <a:pt x="10709" y="13146"/>
                  <a:pt x="10728" y="13149"/>
                  <a:pt x="10765" y="13122"/>
                </a:cubicBezTo>
              </a:path>
              <a:path w="9551" h="1811">
                <a:moveTo>
                  <a:pt x="11162" y="12898"/>
                </a:moveTo>
                <a:cubicBezTo>
                  <a:pt x="11106" y="13018"/>
                  <a:pt x="11060" y="13134"/>
                  <a:pt x="10988" y="13246"/>
                </a:cubicBezTo>
                <a:cubicBezTo>
                  <a:pt x="10919" y="13353"/>
                  <a:pt x="10880" y="13474"/>
                  <a:pt x="10840" y="13593"/>
                </a:cubicBezTo>
                <a:cubicBezTo>
                  <a:pt x="10808" y="13688"/>
                  <a:pt x="10801" y="13773"/>
                  <a:pt x="10840" y="13866"/>
                </a:cubicBezTo>
                <a:cubicBezTo>
                  <a:pt x="10879" y="13960"/>
                  <a:pt x="10948" y="13984"/>
                  <a:pt x="11038" y="14015"/>
                </a:cubicBezTo>
                <a:cubicBezTo>
                  <a:pt x="11151" y="14054"/>
                  <a:pt x="11259" y="13997"/>
                  <a:pt x="11361" y="13940"/>
                </a:cubicBezTo>
                <a:cubicBezTo>
                  <a:pt x="11476" y="13875"/>
                  <a:pt x="11539" y="13787"/>
                  <a:pt x="11584" y="13667"/>
                </a:cubicBezTo>
                <a:cubicBezTo>
                  <a:pt x="11618" y="13576"/>
                  <a:pt x="11589" y="13453"/>
                  <a:pt x="11534" y="13370"/>
                </a:cubicBezTo>
                <a:cubicBezTo>
                  <a:pt x="11501" y="13329"/>
                  <a:pt x="11468" y="13287"/>
                  <a:pt x="11435" y="13246"/>
                </a:cubicBezTo>
              </a:path>
              <a:path w="9551" h="1811">
                <a:moveTo>
                  <a:pt x="10641" y="13395"/>
                </a:moveTo>
                <a:cubicBezTo>
                  <a:pt x="10744" y="13463"/>
                  <a:pt x="10838" y="13448"/>
                  <a:pt x="10964" y="13469"/>
                </a:cubicBezTo>
                <a:cubicBezTo>
                  <a:pt x="11170" y="13504"/>
                  <a:pt x="11381" y="13544"/>
                  <a:pt x="11584" y="13593"/>
                </a:cubicBezTo>
                <a:cubicBezTo>
                  <a:pt x="11609" y="13599"/>
                  <a:pt x="11866" y="13686"/>
                  <a:pt x="11857" y="13618"/>
                </a:cubicBezTo>
                <a:cubicBezTo>
                  <a:pt x="11829" y="13590"/>
                  <a:pt x="11820" y="13576"/>
                  <a:pt x="11832" y="13543"/>
                </a:cubicBezTo>
              </a:path>
              <a:path w="9551" h="1811">
                <a:moveTo>
                  <a:pt x="2356" y="12477"/>
                </a:moveTo>
                <a:cubicBezTo>
                  <a:pt x="2364" y="12564"/>
                  <a:pt x="2381" y="12635"/>
                  <a:pt x="2381" y="12725"/>
                </a:cubicBezTo>
                <a:cubicBezTo>
                  <a:pt x="2381" y="12894"/>
                  <a:pt x="2374" y="13057"/>
                  <a:pt x="2356" y="13221"/>
                </a:cubicBezTo>
                <a:cubicBezTo>
                  <a:pt x="2347" y="13304"/>
                  <a:pt x="2326" y="13367"/>
                  <a:pt x="2307" y="13444"/>
                </a:cubicBezTo>
                <a:cubicBezTo>
                  <a:pt x="2307" y="13477"/>
                  <a:pt x="2307" y="13477"/>
                  <a:pt x="2307" y="13419"/>
                </a:cubicBezTo>
              </a:path>
              <a:path w="9551" h="1811">
                <a:moveTo>
                  <a:pt x="3175" y="12576"/>
                </a:moveTo>
                <a:cubicBezTo>
                  <a:pt x="3186" y="12677"/>
                  <a:pt x="3187" y="12725"/>
                  <a:pt x="3175" y="12824"/>
                </a:cubicBezTo>
                <a:cubicBezTo>
                  <a:pt x="3163" y="12930"/>
                  <a:pt x="3154" y="13041"/>
                  <a:pt x="3150" y="13146"/>
                </a:cubicBezTo>
                <a:cubicBezTo>
                  <a:pt x="3148" y="13212"/>
                  <a:pt x="3150" y="13279"/>
                  <a:pt x="3150" y="13345"/>
                </a:cubicBezTo>
              </a:path>
              <a:path w="9551" h="1811">
                <a:moveTo>
                  <a:pt x="2877" y="12998"/>
                </a:moveTo>
                <a:cubicBezTo>
                  <a:pt x="2981" y="13018"/>
                  <a:pt x="3069" y="13022"/>
                  <a:pt x="3175" y="13022"/>
                </a:cubicBezTo>
                <a:cubicBezTo>
                  <a:pt x="3266" y="13022"/>
                  <a:pt x="3333" y="13015"/>
                  <a:pt x="3423" y="12998"/>
                </a:cubicBezTo>
              </a:path>
              <a:path w="9551" h="1811">
                <a:moveTo>
                  <a:pt x="3820" y="12551"/>
                </a:moveTo>
                <a:cubicBezTo>
                  <a:pt x="3820" y="12648"/>
                  <a:pt x="3805" y="12731"/>
                  <a:pt x="3795" y="12824"/>
                </a:cubicBezTo>
                <a:cubicBezTo>
                  <a:pt x="3782" y="12935"/>
                  <a:pt x="3806" y="13040"/>
                  <a:pt x="3820" y="13146"/>
                </a:cubicBezTo>
                <a:cubicBezTo>
                  <a:pt x="3830" y="13221"/>
                  <a:pt x="3845" y="13293"/>
                  <a:pt x="3845" y="13370"/>
                </a:cubicBezTo>
              </a:path>
              <a:path w="9551" h="1811">
                <a:moveTo>
                  <a:pt x="3572" y="12898"/>
                </a:moveTo>
                <a:cubicBezTo>
                  <a:pt x="3700" y="12898"/>
                  <a:pt x="3820" y="12910"/>
                  <a:pt x="3944" y="12923"/>
                </a:cubicBezTo>
                <a:cubicBezTo>
                  <a:pt x="4097" y="12940"/>
                  <a:pt x="4261" y="12923"/>
                  <a:pt x="4415" y="12923"/>
                </a:cubicBezTo>
                <a:cubicBezTo>
                  <a:pt x="4360" y="12937"/>
                  <a:pt x="4355" y="12980"/>
                  <a:pt x="4316" y="13022"/>
                </a:cubicBezTo>
                <a:cubicBezTo>
                  <a:pt x="4257" y="13084"/>
                  <a:pt x="4222" y="13135"/>
                  <a:pt x="4217" y="13221"/>
                </a:cubicBezTo>
                <a:cubicBezTo>
                  <a:pt x="4213" y="13297"/>
                  <a:pt x="4214" y="13313"/>
                  <a:pt x="4291" y="13320"/>
                </a:cubicBezTo>
                <a:cubicBezTo>
                  <a:pt x="4338" y="13324"/>
                  <a:pt x="4386" y="13312"/>
                  <a:pt x="4415" y="13271"/>
                </a:cubicBezTo>
                <a:cubicBezTo>
                  <a:pt x="4463" y="13204"/>
                  <a:pt x="4510" y="13103"/>
                  <a:pt x="4514" y="13022"/>
                </a:cubicBezTo>
                <a:cubicBezTo>
                  <a:pt x="4515" y="13012"/>
                  <a:pt x="4514" y="12856"/>
                  <a:pt x="4514" y="12923"/>
                </a:cubicBezTo>
                <a:cubicBezTo>
                  <a:pt x="4514" y="13006"/>
                  <a:pt x="4528" y="13067"/>
                  <a:pt x="4539" y="13146"/>
                </a:cubicBezTo>
                <a:cubicBezTo>
                  <a:pt x="4553" y="13240"/>
                  <a:pt x="4563" y="13269"/>
                  <a:pt x="4663" y="13295"/>
                </a:cubicBezTo>
                <a:cubicBezTo>
                  <a:pt x="4691" y="13295"/>
                  <a:pt x="4702" y="13293"/>
                  <a:pt x="4713" y="13271"/>
                </a:cubicBezTo>
              </a:path>
              <a:path w="9551" h="1811">
                <a:moveTo>
                  <a:pt x="4787" y="12948"/>
                </a:moveTo>
                <a:cubicBezTo>
                  <a:pt x="4787" y="13048"/>
                  <a:pt x="4797" y="13128"/>
                  <a:pt x="4812" y="13221"/>
                </a:cubicBezTo>
                <a:cubicBezTo>
                  <a:pt x="4820" y="13274"/>
                  <a:pt x="4832" y="13324"/>
                  <a:pt x="4837" y="13370"/>
                </a:cubicBezTo>
                <a:cubicBezTo>
                  <a:pt x="4837" y="13395"/>
                  <a:pt x="4837" y="13403"/>
                  <a:pt x="4837" y="13370"/>
                </a:cubicBezTo>
                <a:cubicBezTo>
                  <a:pt x="4837" y="13270"/>
                  <a:pt x="4821" y="13163"/>
                  <a:pt x="4862" y="13072"/>
                </a:cubicBezTo>
                <a:cubicBezTo>
                  <a:pt x="4892" y="13004"/>
                  <a:pt x="4915" y="12928"/>
                  <a:pt x="4986" y="12898"/>
                </a:cubicBezTo>
                <a:cubicBezTo>
                  <a:pt x="5028" y="12881"/>
                  <a:pt x="5115" y="12946"/>
                  <a:pt x="5135" y="12973"/>
                </a:cubicBezTo>
                <a:cubicBezTo>
                  <a:pt x="5196" y="13055"/>
                  <a:pt x="5167" y="13132"/>
                  <a:pt x="5184" y="13221"/>
                </a:cubicBezTo>
                <a:cubicBezTo>
                  <a:pt x="5195" y="13277"/>
                  <a:pt x="5189" y="13393"/>
                  <a:pt x="5209" y="13444"/>
                </a:cubicBezTo>
                <a:cubicBezTo>
                  <a:pt x="5230" y="13499"/>
                  <a:pt x="5234" y="13498"/>
                  <a:pt x="5234" y="13444"/>
                </a:cubicBezTo>
              </a:path>
              <a:path w="9551" h="1811">
                <a:moveTo>
                  <a:pt x="5259" y="12551"/>
                </a:moveTo>
                <a:cubicBezTo>
                  <a:pt x="5356" y="12512"/>
                  <a:pt x="5434" y="12458"/>
                  <a:pt x="5531" y="12502"/>
                </a:cubicBezTo>
                <a:cubicBezTo>
                  <a:pt x="5620" y="12542"/>
                  <a:pt x="5503" y="12651"/>
                  <a:pt x="5482" y="12675"/>
                </a:cubicBezTo>
                <a:cubicBezTo>
                  <a:pt x="5454" y="12707"/>
                  <a:pt x="5438" y="12744"/>
                  <a:pt x="5482" y="12774"/>
                </a:cubicBezTo>
                <a:cubicBezTo>
                  <a:pt x="5540" y="12814"/>
                  <a:pt x="5613" y="12799"/>
                  <a:pt x="5680" y="12799"/>
                </a:cubicBezTo>
              </a:path>
              <a:path w="9551" h="1811">
                <a:moveTo>
                  <a:pt x="6003" y="12799"/>
                </a:moveTo>
                <a:cubicBezTo>
                  <a:pt x="5930" y="12961"/>
                  <a:pt x="5819" y="13131"/>
                  <a:pt x="5854" y="13320"/>
                </a:cubicBezTo>
                <a:cubicBezTo>
                  <a:pt x="5874" y="13425"/>
                  <a:pt x="5917" y="13486"/>
                  <a:pt x="6003" y="13543"/>
                </a:cubicBezTo>
                <a:cubicBezTo>
                  <a:pt x="6068" y="13587"/>
                  <a:pt x="6135" y="13572"/>
                  <a:pt x="6201" y="13543"/>
                </a:cubicBezTo>
                <a:cubicBezTo>
                  <a:pt x="6286" y="13506"/>
                  <a:pt x="6319" y="13403"/>
                  <a:pt x="6350" y="13320"/>
                </a:cubicBezTo>
                <a:cubicBezTo>
                  <a:pt x="6387" y="13220"/>
                  <a:pt x="6369" y="13124"/>
                  <a:pt x="6350" y="13022"/>
                </a:cubicBezTo>
                <a:cubicBezTo>
                  <a:pt x="6335" y="12940"/>
                  <a:pt x="6279" y="12841"/>
                  <a:pt x="6226" y="12774"/>
                </a:cubicBezTo>
                <a:cubicBezTo>
                  <a:pt x="6185" y="12722"/>
                  <a:pt x="6162" y="12700"/>
                  <a:pt x="6102" y="12700"/>
                </a:cubicBezTo>
                <a:cubicBezTo>
                  <a:pt x="6094" y="12700"/>
                  <a:pt x="6085" y="12700"/>
                  <a:pt x="6077" y="12700"/>
                </a:cubicBezTo>
              </a:path>
              <a:path w="9551" h="1811">
                <a:moveTo>
                  <a:pt x="5804" y="13146"/>
                </a:moveTo>
                <a:cubicBezTo>
                  <a:pt x="5937" y="13184"/>
                  <a:pt x="6086" y="13230"/>
                  <a:pt x="6226" y="13246"/>
                </a:cubicBezTo>
                <a:cubicBezTo>
                  <a:pt x="6346" y="13259"/>
                  <a:pt x="6470" y="13248"/>
                  <a:pt x="6573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938160" y="5205240"/>
            <a:ext cx="714600" cy="563760"/>
          </a:xfrm>
          <a:custGeom>
            <a:avLst/>
            <a:gdLst/>
            <a:ahLst/>
            <a:rect l="l" t="t" r="r" b="b"/>
            <a:pathLst>
              <a:path w="1986" h="1564">
                <a:moveTo>
                  <a:pt x="4539" y="14858"/>
                </a:moveTo>
                <a:cubicBezTo>
                  <a:pt x="4539" y="14931"/>
                  <a:pt x="4561" y="14983"/>
                  <a:pt x="4564" y="15056"/>
                </a:cubicBezTo>
                <a:cubicBezTo>
                  <a:pt x="4569" y="15157"/>
                  <a:pt x="4585" y="15253"/>
                  <a:pt x="4589" y="15354"/>
                </a:cubicBezTo>
                <a:cubicBezTo>
                  <a:pt x="4593" y="15473"/>
                  <a:pt x="4568" y="15583"/>
                  <a:pt x="4564" y="15701"/>
                </a:cubicBezTo>
                <a:cubicBezTo>
                  <a:pt x="4561" y="15777"/>
                  <a:pt x="4552" y="15838"/>
                  <a:pt x="4539" y="15900"/>
                </a:cubicBezTo>
                <a:cubicBezTo>
                  <a:pt x="4531" y="15941"/>
                  <a:pt x="4519" y="16002"/>
                  <a:pt x="4539" y="15974"/>
                </a:cubicBezTo>
                <a:cubicBezTo>
                  <a:pt x="4547" y="15966"/>
                  <a:pt x="4556" y="15957"/>
                  <a:pt x="4564" y="15949"/>
                </a:cubicBezTo>
              </a:path>
              <a:path w="1986" h="1564">
                <a:moveTo>
                  <a:pt x="2629" y="15404"/>
                </a:moveTo>
                <a:cubicBezTo>
                  <a:pt x="2609" y="15481"/>
                  <a:pt x="2639" y="15481"/>
                  <a:pt x="2654" y="15577"/>
                </a:cubicBezTo>
                <a:cubicBezTo>
                  <a:pt x="2672" y="15692"/>
                  <a:pt x="2668" y="15813"/>
                  <a:pt x="2704" y="15925"/>
                </a:cubicBezTo>
                <a:cubicBezTo>
                  <a:pt x="2723" y="15985"/>
                  <a:pt x="2757" y="16003"/>
                  <a:pt x="2803" y="16024"/>
                </a:cubicBezTo>
                <a:cubicBezTo>
                  <a:pt x="2811" y="16024"/>
                  <a:pt x="2820" y="16024"/>
                  <a:pt x="2828" y="16024"/>
                </a:cubicBezTo>
                <a:cubicBezTo>
                  <a:pt x="2854" y="15951"/>
                  <a:pt x="2882" y="15893"/>
                  <a:pt x="2927" y="15825"/>
                </a:cubicBezTo>
                <a:cubicBezTo>
                  <a:pt x="3019" y="15685"/>
                  <a:pt x="3095" y="15556"/>
                  <a:pt x="3200" y="15429"/>
                </a:cubicBezTo>
                <a:cubicBezTo>
                  <a:pt x="3344" y="15255"/>
                  <a:pt x="3486" y="15091"/>
                  <a:pt x="3646" y="14932"/>
                </a:cubicBezTo>
                <a:cubicBezTo>
                  <a:pt x="3762" y="14817"/>
                  <a:pt x="3914" y="14702"/>
                  <a:pt x="4018" y="14585"/>
                </a:cubicBezTo>
                <a:cubicBezTo>
                  <a:pt x="4070" y="14527"/>
                  <a:pt x="4012" y="14518"/>
                  <a:pt x="3994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938240" y="5384880"/>
            <a:ext cx="2143080" cy="536400"/>
          </a:xfrm>
          <a:custGeom>
            <a:avLst/>
            <a:gdLst/>
            <a:ahLst/>
            <a:rect l="l" t="t" r="r" b="b"/>
            <a:pathLst>
              <a:path w="5954" h="1490">
                <a:moveTo>
                  <a:pt x="5556" y="15156"/>
                </a:moveTo>
                <a:cubicBezTo>
                  <a:pt x="5556" y="15404"/>
                  <a:pt x="5556" y="15652"/>
                  <a:pt x="5556" y="15900"/>
                </a:cubicBezTo>
              </a:path>
              <a:path w="5954" h="1490">
                <a:moveTo>
                  <a:pt x="5383" y="15528"/>
                </a:moveTo>
                <a:cubicBezTo>
                  <a:pt x="5475" y="15547"/>
                  <a:pt x="5568" y="15554"/>
                  <a:pt x="5655" y="15577"/>
                </a:cubicBezTo>
                <a:cubicBezTo>
                  <a:pt x="5725" y="15595"/>
                  <a:pt x="5783" y="15623"/>
                  <a:pt x="5854" y="15627"/>
                </a:cubicBezTo>
                <a:cubicBezTo>
                  <a:pt x="5941" y="15632"/>
                  <a:pt x="5920" y="15620"/>
                  <a:pt x="5904" y="15652"/>
                </a:cubicBezTo>
                <a:cubicBezTo>
                  <a:pt x="5904" y="15660"/>
                  <a:pt x="5904" y="15669"/>
                  <a:pt x="5904" y="15677"/>
                </a:cubicBezTo>
                <a:cubicBezTo>
                  <a:pt x="5904" y="15624"/>
                  <a:pt x="5916" y="15639"/>
                  <a:pt x="5928" y="15602"/>
                </a:cubicBezTo>
              </a:path>
              <a:path w="5954" h="1490">
                <a:moveTo>
                  <a:pt x="6276" y="15131"/>
                </a:moveTo>
                <a:cubicBezTo>
                  <a:pt x="6355" y="15084"/>
                  <a:pt x="6446" y="15005"/>
                  <a:pt x="6548" y="15032"/>
                </a:cubicBezTo>
                <a:cubicBezTo>
                  <a:pt x="6599" y="15046"/>
                  <a:pt x="6700" y="15103"/>
                  <a:pt x="6722" y="15156"/>
                </a:cubicBezTo>
                <a:cubicBezTo>
                  <a:pt x="6775" y="15287"/>
                  <a:pt x="6792" y="15460"/>
                  <a:pt x="6772" y="15602"/>
                </a:cubicBezTo>
                <a:cubicBezTo>
                  <a:pt x="6757" y="15710"/>
                  <a:pt x="6703" y="15812"/>
                  <a:pt x="6648" y="15900"/>
                </a:cubicBezTo>
                <a:cubicBezTo>
                  <a:pt x="6624" y="15939"/>
                  <a:pt x="6569" y="15976"/>
                  <a:pt x="6524" y="15974"/>
                </a:cubicBezTo>
                <a:cubicBezTo>
                  <a:pt x="6463" y="15971"/>
                  <a:pt x="6459" y="15894"/>
                  <a:pt x="6449" y="15850"/>
                </a:cubicBezTo>
                <a:cubicBezTo>
                  <a:pt x="6437" y="15801"/>
                  <a:pt x="6463" y="15818"/>
                  <a:pt x="6474" y="15801"/>
                </a:cubicBezTo>
                <a:cubicBezTo>
                  <a:pt x="6553" y="15833"/>
                  <a:pt x="6623" y="15889"/>
                  <a:pt x="6697" y="15949"/>
                </a:cubicBezTo>
                <a:cubicBezTo>
                  <a:pt x="6812" y="16042"/>
                  <a:pt x="6900" y="16141"/>
                  <a:pt x="7045" y="16098"/>
                </a:cubicBezTo>
                <a:cubicBezTo>
                  <a:pt x="7070" y="16090"/>
                  <a:pt x="7094" y="16081"/>
                  <a:pt x="7119" y="16073"/>
                </a:cubicBezTo>
              </a:path>
              <a:path w="5954" h="1490">
                <a:moveTo>
                  <a:pt x="7491" y="15106"/>
                </a:moveTo>
                <a:cubicBezTo>
                  <a:pt x="7491" y="15186"/>
                  <a:pt x="7484" y="15249"/>
                  <a:pt x="7466" y="15329"/>
                </a:cubicBezTo>
                <a:cubicBezTo>
                  <a:pt x="7434" y="15466"/>
                  <a:pt x="7421" y="15610"/>
                  <a:pt x="7417" y="15751"/>
                </a:cubicBezTo>
                <a:cubicBezTo>
                  <a:pt x="7414" y="15881"/>
                  <a:pt x="7420" y="15998"/>
                  <a:pt x="7441" y="16123"/>
                </a:cubicBezTo>
                <a:cubicBezTo>
                  <a:pt x="7441" y="16148"/>
                  <a:pt x="7441" y="16156"/>
                  <a:pt x="7441" y="16173"/>
                </a:cubicBezTo>
              </a:path>
              <a:path w="5954" h="1490">
                <a:moveTo>
                  <a:pt x="7243" y="15577"/>
                </a:moveTo>
                <a:cubicBezTo>
                  <a:pt x="7334" y="15517"/>
                  <a:pt x="7382" y="15532"/>
                  <a:pt x="7491" y="15553"/>
                </a:cubicBezTo>
                <a:cubicBezTo>
                  <a:pt x="7616" y="15577"/>
                  <a:pt x="7709" y="15602"/>
                  <a:pt x="7838" y="15602"/>
                </a:cubicBezTo>
                <a:cubicBezTo>
                  <a:pt x="7855" y="15602"/>
                  <a:pt x="7871" y="15602"/>
                  <a:pt x="7888" y="15602"/>
                </a:cubicBezTo>
              </a:path>
              <a:path w="5954" h="1490">
                <a:moveTo>
                  <a:pt x="7962" y="15627"/>
                </a:moveTo>
                <a:cubicBezTo>
                  <a:pt x="7948" y="15726"/>
                  <a:pt x="7857" y="15757"/>
                  <a:pt x="7813" y="15850"/>
                </a:cubicBezTo>
                <a:cubicBezTo>
                  <a:pt x="7775" y="15931"/>
                  <a:pt x="7780" y="16019"/>
                  <a:pt x="7813" y="16098"/>
                </a:cubicBezTo>
                <a:cubicBezTo>
                  <a:pt x="7841" y="16165"/>
                  <a:pt x="7899" y="16210"/>
                  <a:pt x="7962" y="16173"/>
                </a:cubicBezTo>
                <a:cubicBezTo>
                  <a:pt x="8027" y="16135"/>
                  <a:pt x="8071" y="16043"/>
                  <a:pt x="8086" y="15974"/>
                </a:cubicBezTo>
                <a:cubicBezTo>
                  <a:pt x="8104" y="15892"/>
                  <a:pt x="8111" y="15811"/>
                  <a:pt x="8111" y="15726"/>
                </a:cubicBezTo>
                <a:cubicBezTo>
                  <a:pt x="8111" y="15685"/>
                  <a:pt x="8111" y="15677"/>
                  <a:pt x="8111" y="15652"/>
                </a:cubicBezTo>
                <a:cubicBezTo>
                  <a:pt x="8111" y="15601"/>
                  <a:pt x="8081" y="15700"/>
                  <a:pt x="8086" y="15751"/>
                </a:cubicBezTo>
                <a:cubicBezTo>
                  <a:pt x="8096" y="15855"/>
                  <a:pt x="8203" y="15969"/>
                  <a:pt x="8285" y="16024"/>
                </a:cubicBezTo>
                <a:cubicBezTo>
                  <a:pt x="8293" y="16024"/>
                  <a:pt x="8302" y="16024"/>
                  <a:pt x="8310" y="16024"/>
                </a:cubicBezTo>
              </a:path>
              <a:path w="5954" h="1490">
                <a:moveTo>
                  <a:pt x="8409" y="15776"/>
                </a:moveTo>
                <a:cubicBezTo>
                  <a:pt x="8414" y="15920"/>
                  <a:pt x="8412" y="16020"/>
                  <a:pt x="8458" y="16148"/>
                </a:cubicBezTo>
                <a:cubicBezTo>
                  <a:pt x="8458" y="16217"/>
                  <a:pt x="8483" y="16027"/>
                  <a:pt x="8483" y="16024"/>
                </a:cubicBezTo>
                <a:cubicBezTo>
                  <a:pt x="8494" y="15926"/>
                  <a:pt x="8482" y="15821"/>
                  <a:pt x="8508" y="15726"/>
                </a:cubicBezTo>
                <a:cubicBezTo>
                  <a:pt x="8527" y="15659"/>
                  <a:pt x="8557" y="15636"/>
                  <a:pt x="8607" y="15627"/>
                </a:cubicBezTo>
                <a:cubicBezTo>
                  <a:pt x="8667" y="15702"/>
                  <a:pt x="8682" y="15782"/>
                  <a:pt x="8706" y="15875"/>
                </a:cubicBezTo>
                <a:cubicBezTo>
                  <a:pt x="8738" y="15998"/>
                  <a:pt x="8765" y="16123"/>
                  <a:pt x="8781" y="16247"/>
                </a:cubicBezTo>
                <a:cubicBezTo>
                  <a:pt x="8787" y="16293"/>
                  <a:pt x="8787" y="16365"/>
                  <a:pt x="8806" y="16272"/>
                </a:cubicBezTo>
              </a:path>
              <a:path w="5954" h="1490">
                <a:moveTo>
                  <a:pt x="8806" y="14957"/>
                </a:moveTo>
                <a:cubicBezTo>
                  <a:pt x="8948" y="14957"/>
                  <a:pt x="9005" y="14966"/>
                  <a:pt x="9128" y="15032"/>
                </a:cubicBezTo>
                <a:cubicBezTo>
                  <a:pt x="9178" y="15059"/>
                  <a:pt x="9206" y="15062"/>
                  <a:pt x="9227" y="15106"/>
                </a:cubicBezTo>
                <a:cubicBezTo>
                  <a:pt x="9214" y="15146"/>
                  <a:pt x="9172" y="15148"/>
                  <a:pt x="9128" y="15180"/>
                </a:cubicBezTo>
                <a:cubicBezTo>
                  <a:pt x="9078" y="15217"/>
                  <a:pt x="9046" y="15280"/>
                  <a:pt x="9103" y="15329"/>
                </a:cubicBezTo>
                <a:cubicBezTo>
                  <a:pt x="9153" y="15372"/>
                  <a:pt x="9239" y="15401"/>
                  <a:pt x="9302" y="15404"/>
                </a:cubicBezTo>
                <a:cubicBezTo>
                  <a:pt x="9378" y="15404"/>
                  <a:pt x="9404" y="15403"/>
                  <a:pt x="9451" y="15379"/>
                </a:cubicBezTo>
              </a:path>
              <a:path w="5954" h="1490">
                <a:moveTo>
                  <a:pt x="9699" y="15329"/>
                </a:moveTo>
                <a:cubicBezTo>
                  <a:pt x="9582" y="15742"/>
                  <a:pt x="9555" y="15732"/>
                  <a:pt x="9649" y="16073"/>
                </a:cubicBezTo>
                <a:cubicBezTo>
                  <a:pt x="9690" y="16223"/>
                  <a:pt x="9712" y="16331"/>
                  <a:pt x="9847" y="16421"/>
                </a:cubicBezTo>
                <a:cubicBezTo>
                  <a:pt x="9934" y="16479"/>
                  <a:pt x="10032" y="16413"/>
                  <a:pt x="10096" y="16346"/>
                </a:cubicBezTo>
                <a:cubicBezTo>
                  <a:pt x="10206" y="16230"/>
                  <a:pt x="10255" y="16127"/>
                  <a:pt x="10294" y="15974"/>
                </a:cubicBezTo>
                <a:cubicBezTo>
                  <a:pt x="10331" y="15829"/>
                  <a:pt x="10315" y="15696"/>
                  <a:pt x="10269" y="15553"/>
                </a:cubicBezTo>
                <a:cubicBezTo>
                  <a:pt x="10234" y="15443"/>
                  <a:pt x="10151" y="15248"/>
                  <a:pt x="10021" y="15205"/>
                </a:cubicBezTo>
                <a:cubicBezTo>
                  <a:pt x="9983" y="15192"/>
                  <a:pt x="9912" y="15205"/>
                  <a:pt x="9872" y="15205"/>
                </a:cubicBezTo>
              </a:path>
              <a:path w="5954" h="1490">
                <a:moveTo>
                  <a:pt x="9376" y="15627"/>
                </a:moveTo>
                <a:cubicBezTo>
                  <a:pt x="9603" y="15716"/>
                  <a:pt x="9796" y="15778"/>
                  <a:pt x="10046" y="15751"/>
                </a:cubicBezTo>
                <a:cubicBezTo>
                  <a:pt x="10169" y="15726"/>
                  <a:pt x="10210" y="15718"/>
                  <a:pt x="10294" y="15726"/>
                </a:cubicBezTo>
              </a:path>
              <a:path w="5954" h="1490">
                <a:moveTo>
                  <a:pt x="11013" y="15726"/>
                </a:moveTo>
                <a:cubicBezTo>
                  <a:pt x="11110" y="15735"/>
                  <a:pt x="11283" y="15811"/>
                  <a:pt x="11311" y="15726"/>
                </a:cubicBezTo>
              </a:path>
              <a:path w="5954" h="1490">
                <a:moveTo>
                  <a:pt x="10964" y="15949"/>
                </a:moveTo>
                <a:cubicBezTo>
                  <a:pt x="11162" y="16068"/>
                  <a:pt x="11132" y="16073"/>
                  <a:pt x="11336" y="160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384800" y="5392800"/>
            <a:ext cx="1741320" cy="465120"/>
          </a:xfrm>
          <a:custGeom>
            <a:avLst/>
            <a:gdLst/>
            <a:ahLst/>
            <a:rect l="l" t="t" r="r" b="b"/>
            <a:pathLst>
              <a:path w="4838" h="1291">
                <a:moveTo>
                  <a:pt x="12229" y="15205"/>
                </a:moveTo>
                <a:cubicBezTo>
                  <a:pt x="12219" y="15320"/>
                  <a:pt x="12182" y="15407"/>
                  <a:pt x="12179" y="15528"/>
                </a:cubicBezTo>
                <a:cubicBezTo>
                  <a:pt x="12174" y="15706"/>
                  <a:pt x="12175" y="15899"/>
                  <a:pt x="12204" y="16073"/>
                </a:cubicBezTo>
                <a:cubicBezTo>
                  <a:pt x="12214" y="16132"/>
                  <a:pt x="12228" y="16291"/>
                  <a:pt x="12278" y="16247"/>
                </a:cubicBezTo>
                <a:cubicBezTo>
                  <a:pt x="12308" y="16217"/>
                  <a:pt x="12319" y="16203"/>
                  <a:pt x="12328" y="16173"/>
                </a:cubicBezTo>
              </a:path>
              <a:path w="4838" h="1291">
                <a:moveTo>
                  <a:pt x="12874" y="15329"/>
                </a:moveTo>
                <a:cubicBezTo>
                  <a:pt x="12893" y="15522"/>
                  <a:pt x="12898" y="15706"/>
                  <a:pt x="12898" y="15900"/>
                </a:cubicBezTo>
                <a:cubicBezTo>
                  <a:pt x="12898" y="15989"/>
                  <a:pt x="12923" y="16061"/>
                  <a:pt x="12923" y="16148"/>
                </a:cubicBezTo>
              </a:path>
              <a:path w="4838" h="1291">
                <a:moveTo>
                  <a:pt x="12700" y="15726"/>
                </a:moveTo>
                <a:cubicBezTo>
                  <a:pt x="12790" y="15782"/>
                  <a:pt x="12863" y="15831"/>
                  <a:pt x="12973" y="15850"/>
                </a:cubicBezTo>
                <a:cubicBezTo>
                  <a:pt x="13032" y="15850"/>
                  <a:pt x="13058" y="15847"/>
                  <a:pt x="13097" y="15825"/>
                </a:cubicBezTo>
              </a:path>
              <a:path w="4838" h="1291">
                <a:moveTo>
                  <a:pt x="13320" y="15429"/>
                </a:moveTo>
                <a:cubicBezTo>
                  <a:pt x="13434" y="15355"/>
                  <a:pt x="13474" y="15314"/>
                  <a:pt x="13593" y="15404"/>
                </a:cubicBezTo>
                <a:cubicBezTo>
                  <a:pt x="13683" y="15472"/>
                  <a:pt x="13761" y="15526"/>
                  <a:pt x="13742" y="15652"/>
                </a:cubicBezTo>
                <a:cubicBezTo>
                  <a:pt x="13728" y="15748"/>
                  <a:pt x="13681" y="15855"/>
                  <a:pt x="13618" y="15925"/>
                </a:cubicBezTo>
                <a:cubicBezTo>
                  <a:pt x="13573" y="15975"/>
                  <a:pt x="13511" y="16017"/>
                  <a:pt x="13444" y="16024"/>
                </a:cubicBezTo>
                <a:cubicBezTo>
                  <a:pt x="13436" y="16024"/>
                  <a:pt x="13427" y="16024"/>
                  <a:pt x="13419" y="16024"/>
                </a:cubicBezTo>
                <a:cubicBezTo>
                  <a:pt x="13419" y="15952"/>
                  <a:pt x="13450" y="15953"/>
                  <a:pt x="13519" y="15949"/>
                </a:cubicBezTo>
                <a:cubicBezTo>
                  <a:pt x="13664" y="15941"/>
                  <a:pt x="13741" y="16014"/>
                  <a:pt x="13866" y="16073"/>
                </a:cubicBezTo>
                <a:cubicBezTo>
                  <a:pt x="13975" y="16124"/>
                  <a:pt x="13963" y="16119"/>
                  <a:pt x="14064" y="16073"/>
                </a:cubicBezTo>
              </a:path>
              <a:path w="4838" h="1291">
                <a:moveTo>
                  <a:pt x="14337" y="15230"/>
                </a:moveTo>
                <a:cubicBezTo>
                  <a:pt x="14356" y="15436"/>
                  <a:pt x="14361" y="15646"/>
                  <a:pt x="14387" y="15850"/>
                </a:cubicBezTo>
                <a:cubicBezTo>
                  <a:pt x="14402" y="15971"/>
                  <a:pt x="14409" y="16014"/>
                  <a:pt x="14387" y="16123"/>
                </a:cubicBezTo>
              </a:path>
              <a:path w="4838" h="1291">
                <a:moveTo>
                  <a:pt x="14064" y="15602"/>
                </a:moveTo>
                <a:cubicBezTo>
                  <a:pt x="14144" y="15642"/>
                  <a:pt x="14223" y="15710"/>
                  <a:pt x="14312" y="15726"/>
                </a:cubicBezTo>
                <a:cubicBezTo>
                  <a:pt x="14380" y="15739"/>
                  <a:pt x="14467" y="15726"/>
                  <a:pt x="14536" y="15726"/>
                </a:cubicBezTo>
              </a:path>
              <a:path w="4838" h="1291">
                <a:moveTo>
                  <a:pt x="14759" y="15677"/>
                </a:moveTo>
                <a:cubicBezTo>
                  <a:pt x="14744" y="15736"/>
                  <a:pt x="14668" y="15799"/>
                  <a:pt x="14635" y="15850"/>
                </a:cubicBezTo>
                <a:cubicBezTo>
                  <a:pt x="14590" y="15920"/>
                  <a:pt x="14605" y="16002"/>
                  <a:pt x="14635" y="16073"/>
                </a:cubicBezTo>
                <a:cubicBezTo>
                  <a:pt x="14661" y="16134"/>
                  <a:pt x="14657" y="16123"/>
                  <a:pt x="14709" y="16123"/>
                </a:cubicBezTo>
                <a:cubicBezTo>
                  <a:pt x="14775" y="16076"/>
                  <a:pt x="14821" y="16003"/>
                  <a:pt x="14858" y="15925"/>
                </a:cubicBezTo>
                <a:cubicBezTo>
                  <a:pt x="14861" y="15918"/>
                  <a:pt x="14908" y="15717"/>
                  <a:pt x="14908" y="15776"/>
                </a:cubicBezTo>
                <a:cubicBezTo>
                  <a:pt x="14908" y="15875"/>
                  <a:pt x="14891" y="15964"/>
                  <a:pt x="14957" y="16049"/>
                </a:cubicBezTo>
                <a:cubicBezTo>
                  <a:pt x="14965" y="16049"/>
                  <a:pt x="14974" y="16049"/>
                  <a:pt x="14982" y="16049"/>
                </a:cubicBezTo>
              </a:path>
              <a:path w="4838" h="1291">
                <a:moveTo>
                  <a:pt x="15106" y="15677"/>
                </a:moveTo>
                <a:cubicBezTo>
                  <a:pt x="15074" y="15793"/>
                  <a:pt x="15088" y="15854"/>
                  <a:pt x="15106" y="15974"/>
                </a:cubicBezTo>
                <a:cubicBezTo>
                  <a:pt x="15106" y="15999"/>
                  <a:pt x="15106" y="16007"/>
                  <a:pt x="15131" y="15999"/>
                </a:cubicBezTo>
                <a:cubicBezTo>
                  <a:pt x="15142" y="15943"/>
                  <a:pt x="15164" y="15878"/>
                  <a:pt x="15180" y="15825"/>
                </a:cubicBezTo>
                <a:cubicBezTo>
                  <a:pt x="15198" y="15766"/>
                  <a:pt x="15239" y="15692"/>
                  <a:pt x="15304" y="15677"/>
                </a:cubicBezTo>
                <a:cubicBezTo>
                  <a:pt x="15385" y="15658"/>
                  <a:pt x="15419" y="15762"/>
                  <a:pt x="15429" y="15825"/>
                </a:cubicBezTo>
                <a:cubicBezTo>
                  <a:pt x="15439" y="15889"/>
                  <a:pt x="15429" y="16276"/>
                  <a:pt x="15429" y="16098"/>
                </a:cubicBezTo>
              </a:path>
              <a:path w="4838" h="1291">
                <a:moveTo>
                  <a:pt x="15453" y="15056"/>
                </a:moveTo>
                <a:cubicBezTo>
                  <a:pt x="15581" y="14942"/>
                  <a:pt x="15567" y="14993"/>
                  <a:pt x="15726" y="15081"/>
                </a:cubicBezTo>
                <a:cubicBezTo>
                  <a:pt x="15785" y="15114"/>
                  <a:pt x="15827" y="15148"/>
                  <a:pt x="15776" y="15205"/>
                </a:cubicBezTo>
                <a:cubicBezTo>
                  <a:pt x="15745" y="15239"/>
                  <a:pt x="15624" y="15322"/>
                  <a:pt x="15627" y="15379"/>
                </a:cubicBezTo>
                <a:cubicBezTo>
                  <a:pt x="15632" y="15457"/>
                  <a:pt x="15687" y="15511"/>
                  <a:pt x="15751" y="15553"/>
                </a:cubicBezTo>
                <a:cubicBezTo>
                  <a:pt x="15806" y="15589"/>
                  <a:pt x="15863" y="15577"/>
                  <a:pt x="15925" y="15577"/>
                </a:cubicBezTo>
              </a:path>
              <a:path w="4838" h="1291">
                <a:moveTo>
                  <a:pt x="16297" y="15156"/>
                </a:moveTo>
                <a:cubicBezTo>
                  <a:pt x="16296" y="15160"/>
                  <a:pt x="16250" y="15330"/>
                  <a:pt x="16222" y="15379"/>
                </a:cubicBezTo>
                <a:cubicBezTo>
                  <a:pt x="16152" y="15501"/>
                  <a:pt x="16046" y="15595"/>
                  <a:pt x="16049" y="15751"/>
                </a:cubicBezTo>
                <a:cubicBezTo>
                  <a:pt x="16052" y="15890"/>
                  <a:pt x="16081" y="16045"/>
                  <a:pt x="16173" y="16148"/>
                </a:cubicBezTo>
                <a:cubicBezTo>
                  <a:pt x="16260" y="16245"/>
                  <a:pt x="16329" y="16225"/>
                  <a:pt x="16446" y="16197"/>
                </a:cubicBezTo>
                <a:cubicBezTo>
                  <a:pt x="16582" y="16165"/>
                  <a:pt x="16692" y="16116"/>
                  <a:pt x="16793" y="16024"/>
                </a:cubicBezTo>
                <a:cubicBezTo>
                  <a:pt x="16866" y="15957"/>
                  <a:pt x="16905" y="15823"/>
                  <a:pt x="16917" y="15726"/>
                </a:cubicBezTo>
                <a:cubicBezTo>
                  <a:pt x="16932" y="15601"/>
                  <a:pt x="16906" y="15461"/>
                  <a:pt x="16842" y="15354"/>
                </a:cubicBezTo>
                <a:cubicBezTo>
                  <a:pt x="16797" y="15278"/>
                  <a:pt x="16659" y="15140"/>
                  <a:pt x="16570" y="15230"/>
                </a:cubicBezTo>
                <a:cubicBezTo>
                  <a:pt x="16562" y="15247"/>
                  <a:pt x="16553" y="15263"/>
                  <a:pt x="16545" y="15280"/>
                </a:cubicBezTo>
              </a:path>
              <a:path w="4838" h="1291">
                <a:moveTo>
                  <a:pt x="17016" y="15825"/>
                </a:moveTo>
                <a:cubicBezTo>
                  <a:pt x="16909" y="15852"/>
                  <a:pt x="16789" y="15799"/>
                  <a:pt x="16669" y="15776"/>
                </a:cubicBezTo>
                <a:cubicBezTo>
                  <a:pt x="16375" y="15718"/>
                  <a:pt x="16075" y="15658"/>
                  <a:pt x="15776" y="15652"/>
                </a:cubicBezTo>
                <a:cubicBezTo>
                  <a:pt x="15636" y="15649"/>
                  <a:pt x="15516" y="15656"/>
                  <a:pt x="15379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724880" y="3205080"/>
            <a:ext cx="169920" cy="1796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21456" y="8979"/>
                </a:moveTo>
                <a:cubicBezTo>
                  <a:pt x="21499" y="8936"/>
                  <a:pt x="21544" y="8915"/>
                  <a:pt x="21605" y="8905"/>
                </a:cubicBezTo>
                <a:cubicBezTo>
                  <a:pt x="21674" y="8893"/>
                  <a:pt x="21800" y="8888"/>
                  <a:pt x="21853" y="8930"/>
                </a:cubicBezTo>
                <a:cubicBezTo>
                  <a:pt x="21898" y="8965"/>
                  <a:pt x="21834" y="9021"/>
                  <a:pt x="21803" y="9054"/>
                </a:cubicBezTo>
                <a:cubicBezTo>
                  <a:pt x="21744" y="9117"/>
                  <a:pt x="21681" y="9165"/>
                  <a:pt x="21630" y="9227"/>
                </a:cubicBezTo>
                <a:cubicBezTo>
                  <a:pt x="21609" y="9252"/>
                  <a:pt x="21556" y="9284"/>
                  <a:pt x="21580" y="9327"/>
                </a:cubicBezTo>
                <a:cubicBezTo>
                  <a:pt x="21603" y="9367"/>
                  <a:pt x="21689" y="9374"/>
                  <a:pt x="21729" y="9376"/>
                </a:cubicBezTo>
                <a:cubicBezTo>
                  <a:pt x="21799" y="9380"/>
                  <a:pt x="21839" y="9396"/>
                  <a:pt x="21903" y="9401"/>
                </a:cubicBezTo>
                <a:cubicBezTo>
                  <a:pt x="21911" y="9401"/>
                  <a:pt x="21919" y="9401"/>
                  <a:pt x="21927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599080" y="3357720"/>
            <a:ext cx="152280" cy="80640"/>
          </a:xfrm>
          <a:custGeom>
            <a:avLst/>
            <a:gdLst/>
            <a:ahLst/>
            <a:rect l="l" t="t" r="r" b="b"/>
            <a:pathLst>
              <a:path w="422" h="224">
                <a:moveTo>
                  <a:pt x="15577" y="9327"/>
                </a:moveTo>
                <a:cubicBezTo>
                  <a:pt x="15590" y="9363"/>
                  <a:pt x="15608" y="9351"/>
                  <a:pt x="15652" y="9351"/>
                </a:cubicBezTo>
                <a:cubicBezTo>
                  <a:pt x="15717" y="9351"/>
                  <a:pt x="15765" y="9331"/>
                  <a:pt x="15825" y="9327"/>
                </a:cubicBezTo>
                <a:cubicBezTo>
                  <a:pt x="15867" y="9327"/>
                  <a:pt x="15875" y="9327"/>
                  <a:pt x="15900" y="9327"/>
                </a:cubicBezTo>
              </a:path>
              <a:path w="422" h="224">
                <a:moveTo>
                  <a:pt x="15553" y="9475"/>
                </a:moveTo>
                <a:cubicBezTo>
                  <a:pt x="15617" y="9554"/>
                  <a:pt x="15657" y="9545"/>
                  <a:pt x="15776" y="9550"/>
                </a:cubicBezTo>
                <a:cubicBezTo>
                  <a:pt x="15842" y="9553"/>
                  <a:pt x="15908" y="9550"/>
                  <a:pt x="15974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107040" y="3178080"/>
            <a:ext cx="2162160" cy="482760"/>
          </a:xfrm>
          <a:custGeom>
            <a:avLst/>
            <a:gdLst/>
            <a:ahLst/>
            <a:rect l="l" t="t" r="r" b="b"/>
            <a:pathLst>
              <a:path w="6004" h="1341">
                <a:moveTo>
                  <a:pt x="17090" y="8830"/>
                </a:moveTo>
                <a:cubicBezTo>
                  <a:pt x="17065" y="9012"/>
                  <a:pt x="17031" y="9192"/>
                  <a:pt x="17016" y="9376"/>
                </a:cubicBezTo>
                <a:cubicBezTo>
                  <a:pt x="17005" y="9516"/>
                  <a:pt x="16996" y="9658"/>
                  <a:pt x="16991" y="9798"/>
                </a:cubicBezTo>
                <a:cubicBezTo>
                  <a:pt x="16988" y="9889"/>
                  <a:pt x="16980" y="9962"/>
                  <a:pt x="16966" y="10046"/>
                </a:cubicBezTo>
                <a:cubicBezTo>
                  <a:pt x="16946" y="10164"/>
                  <a:pt x="16992" y="10108"/>
                  <a:pt x="17041" y="10046"/>
                </a:cubicBezTo>
              </a:path>
              <a:path w="6004" h="1341">
                <a:moveTo>
                  <a:pt x="18058" y="9054"/>
                </a:moveTo>
                <a:cubicBezTo>
                  <a:pt x="18058" y="9192"/>
                  <a:pt x="18037" y="9316"/>
                  <a:pt x="18033" y="9451"/>
                </a:cubicBezTo>
                <a:cubicBezTo>
                  <a:pt x="18030" y="9562"/>
                  <a:pt x="18008" y="9660"/>
                  <a:pt x="18008" y="9773"/>
                </a:cubicBezTo>
                <a:cubicBezTo>
                  <a:pt x="18008" y="9783"/>
                  <a:pt x="18008" y="10047"/>
                  <a:pt x="18008" y="9996"/>
                </a:cubicBezTo>
              </a:path>
              <a:path w="6004" h="1341">
                <a:moveTo>
                  <a:pt x="17686" y="9649"/>
                </a:moveTo>
                <a:cubicBezTo>
                  <a:pt x="17851" y="9649"/>
                  <a:pt x="18017" y="9649"/>
                  <a:pt x="18182" y="9649"/>
                </a:cubicBezTo>
              </a:path>
              <a:path w="6004" h="1341">
                <a:moveTo>
                  <a:pt x="18728" y="9128"/>
                </a:moveTo>
                <a:cubicBezTo>
                  <a:pt x="18839" y="9087"/>
                  <a:pt x="18978" y="9004"/>
                  <a:pt x="19100" y="9079"/>
                </a:cubicBezTo>
                <a:cubicBezTo>
                  <a:pt x="19155" y="9113"/>
                  <a:pt x="19210" y="9212"/>
                  <a:pt x="19199" y="9277"/>
                </a:cubicBezTo>
                <a:cubicBezTo>
                  <a:pt x="19181" y="9381"/>
                  <a:pt x="19079" y="9488"/>
                  <a:pt x="19025" y="9575"/>
                </a:cubicBezTo>
                <a:cubicBezTo>
                  <a:pt x="18965" y="9672"/>
                  <a:pt x="18882" y="9719"/>
                  <a:pt x="18827" y="9823"/>
                </a:cubicBezTo>
                <a:cubicBezTo>
                  <a:pt x="18788" y="9897"/>
                  <a:pt x="18764" y="9926"/>
                  <a:pt x="18802" y="9996"/>
                </a:cubicBezTo>
                <a:cubicBezTo>
                  <a:pt x="18858" y="10100"/>
                  <a:pt x="18965" y="10093"/>
                  <a:pt x="19075" y="10096"/>
                </a:cubicBezTo>
                <a:cubicBezTo>
                  <a:pt x="19194" y="10100"/>
                  <a:pt x="19359" y="10087"/>
                  <a:pt x="19472" y="10046"/>
                </a:cubicBezTo>
                <a:cubicBezTo>
                  <a:pt x="19505" y="10029"/>
                  <a:pt x="19538" y="10013"/>
                  <a:pt x="19571" y="9996"/>
                </a:cubicBezTo>
              </a:path>
              <a:path w="6004" h="1341">
                <a:moveTo>
                  <a:pt x="20067" y="9153"/>
                </a:moveTo>
                <a:cubicBezTo>
                  <a:pt x="20045" y="9265"/>
                  <a:pt x="20042" y="9361"/>
                  <a:pt x="20042" y="9475"/>
                </a:cubicBezTo>
                <a:cubicBezTo>
                  <a:pt x="20042" y="9613"/>
                  <a:pt x="20053" y="9739"/>
                  <a:pt x="20067" y="9872"/>
                </a:cubicBezTo>
                <a:cubicBezTo>
                  <a:pt x="20074" y="9941"/>
                  <a:pt x="20085" y="10006"/>
                  <a:pt x="20092" y="10071"/>
                </a:cubicBezTo>
                <a:cubicBezTo>
                  <a:pt x="20099" y="10138"/>
                  <a:pt x="20055" y="10038"/>
                  <a:pt x="20042" y="10021"/>
                </a:cubicBezTo>
              </a:path>
              <a:path w="6004" h="1341">
                <a:moveTo>
                  <a:pt x="19794" y="9599"/>
                </a:moveTo>
                <a:cubicBezTo>
                  <a:pt x="19883" y="9579"/>
                  <a:pt x="19994" y="9557"/>
                  <a:pt x="20092" y="9550"/>
                </a:cubicBezTo>
                <a:cubicBezTo>
                  <a:pt x="20257" y="9538"/>
                  <a:pt x="20598" y="9492"/>
                  <a:pt x="20737" y="9575"/>
                </a:cubicBezTo>
                <a:cubicBezTo>
                  <a:pt x="20690" y="9632"/>
                  <a:pt x="20665" y="9693"/>
                  <a:pt x="20613" y="9748"/>
                </a:cubicBezTo>
                <a:cubicBezTo>
                  <a:pt x="20562" y="9802"/>
                  <a:pt x="20505" y="9895"/>
                  <a:pt x="20489" y="9971"/>
                </a:cubicBezTo>
                <a:cubicBezTo>
                  <a:pt x="20476" y="10030"/>
                  <a:pt x="20515" y="10060"/>
                  <a:pt x="20563" y="10071"/>
                </a:cubicBezTo>
                <a:cubicBezTo>
                  <a:pt x="20608" y="10082"/>
                  <a:pt x="20661" y="10058"/>
                  <a:pt x="20687" y="10021"/>
                </a:cubicBezTo>
                <a:cubicBezTo>
                  <a:pt x="20727" y="9964"/>
                  <a:pt x="20772" y="9864"/>
                  <a:pt x="20786" y="9798"/>
                </a:cubicBezTo>
                <a:cubicBezTo>
                  <a:pt x="20798" y="9741"/>
                  <a:pt x="20779" y="9695"/>
                  <a:pt x="20762" y="9649"/>
                </a:cubicBezTo>
                <a:cubicBezTo>
                  <a:pt x="20770" y="9739"/>
                  <a:pt x="20765" y="9859"/>
                  <a:pt x="20786" y="9947"/>
                </a:cubicBezTo>
                <a:cubicBezTo>
                  <a:pt x="20796" y="9988"/>
                  <a:pt x="20850" y="10048"/>
                  <a:pt x="20886" y="10071"/>
                </a:cubicBezTo>
                <a:cubicBezTo>
                  <a:pt x="20915" y="10090"/>
                  <a:pt x="21014" y="10104"/>
                  <a:pt x="21034" y="10071"/>
                </a:cubicBezTo>
                <a:cubicBezTo>
                  <a:pt x="21034" y="10019"/>
                  <a:pt x="21035" y="10001"/>
                  <a:pt x="21059" y="9971"/>
                </a:cubicBezTo>
              </a:path>
              <a:path w="6004" h="1341">
                <a:moveTo>
                  <a:pt x="21109" y="9699"/>
                </a:moveTo>
                <a:cubicBezTo>
                  <a:pt x="21109" y="9826"/>
                  <a:pt x="21127" y="9905"/>
                  <a:pt x="21134" y="10021"/>
                </a:cubicBezTo>
                <a:cubicBezTo>
                  <a:pt x="21134" y="10066"/>
                  <a:pt x="21130" y="10079"/>
                  <a:pt x="21158" y="10096"/>
                </a:cubicBezTo>
                <a:cubicBezTo>
                  <a:pt x="21196" y="10033"/>
                  <a:pt x="21172" y="9997"/>
                  <a:pt x="21183" y="9922"/>
                </a:cubicBezTo>
                <a:cubicBezTo>
                  <a:pt x="21194" y="9849"/>
                  <a:pt x="21212" y="9688"/>
                  <a:pt x="21258" y="9624"/>
                </a:cubicBezTo>
                <a:cubicBezTo>
                  <a:pt x="21294" y="9573"/>
                  <a:pt x="21363" y="9510"/>
                  <a:pt x="21431" y="9525"/>
                </a:cubicBezTo>
                <a:cubicBezTo>
                  <a:pt x="21510" y="9543"/>
                  <a:pt x="21550" y="9661"/>
                  <a:pt x="21580" y="9723"/>
                </a:cubicBezTo>
                <a:cubicBezTo>
                  <a:pt x="21623" y="9812"/>
                  <a:pt x="21630" y="9873"/>
                  <a:pt x="21630" y="9971"/>
                </a:cubicBezTo>
                <a:cubicBezTo>
                  <a:pt x="21630" y="9989"/>
                  <a:pt x="21647" y="10117"/>
                  <a:pt x="21605" y="10096"/>
                </a:cubicBezTo>
                <a:cubicBezTo>
                  <a:pt x="21582" y="10073"/>
                  <a:pt x="21574" y="10069"/>
                  <a:pt x="21580" y="10046"/>
                </a:cubicBezTo>
              </a:path>
              <a:path w="6004" h="1341">
                <a:moveTo>
                  <a:pt x="22200" y="9227"/>
                </a:moveTo>
                <a:cubicBezTo>
                  <a:pt x="22164" y="9357"/>
                  <a:pt x="22081" y="9467"/>
                  <a:pt x="22051" y="9599"/>
                </a:cubicBezTo>
                <a:cubicBezTo>
                  <a:pt x="22023" y="9723"/>
                  <a:pt x="22007" y="9874"/>
                  <a:pt x="22051" y="9996"/>
                </a:cubicBezTo>
                <a:cubicBezTo>
                  <a:pt x="22075" y="10062"/>
                  <a:pt x="22156" y="10151"/>
                  <a:pt x="22225" y="10170"/>
                </a:cubicBezTo>
                <a:cubicBezTo>
                  <a:pt x="22275" y="10184"/>
                  <a:pt x="22407" y="10186"/>
                  <a:pt x="22448" y="10145"/>
                </a:cubicBezTo>
                <a:cubicBezTo>
                  <a:pt x="22518" y="10075"/>
                  <a:pt x="22559" y="9941"/>
                  <a:pt x="22572" y="9847"/>
                </a:cubicBezTo>
                <a:cubicBezTo>
                  <a:pt x="22587" y="9731"/>
                  <a:pt x="22559" y="9633"/>
                  <a:pt x="22523" y="9525"/>
                </a:cubicBezTo>
                <a:cubicBezTo>
                  <a:pt x="22495" y="9442"/>
                  <a:pt x="22413" y="9313"/>
                  <a:pt x="22349" y="9252"/>
                </a:cubicBezTo>
                <a:cubicBezTo>
                  <a:pt x="22308" y="9214"/>
                  <a:pt x="22250" y="9209"/>
                  <a:pt x="22200" y="9203"/>
                </a:cubicBezTo>
              </a:path>
              <a:path w="6004" h="1341">
                <a:moveTo>
                  <a:pt x="21803" y="9575"/>
                </a:moveTo>
                <a:cubicBezTo>
                  <a:pt x="21917" y="9640"/>
                  <a:pt x="22017" y="9665"/>
                  <a:pt x="22151" y="9674"/>
                </a:cubicBezTo>
                <a:cubicBezTo>
                  <a:pt x="22317" y="9686"/>
                  <a:pt x="22481" y="9719"/>
                  <a:pt x="22647" y="9723"/>
                </a:cubicBezTo>
                <a:cubicBezTo>
                  <a:pt x="22750" y="9726"/>
                  <a:pt x="22840" y="9748"/>
                  <a:pt x="22944" y="9748"/>
                </a:cubicBezTo>
                <a:cubicBezTo>
                  <a:pt x="22992" y="9748"/>
                  <a:pt x="22969" y="9731"/>
                  <a:pt x="22944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786720" y="874800"/>
            <a:ext cx="13464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8852" y="2505"/>
                </a:moveTo>
                <a:cubicBezTo>
                  <a:pt x="18883" y="2481"/>
                  <a:pt x="18912" y="2460"/>
                  <a:pt x="18951" y="2456"/>
                </a:cubicBezTo>
                <a:cubicBezTo>
                  <a:pt x="19024" y="2448"/>
                  <a:pt x="19072" y="2401"/>
                  <a:pt x="19149" y="2456"/>
                </a:cubicBezTo>
                <a:cubicBezTo>
                  <a:pt x="19162" y="2465"/>
                  <a:pt x="19183" y="2531"/>
                  <a:pt x="19174" y="2555"/>
                </a:cubicBezTo>
                <a:cubicBezTo>
                  <a:pt x="19142" y="2642"/>
                  <a:pt x="19051" y="2681"/>
                  <a:pt x="19000" y="2753"/>
                </a:cubicBezTo>
                <a:cubicBezTo>
                  <a:pt x="18978" y="2784"/>
                  <a:pt x="18937" y="2844"/>
                  <a:pt x="18926" y="2877"/>
                </a:cubicBezTo>
                <a:cubicBezTo>
                  <a:pt x="18911" y="2921"/>
                  <a:pt x="18936" y="2947"/>
                  <a:pt x="18976" y="2952"/>
                </a:cubicBezTo>
                <a:cubicBezTo>
                  <a:pt x="19059" y="2961"/>
                  <a:pt x="19127" y="2955"/>
                  <a:pt x="19199" y="2977"/>
                </a:cubicBezTo>
                <a:cubicBezTo>
                  <a:pt x="19207" y="2977"/>
                  <a:pt x="19216" y="2977"/>
                  <a:pt x="19224" y="29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Rectangle 3"/>
          <p:cNvGraphicFramePr/>
          <p:nvPr/>
        </p:nvGraphicFramePr>
        <p:xfrm>
          <a:off x="685800" y="609480"/>
          <a:ext cx="73915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391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562040" y="2963880"/>
            <a:ext cx="1359000" cy="447480"/>
          </a:xfrm>
          <a:custGeom>
            <a:avLst/>
            <a:gdLst/>
            <a:ahLst/>
            <a:rect l="l" t="t" r="r" b="b"/>
            <a:pathLst>
              <a:path w="3771" h="1241">
                <a:moveTo>
                  <a:pt x="4713" y="8434"/>
                </a:moveTo>
                <a:cubicBezTo>
                  <a:pt x="4682" y="8578"/>
                  <a:pt x="4722" y="8614"/>
                  <a:pt x="4738" y="8756"/>
                </a:cubicBezTo>
                <a:cubicBezTo>
                  <a:pt x="4751" y="8871"/>
                  <a:pt x="4762" y="8991"/>
                  <a:pt x="4787" y="9103"/>
                </a:cubicBezTo>
                <a:cubicBezTo>
                  <a:pt x="4790" y="9118"/>
                  <a:pt x="4840" y="9265"/>
                  <a:pt x="4837" y="9277"/>
                </a:cubicBezTo>
                <a:cubicBezTo>
                  <a:pt x="4822" y="9342"/>
                  <a:pt x="4747" y="9190"/>
                  <a:pt x="4738" y="9178"/>
                </a:cubicBezTo>
              </a:path>
              <a:path w="3771" h="1241">
                <a:moveTo>
                  <a:pt x="4341" y="8880"/>
                </a:moveTo>
                <a:cubicBezTo>
                  <a:pt x="4395" y="8934"/>
                  <a:pt x="4435" y="8951"/>
                  <a:pt x="4514" y="8954"/>
                </a:cubicBezTo>
                <a:cubicBezTo>
                  <a:pt x="4643" y="8959"/>
                  <a:pt x="4766" y="8950"/>
                  <a:pt x="4887" y="8930"/>
                </a:cubicBezTo>
                <a:cubicBezTo>
                  <a:pt x="4956" y="8919"/>
                  <a:pt x="5012" y="8905"/>
                  <a:pt x="5085" y="8905"/>
                </a:cubicBezTo>
                <a:cubicBezTo>
                  <a:pt x="5102" y="8905"/>
                  <a:pt x="5118" y="8905"/>
                  <a:pt x="5135" y="8905"/>
                </a:cubicBezTo>
              </a:path>
              <a:path w="3771" h="1241">
                <a:moveTo>
                  <a:pt x="5531" y="8905"/>
                </a:moveTo>
                <a:cubicBezTo>
                  <a:pt x="5553" y="8853"/>
                  <a:pt x="5556" y="8835"/>
                  <a:pt x="5556" y="8781"/>
                </a:cubicBezTo>
                <a:cubicBezTo>
                  <a:pt x="5556" y="8744"/>
                  <a:pt x="5532" y="8732"/>
                  <a:pt x="5507" y="8706"/>
                </a:cubicBezTo>
              </a:path>
              <a:path w="3771" h="1241">
                <a:moveTo>
                  <a:pt x="5432" y="8706"/>
                </a:moveTo>
                <a:cubicBezTo>
                  <a:pt x="5288" y="8850"/>
                  <a:pt x="5257" y="8888"/>
                  <a:pt x="5209" y="9079"/>
                </a:cubicBezTo>
                <a:cubicBezTo>
                  <a:pt x="5196" y="9132"/>
                  <a:pt x="5151" y="9233"/>
                  <a:pt x="5209" y="9252"/>
                </a:cubicBezTo>
                <a:cubicBezTo>
                  <a:pt x="5324" y="9227"/>
                  <a:pt x="5352" y="9163"/>
                  <a:pt x="5432" y="9079"/>
                </a:cubicBezTo>
                <a:cubicBezTo>
                  <a:pt x="5491" y="9017"/>
                  <a:pt x="5495" y="8909"/>
                  <a:pt x="5556" y="8855"/>
                </a:cubicBezTo>
                <a:cubicBezTo>
                  <a:pt x="5564" y="8855"/>
                  <a:pt x="5573" y="8855"/>
                  <a:pt x="5581" y="8855"/>
                </a:cubicBezTo>
                <a:cubicBezTo>
                  <a:pt x="5581" y="8937"/>
                  <a:pt x="5601" y="8998"/>
                  <a:pt x="5606" y="9079"/>
                </a:cubicBezTo>
                <a:cubicBezTo>
                  <a:pt x="5609" y="9120"/>
                  <a:pt x="5639" y="9217"/>
                  <a:pt x="5655" y="9252"/>
                </a:cubicBezTo>
                <a:cubicBezTo>
                  <a:pt x="5675" y="9296"/>
                  <a:pt x="5710" y="9331"/>
                  <a:pt x="5730" y="9376"/>
                </a:cubicBezTo>
                <a:cubicBezTo>
                  <a:pt x="5730" y="9384"/>
                  <a:pt x="5730" y="9393"/>
                  <a:pt x="5730" y="9401"/>
                </a:cubicBezTo>
              </a:path>
              <a:path w="3771" h="1241">
                <a:moveTo>
                  <a:pt x="5854" y="8905"/>
                </a:moveTo>
                <a:cubicBezTo>
                  <a:pt x="5877" y="9001"/>
                  <a:pt x="5899" y="9111"/>
                  <a:pt x="5928" y="9203"/>
                </a:cubicBezTo>
                <a:cubicBezTo>
                  <a:pt x="5952" y="9251"/>
                  <a:pt x="5961" y="9265"/>
                  <a:pt x="5953" y="9302"/>
                </a:cubicBezTo>
                <a:cubicBezTo>
                  <a:pt x="5953" y="9426"/>
                  <a:pt x="5930" y="9246"/>
                  <a:pt x="5928" y="9203"/>
                </a:cubicBezTo>
                <a:cubicBezTo>
                  <a:pt x="5925" y="9122"/>
                  <a:pt x="5925" y="9008"/>
                  <a:pt x="5904" y="8930"/>
                </a:cubicBezTo>
                <a:cubicBezTo>
                  <a:pt x="5888" y="8870"/>
                  <a:pt x="5862" y="8814"/>
                  <a:pt x="5904" y="8756"/>
                </a:cubicBezTo>
                <a:cubicBezTo>
                  <a:pt x="5929" y="8722"/>
                  <a:pt x="6001" y="8643"/>
                  <a:pt x="6052" y="8657"/>
                </a:cubicBezTo>
                <a:cubicBezTo>
                  <a:pt x="6123" y="8676"/>
                  <a:pt x="6168" y="8747"/>
                  <a:pt x="6201" y="8806"/>
                </a:cubicBezTo>
                <a:cubicBezTo>
                  <a:pt x="6245" y="8884"/>
                  <a:pt x="6291" y="8972"/>
                  <a:pt x="6325" y="9054"/>
                </a:cubicBezTo>
                <a:cubicBezTo>
                  <a:pt x="6361" y="9140"/>
                  <a:pt x="6434" y="9234"/>
                  <a:pt x="6449" y="9327"/>
                </a:cubicBezTo>
                <a:cubicBezTo>
                  <a:pt x="6458" y="9381"/>
                  <a:pt x="6463" y="9423"/>
                  <a:pt x="6474" y="9475"/>
                </a:cubicBezTo>
              </a:path>
              <a:path w="3771" h="1241">
                <a:moveTo>
                  <a:pt x="6672" y="8285"/>
                </a:moveTo>
                <a:cubicBezTo>
                  <a:pt x="6615" y="8295"/>
                  <a:pt x="6613" y="8299"/>
                  <a:pt x="6598" y="8359"/>
                </a:cubicBezTo>
                <a:cubicBezTo>
                  <a:pt x="6622" y="8395"/>
                  <a:pt x="6665" y="8384"/>
                  <a:pt x="6722" y="8384"/>
                </a:cubicBezTo>
                <a:cubicBezTo>
                  <a:pt x="6798" y="8384"/>
                  <a:pt x="6837" y="8382"/>
                  <a:pt x="6896" y="8434"/>
                </a:cubicBezTo>
                <a:cubicBezTo>
                  <a:pt x="6935" y="8468"/>
                  <a:pt x="6991" y="8477"/>
                  <a:pt x="6995" y="8533"/>
                </a:cubicBezTo>
                <a:cubicBezTo>
                  <a:pt x="6999" y="8591"/>
                  <a:pt x="6964" y="8635"/>
                  <a:pt x="6921" y="8657"/>
                </a:cubicBezTo>
                <a:cubicBezTo>
                  <a:pt x="6817" y="8710"/>
                  <a:pt x="6760" y="8702"/>
                  <a:pt x="6648" y="8682"/>
                </a:cubicBezTo>
                <a:cubicBezTo>
                  <a:pt x="6597" y="8673"/>
                  <a:pt x="6554" y="8663"/>
                  <a:pt x="6548" y="8607"/>
                </a:cubicBezTo>
                <a:cubicBezTo>
                  <a:pt x="6548" y="8582"/>
                  <a:pt x="6548" y="8574"/>
                  <a:pt x="6548" y="8558"/>
                </a:cubicBezTo>
              </a:path>
              <a:path w="3771" h="1241">
                <a:moveTo>
                  <a:pt x="6697" y="8260"/>
                </a:moveTo>
                <a:cubicBezTo>
                  <a:pt x="6771" y="8260"/>
                  <a:pt x="6827" y="8251"/>
                  <a:pt x="6896" y="8235"/>
                </a:cubicBezTo>
                <a:cubicBezTo>
                  <a:pt x="6941" y="8225"/>
                  <a:pt x="6999" y="8235"/>
                  <a:pt x="7045" y="8235"/>
                </a:cubicBezTo>
              </a:path>
              <a:path w="3771" h="1241">
                <a:moveTo>
                  <a:pt x="7764" y="8384"/>
                </a:moveTo>
                <a:cubicBezTo>
                  <a:pt x="7735" y="8454"/>
                  <a:pt x="7693" y="8510"/>
                  <a:pt x="7665" y="8582"/>
                </a:cubicBezTo>
                <a:cubicBezTo>
                  <a:pt x="7626" y="8682"/>
                  <a:pt x="7585" y="8761"/>
                  <a:pt x="7541" y="8855"/>
                </a:cubicBezTo>
                <a:cubicBezTo>
                  <a:pt x="7505" y="8931"/>
                  <a:pt x="7462" y="8987"/>
                  <a:pt x="7417" y="9054"/>
                </a:cubicBezTo>
                <a:cubicBezTo>
                  <a:pt x="7398" y="9083"/>
                  <a:pt x="7372" y="9163"/>
                  <a:pt x="7342" y="9178"/>
                </a:cubicBezTo>
                <a:cubicBezTo>
                  <a:pt x="7334" y="9178"/>
                  <a:pt x="7325" y="9178"/>
                  <a:pt x="7317" y="9178"/>
                </a:cubicBezTo>
              </a:path>
              <a:path w="3771" h="1241">
                <a:moveTo>
                  <a:pt x="7342" y="8409"/>
                </a:moveTo>
                <a:cubicBezTo>
                  <a:pt x="7423" y="8479"/>
                  <a:pt x="7470" y="8530"/>
                  <a:pt x="7516" y="8632"/>
                </a:cubicBezTo>
                <a:cubicBezTo>
                  <a:pt x="7563" y="8736"/>
                  <a:pt x="7609" y="8821"/>
                  <a:pt x="7689" y="8905"/>
                </a:cubicBezTo>
                <a:cubicBezTo>
                  <a:pt x="7765" y="8985"/>
                  <a:pt x="7829" y="9036"/>
                  <a:pt x="7913" y="9103"/>
                </a:cubicBezTo>
                <a:cubicBezTo>
                  <a:pt x="7991" y="9165"/>
                  <a:pt x="8053" y="9271"/>
                  <a:pt x="8111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321000" y="2625840"/>
            <a:ext cx="4268880" cy="758880"/>
          </a:xfrm>
          <a:custGeom>
            <a:avLst/>
            <a:gdLst/>
            <a:ahLst/>
            <a:rect l="l" t="t" r="r" b="b"/>
            <a:pathLst>
              <a:path w="11858" h="2109">
                <a:moveTo>
                  <a:pt x="9227" y="8657"/>
                </a:moveTo>
                <a:cubicBezTo>
                  <a:pt x="9277" y="8670"/>
                  <a:pt x="9291" y="8682"/>
                  <a:pt x="9351" y="8682"/>
                </a:cubicBezTo>
                <a:cubicBezTo>
                  <a:pt x="9526" y="8682"/>
                  <a:pt x="9706" y="8693"/>
                  <a:pt x="9872" y="8657"/>
                </a:cubicBezTo>
                <a:cubicBezTo>
                  <a:pt x="9905" y="8650"/>
                  <a:pt x="9948" y="8667"/>
                  <a:pt x="9971" y="8682"/>
                </a:cubicBezTo>
                <a:cubicBezTo>
                  <a:pt x="9979" y="8690"/>
                  <a:pt x="9988" y="8698"/>
                  <a:pt x="9996" y="8706"/>
                </a:cubicBezTo>
              </a:path>
              <a:path w="11858" h="2109">
                <a:moveTo>
                  <a:pt x="9277" y="9079"/>
                </a:moveTo>
                <a:cubicBezTo>
                  <a:pt x="9322" y="9079"/>
                  <a:pt x="9336" y="9100"/>
                  <a:pt x="9376" y="9103"/>
                </a:cubicBezTo>
                <a:cubicBezTo>
                  <a:pt x="9540" y="9114"/>
                  <a:pt x="9717" y="9109"/>
                  <a:pt x="9872" y="9079"/>
                </a:cubicBezTo>
                <a:cubicBezTo>
                  <a:pt x="9880" y="9079"/>
                  <a:pt x="9889" y="9079"/>
                  <a:pt x="9897" y="9079"/>
                </a:cubicBezTo>
              </a:path>
              <a:path w="11858" h="2109">
                <a:moveTo>
                  <a:pt x="10641" y="8111"/>
                </a:moveTo>
                <a:cubicBezTo>
                  <a:pt x="10696" y="8129"/>
                  <a:pt x="10702" y="8252"/>
                  <a:pt x="10716" y="8310"/>
                </a:cubicBezTo>
                <a:cubicBezTo>
                  <a:pt x="10745" y="8430"/>
                  <a:pt x="10761" y="8559"/>
                  <a:pt x="10765" y="8682"/>
                </a:cubicBezTo>
                <a:cubicBezTo>
                  <a:pt x="10769" y="8801"/>
                  <a:pt x="10790" y="8908"/>
                  <a:pt x="10790" y="9029"/>
                </a:cubicBezTo>
                <a:cubicBezTo>
                  <a:pt x="10790" y="9122"/>
                  <a:pt x="10846" y="9191"/>
                  <a:pt x="10864" y="9277"/>
                </a:cubicBezTo>
                <a:cubicBezTo>
                  <a:pt x="10873" y="9319"/>
                  <a:pt x="10881" y="9359"/>
                  <a:pt x="10889" y="9401"/>
                </a:cubicBezTo>
              </a:path>
              <a:path w="11858" h="2109">
                <a:moveTo>
                  <a:pt x="10319" y="8731"/>
                </a:moveTo>
                <a:cubicBezTo>
                  <a:pt x="10353" y="8742"/>
                  <a:pt x="10386" y="8771"/>
                  <a:pt x="10443" y="8781"/>
                </a:cubicBezTo>
                <a:cubicBezTo>
                  <a:pt x="10517" y="8793"/>
                  <a:pt x="10592" y="8802"/>
                  <a:pt x="10666" y="8806"/>
                </a:cubicBezTo>
                <a:cubicBezTo>
                  <a:pt x="10747" y="8810"/>
                  <a:pt x="10815" y="8793"/>
                  <a:pt x="10889" y="8781"/>
                </a:cubicBezTo>
                <a:cubicBezTo>
                  <a:pt x="10980" y="8766"/>
                  <a:pt x="11069" y="8746"/>
                  <a:pt x="11162" y="8731"/>
                </a:cubicBezTo>
                <a:cubicBezTo>
                  <a:pt x="11194" y="8726"/>
                  <a:pt x="11206" y="8714"/>
                  <a:pt x="11237" y="8706"/>
                </a:cubicBezTo>
              </a:path>
              <a:path w="11858" h="2109">
                <a:moveTo>
                  <a:pt x="11633" y="8657"/>
                </a:moveTo>
                <a:cubicBezTo>
                  <a:pt x="11657" y="8625"/>
                  <a:pt x="11659" y="8614"/>
                  <a:pt x="11683" y="8582"/>
                </a:cubicBezTo>
                <a:cubicBezTo>
                  <a:pt x="11674" y="8546"/>
                  <a:pt x="11646" y="8520"/>
                  <a:pt x="11609" y="8508"/>
                </a:cubicBezTo>
                <a:cubicBezTo>
                  <a:pt x="11562" y="8492"/>
                  <a:pt x="11474" y="8505"/>
                  <a:pt x="11435" y="8533"/>
                </a:cubicBezTo>
                <a:cubicBezTo>
                  <a:pt x="11321" y="8615"/>
                  <a:pt x="11307" y="8738"/>
                  <a:pt x="11261" y="8855"/>
                </a:cubicBezTo>
                <a:cubicBezTo>
                  <a:pt x="11219" y="8963"/>
                  <a:pt x="11147" y="9064"/>
                  <a:pt x="11212" y="9178"/>
                </a:cubicBezTo>
                <a:cubicBezTo>
                  <a:pt x="11246" y="9238"/>
                  <a:pt x="11320" y="9241"/>
                  <a:pt x="11361" y="9227"/>
                </a:cubicBezTo>
                <a:cubicBezTo>
                  <a:pt x="11475" y="9188"/>
                  <a:pt x="11510" y="9133"/>
                  <a:pt x="11559" y="9029"/>
                </a:cubicBezTo>
                <a:cubicBezTo>
                  <a:pt x="11609" y="8923"/>
                  <a:pt x="11640" y="8808"/>
                  <a:pt x="11683" y="8706"/>
                </a:cubicBezTo>
                <a:cubicBezTo>
                  <a:pt x="11706" y="8684"/>
                  <a:pt x="11714" y="8679"/>
                  <a:pt x="11708" y="8657"/>
                </a:cubicBezTo>
                <a:cubicBezTo>
                  <a:pt x="11708" y="8738"/>
                  <a:pt x="11704" y="8802"/>
                  <a:pt x="11733" y="8880"/>
                </a:cubicBezTo>
                <a:cubicBezTo>
                  <a:pt x="11763" y="8961"/>
                  <a:pt x="11752" y="9054"/>
                  <a:pt x="11807" y="9128"/>
                </a:cubicBezTo>
                <a:cubicBezTo>
                  <a:pt x="11832" y="9162"/>
                  <a:pt x="11918" y="9230"/>
                  <a:pt x="11931" y="9252"/>
                </a:cubicBezTo>
                <a:cubicBezTo>
                  <a:pt x="11947" y="9279"/>
                  <a:pt x="11942" y="9295"/>
                  <a:pt x="11956" y="9252"/>
                </a:cubicBezTo>
              </a:path>
              <a:path w="11858" h="2109">
                <a:moveTo>
                  <a:pt x="12030" y="8533"/>
                </a:moveTo>
                <a:cubicBezTo>
                  <a:pt x="12030" y="8615"/>
                  <a:pt x="12046" y="8678"/>
                  <a:pt x="12055" y="8756"/>
                </a:cubicBezTo>
                <a:cubicBezTo>
                  <a:pt x="12069" y="8879"/>
                  <a:pt x="12102" y="9007"/>
                  <a:pt x="12129" y="9128"/>
                </a:cubicBezTo>
                <a:cubicBezTo>
                  <a:pt x="12143" y="9189"/>
                  <a:pt x="12207" y="9358"/>
                  <a:pt x="12179" y="9302"/>
                </a:cubicBezTo>
                <a:cubicBezTo>
                  <a:pt x="12114" y="9172"/>
                  <a:pt x="12136" y="9017"/>
                  <a:pt x="12105" y="8880"/>
                </a:cubicBezTo>
                <a:cubicBezTo>
                  <a:pt x="12087" y="8802"/>
                  <a:pt x="12079" y="8707"/>
                  <a:pt x="12055" y="8632"/>
                </a:cubicBezTo>
                <a:cubicBezTo>
                  <a:pt x="12035" y="8570"/>
                  <a:pt x="12014" y="8502"/>
                  <a:pt x="12030" y="8434"/>
                </a:cubicBezTo>
                <a:cubicBezTo>
                  <a:pt x="12041" y="8385"/>
                  <a:pt x="12085" y="8313"/>
                  <a:pt x="12129" y="8285"/>
                </a:cubicBezTo>
                <a:cubicBezTo>
                  <a:pt x="12160" y="8265"/>
                  <a:pt x="12212" y="8251"/>
                  <a:pt x="12254" y="8260"/>
                </a:cubicBezTo>
                <a:cubicBezTo>
                  <a:pt x="12332" y="8276"/>
                  <a:pt x="12389" y="8347"/>
                  <a:pt x="12427" y="8409"/>
                </a:cubicBezTo>
                <a:cubicBezTo>
                  <a:pt x="12480" y="8496"/>
                  <a:pt x="12518" y="8557"/>
                  <a:pt x="12551" y="8657"/>
                </a:cubicBezTo>
                <a:cubicBezTo>
                  <a:pt x="12590" y="8773"/>
                  <a:pt x="12623" y="8893"/>
                  <a:pt x="12675" y="9004"/>
                </a:cubicBezTo>
                <a:cubicBezTo>
                  <a:pt x="12699" y="9055"/>
                  <a:pt x="12740" y="9105"/>
                  <a:pt x="12750" y="9153"/>
                </a:cubicBezTo>
                <a:cubicBezTo>
                  <a:pt x="12750" y="9170"/>
                  <a:pt x="12750" y="9186"/>
                  <a:pt x="12750" y="9203"/>
                </a:cubicBezTo>
              </a:path>
              <a:path w="11858" h="2109">
                <a:moveTo>
                  <a:pt x="13171" y="7888"/>
                </a:moveTo>
                <a:cubicBezTo>
                  <a:pt x="13147" y="7944"/>
                  <a:pt x="13133" y="7987"/>
                  <a:pt x="13072" y="8012"/>
                </a:cubicBezTo>
                <a:cubicBezTo>
                  <a:pt x="13035" y="8027"/>
                  <a:pt x="12983" y="8050"/>
                  <a:pt x="12948" y="8062"/>
                </a:cubicBezTo>
                <a:cubicBezTo>
                  <a:pt x="12895" y="8080"/>
                  <a:pt x="12976" y="8062"/>
                  <a:pt x="12998" y="8062"/>
                </a:cubicBezTo>
                <a:cubicBezTo>
                  <a:pt x="13056" y="8062"/>
                  <a:pt x="13060" y="8043"/>
                  <a:pt x="13122" y="8062"/>
                </a:cubicBezTo>
                <a:cubicBezTo>
                  <a:pt x="13150" y="8071"/>
                  <a:pt x="13229" y="8090"/>
                  <a:pt x="13246" y="8111"/>
                </a:cubicBezTo>
                <a:cubicBezTo>
                  <a:pt x="13269" y="8139"/>
                  <a:pt x="13316" y="8202"/>
                  <a:pt x="13320" y="8235"/>
                </a:cubicBezTo>
                <a:cubicBezTo>
                  <a:pt x="13326" y="8286"/>
                  <a:pt x="13306" y="8299"/>
                  <a:pt x="13271" y="8334"/>
                </a:cubicBezTo>
                <a:cubicBezTo>
                  <a:pt x="13232" y="8373"/>
                  <a:pt x="13176" y="8359"/>
                  <a:pt x="13122" y="8359"/>
                </a:cubicBezTo>
                <a:cubicBezTo>
                  <a:pt x="13056" y="8359"/>
                  <a:pt x="12989" y="8359"/>
                  <a:pt x="12923" y="8359"/>
                </a:cubicBezTo>
              </a:path>
              <a:path w="11858" h="2109">
                <a:moveTo>
                  <a:pt x="12774" y="7764"/>
                </a:moveTo>
                <a:cubicBezTo>
                  <a:pt x="12812" y="7735"/>
                  <a:pt x="12825" y="7739"/>
                  <a:pt x="12874" y="7739"/>
                </a:cubicBezTo>
                <a:cubicBezTo>
                  <a:pt x="12925" y="7739"/>
                  <a:pt x="12960" y="7730"/>
                  <a:pt x="12998" y="7764"/>
                </a:cubicBezTo>
                <a:cubicBezTo>
                  <a:pt x="13027" y="7790"/>
                  <a:pt x="13078" y="7796"/>
                  <a:pt x="13097" y="7838"/>
                </a:cubicBezTo>
                <a:cubicBezTo>
                  <a:pt x="13097" y="7866"/>
                  <a:pt x="13099" y="7877"/>
                  <a:pt x="13122" y="7888"/>
                </a:cubicBezTo>
              </a:path>
              <a:path w="11858" h="2109">
                <a:moveTo>
                  <a:pt x="13965" y="8037"/>
                </a:moveTo>
                <a:cubicBezTo>
                  <a:pt x="14010" y="8097"/>
                  <a:pt x="13978" y="8091"/>
                  <a:pt x="13965" y="8161"/>
                </a:cubicBezTo>
                <a:cubicBezTo>
                  <a:pt x="13953" y="8226"/>
                  <a:pt x="13923" y="8270"/>
                  <a:pt x="13891" y="8334"/>
                </a:cubicBezTo>
                <a:cubicBezTo>
                  <a:pt x="13818" y="8482"/>
                  <a:pt x="13753" y="8684"/>
                  <a:pt x="13643" y="8806"/>
                </a:cubicBezTo>
                <a:cubicBezTo>
                  <a:pt x="13611" y="8842"/>
                  <a:pt x="13630" y="8843"/>
                  <a:pt x="13593" y="8855"/>
                </a:cubicBezTo>
              </a:path>
              <a:path w="11858" h="2109">
                <a:moveTo>
                  <a:pt x="13519" y="8161"/>
                </a:moveTo>
                <a:cubicBezTo>
                  <a:pt x="13519" y="8210"/>
                  <a:pt x="13528" y="8202"/>
                  <a:pt x="13543" y="8235"/>
                </a:cubicBezTo>
                <a:cubicBezTo>
                  <a:pt x="13572" y="8299"/>
                  <a:pt x="13624" y="8335"/>
                  <a:pt x="13667" y="8384"/>
                </a:cubicBezTo>
                <a:cubicBezTo>
                  <a:pt x="13707" y="8429"/>
                  <a:pt x="13774" y="8526"/>
                  <a:pt x="13816" y="8558"/>
                </a:cubicBezTo>
                <a:cubicBezTo>
                  <a:pt x="13925" y="8642"/>
                  <a:pt x="14034" y="8714"/>
                  <a:pt x="14139" y="8806"/>
                </a:cubicBezTo>
                <a:cubicBezTo>
                  <a:pt x="14174" y="8836"/>
                  <a:pt x="14205" y="8872"/>
                  <a:pt x="14238" y="8905"/>
                </a:cubicBezTo>
              </a:path>
              <a:path w="11858" h="2109">
                <a:moveTo>
                  <a:pt x="15180" y="7317"/>
                </a:moveTo>
                <a:cubicBezTo>
                  <a:pt x="15155" y="7305"/>
                  <a:pt x="15151" y="7290"/>
                  <a:pt x="15131" y="7317"/>
                </a:cubicBezTo>
                <a:cubicBezTo>
                  <a:pt x="15076" y="7390"/>
                  <a:pt x="15024" y="7449"/>
                  <a:pt x="14957" y="7516"/>
                </a:cubicBezTo>
                <a:cubicBezTo>
                  <a:pt x="14896" y="7577"/>
                  <a:pt x="14884" y="7648"/>
                  <a:pt x="14833" y="7714"/>
                </a:cubicBezTo>
                <a:cubicBezTo>
                  <a:pt x="14760" y="7809"/>
                  <a:pt x="14731" y="7902"/>
                  <a:pt x="14684" y="8012"/>
                </a:cubicBezTo>
                <a:cubicBezTo>
                  <a:pt x="14631" y="8135"/>
                  <a:pt x="14598" y="8250"/>
                  <a:pt x="14585" y="8384"/>
                </a:cubicBezTo>
                <a:cubicBezTo>
                  <a:pt x="14573" y="8507"/>
                  <a:pt x="14600" y="8614"/>
                  <a:pt x="14635" y="8731"/>
                </a:cubicBezTo>
                <a:cubicBezTo>
                  <a:pt x="14677" y="8870"/>
                  <a:pt x="14753" y="8922"/>
                  <a:pt x="14858" y="9004"/>
                </a:cubicBezTo>
                <a:cubicBezTo>
                  <a:pt x="14941" y="9069"/>
                  <a:pt x="15030" y="9115"/>
                  <a:pt x="15131" y="9153"/>
                </a:cubicBezTo>
                <a:cubicBezTo>
                  <a:pt x="15202" y="9179"/>
                  <a:pt x="15339" y="9255"/>
                  <a:pt x="15404" y="9252"/>
                </a:cubicBezTo>
                <a:cubicBezTo>
                  <a:pt x="15453" y="9227"/>
                  <a:pt x="15470" y="9219"/>
                  <a:pt x="15503" y="9203"/>
                </a:cubicBezTo>
              </a:path>
              <a:path w="11858" h="2109">
                <a:moveTo>
                  <a:pt x="16148" y="8062"/>
                </a:moveTo>
                <a:cubicBezTo>
                  <a:pt x="16080" y="8021"/>
                  <a:pt x="16025" y="8037"/>
                  <a:pt x="15949" y="8062"/>
                </a:cubicBezTo>
                <a:cubicBezTo>
                  <a:pt x="15858" y="8092"/>
                  <a:pt x="15753" y="8156"/>
                  <a:pt x="15677" y="8210"/>
                </a:cubicBezTo>
                <a:cubicBezTo>
                  <a:pt x="15600" y="8265"/>
                  <a:pt x="15588" y="8276"/>
                  <a:pt x="15577" y="8359"/>
                </a:cubicBezTo>
                <a:cubicBezTo>
                  <a:pt x="15577" y="8367"/>
                  <a:pt x="15577" y="8376"/>
                  <a:pt x="15577" y="8384"/>
                </a:cubicBezTo>
                <a:cubicBezTo>
                  <a:pt x="15628" y="8401"/>
                  <a:pt x="15693" y="8427"/>
                  <a:pt x="15751" y="8434"/>
                </a:cubicBezTo>
                <a:cubicBezTo>
                  <a:pt x="15882" y="8451"/>
                  <a:pt x="16027" y="8471"/>
                  <a:pt x="16148" y="8533"/>
                </a:cubicBezTo>
                <a:cubicBezTo>
                  <a:pt x="16221" y="8571"/>
                  <a:pt x="16331" y="8644"/>
                  <a:pt x="16371" y="8706"/>
                </a:cubicBezTo>
                <a:cubicBezTo>
                  <a:pt x="16397" y="8746"/>
                  <a:pt x="16459" y="8837"/>
                  <a:pt x="16470" y="8880"/>
                </a:cubicBezTo>
                <a:cubicBezTo>
                  <a:pt x="16480" y="8920"/>
                  <a:pt x="16458" y="9007"/>
                  <a:pt x="16421" y="9029"/>
                </a:cubicBezTo>
                <a:cubicBezTo>
                  <a:pt x="16343" y="9075"/>
                  <a:pt x="16263" y="9079"/>
                  <a:pt x="16173" y="9079"/>
                </a:cubicBezTo>
                <a:cubicBezTo>
                  <a:pt x="16067" y="9079"/>
                  <a:pt x="15976" y="9044"/>
                  <a:pt x="15875" y="9029"/>
                </a:cubicBezTo>
                <a:cubicBezTo>
                  <a:pt x="15823" y="9029"/>
                  <a:pt x="15805" y="9028"/>
                  <a:pt x="15776" y="9004"/>
                </a:cubicBezTo>
              </a:path>
              <a:path w="11858" h="2109">
                <a:moveTo>
                  <a:pt x="16545" y="8706"/>
                </a:moveTo>
                <a:cubicBezTo>
                  <a:pt x="16628" y="8698"/>
                  <a:pt x="16682" y="8669"/>
                  <a:pt x="16768" y="8657"/>
                </a:cubicBezTo>
                <a:cubicBezTo>
                  <a:pt x="16855" y="8644"/>
                  <a:pt x="16900" y="8619"/>
                  <a:pt x="16966" y="8558"/>
                </a:cubicBezTo>
                <a:cubicBezTo>
                  <a:pt x="17010" y="8517"/>
                  <a:pt x="17044" y="8510"/>
                  <a:pt x="17066" y="8458"/>
                </a:cubicBezTo>
                <a:cubicBezTo>
                  <a:pt x="17096" y="8387"/>
                  <a:pt x="17095" y="8387"/>
                  <a:pt x="17041" y="8334"/>
                </a:cubicBezTo>
                <a:cubicBezTo>
                  <a:pt x="16996" y="8289"/>
                  <a:pt x="16919" y="8305"/>
                  <a:pt x="16867" y="8334"/>
                </a:cubicBezTo>
                <a:cubicBezTo>
                  <a:pt x="16745" y="8403"/>
                  <a:pt x="16663" y="8465"/>
                  <a:pt x="16594" y="8582"/>
                </a:cubicBezTo>
                <a:cubicBezTo>
                  <a:pt x="16522" y="8703"/>
                  <a:pt x="16435" y="8797"/>
                  <a:pt x="16495" y="8930"/>
                </a:cubicBezTo>
                <a:cubicBezTo>
                  <a:pt x="16537" y="9024"/>
                  <a:pt x="16653" y="9026"/>
                  <a:pt x="16743" y="9029"/>
                </a:cubicBezTo>
                <a:cubicBezTo>
                  <a:pt x="16884" y="9033"/>
                  <a:pt x="17003" y="8975"/>
                  <a:pt x="17140" y="8954"/>
                </a:cubicBezTo>
                <a:cubicBezTo>
                  <a:pt x="17192" y="8954"/>
                  <a:pt x="17210" y="8953"/>
                  <a:pt x="17239" y="8930"/>
                </a:cubicBezTo>
              </a:path>
              <a:path w="11858" h="2109">
                <a:moveTo>
                  <a:pt x="17611" y="8260"/>
                </a:moveTo>
                <a:cubicBezTo>
                  <a:pt x="17611" y="8243"/>
                  <a:pt x="17611" y="8227"/>
                  <a:pt x="17611" y="8210"/>
                </a:cubicBezTo>
                <a:cubicBezTo>
                  <a:pt x="17575" y="8198"/>
                  <a:pt x="17590" y="8186"/>
                  <a:pt x="17537" y="8186"/>
                </a:cubicBezTo>
              </a:path>
              <a:path w="11858" h="2109">
                <a:moveTo>
                  <a:pt x="17462" y="8235"/>
                </a:moveTo>
                <a:cubicBezTo>
                  <a:pt x="17294" y="8387"/>
                  <a:pt x="17211" y="8470"/>
                  <a:pt x="17190" y="8706"/>
                </a:cubicBezTo>
                <a:cubicBezTo>
                  <a:pt x="17182" y="8795"/>
                  <a:pt x="17175" y="8901"/>
                  <a:pt x="17264" y="8954"/>
                </a:cubicBezTo>
                <a:cubicBezTo>
                  <a:pt x="17351" y="9006"/>
                  <a:pt x="17463" y="9025"/>
                  <a:pt x="17562" y="9029"/>
                </a:cubicBezTo>
                <a:cubicBezTo>
                  <a:pt x="17661" y="9033"/>
                  <a:pt x="17765" y="9008"/>
                  <a:pt x="17859" y="8979"/>
                </a:cubicBezTo>
                <a:cubicBezTo>
                  <a:pt x="17922" y="8960"/>
                  <a:pt x="17959" y="8944"/>
                  <a:pt x="18008" y="8905"/>
                </a:cubicBezTo>
              </a:path>
              <a:path w="11858" h="2109">
                <a:moveTo>
                  <a:pt x="17810" y="7888"/>
                </a:moveTo>
                <a:cubicBezTo>
                  <a:pt x="17893" y="7863"/>
                  <a:pt x="17945" y="7863"/>
                  <a:pt x="18033" y="7863"/>
                </a:cubicBezTo>
                <a:cubicBezTo>
                  <a:pt x="18086" y="7863"/>
                  <a:pt x="18157" y="7883"/>
                  <a:pt x="18182" y="7938"/>
                </a:cubicBezTo>
                <a:cubicBezTo>
                  <a:pt x="18203" y="7984"/>
                  <a:pt x="18126" y="8053"/>
                  <a:pt x="18107" y="8086"/>
                </a:cubicBezTo>
                <a:cubicBezTo>
                  <a:pt x="18072" y="8145"/>
                  <a:pt x="18058" y="8167"/>
                  <a:pt x="18058" y="8235"/>
                </a:cubicBezTo>
                <a:cubicBezTo>
                  <a:pt x="18058" y="8265"/>
                  <a:pt x="18099" y="8281"/>
                  <a:pt x="18132" y="8285"/>
                </a:cubicBezTo>
                <a:cubicBezTo>
                  <a:pt x="18172" y="8290"/>
                  <a:pt x="18186" y="8310"/>
                  <a:pt x="18231" y="8310"/>
                </a:cubicBezTo>
              </a:path>
              <a:path w="11858" h="2109">
                <a:moveTo>
                  <a:pt x="18752" y="8186"/>
                </a:moveTo>
                <a:cubicBezTo>
                  <a:pt x="18752" y="8275"/>
                  <a:pt x="18743" y="8305"/>
                  <a:pt x="18703" y="8384"/>
                </a:cubicBezTo>
                <a:cubicBezTo>
                  <a:pt x="18666" y="8458"/>
                  <a:pt x="18639" y="8533"/>
                  <a:pt x="18604" y="8607"/>
                </a:cubicBezTo>
                <a:cubicBezTo>
                  <a:pt x="18576" y="8666"/>
                  <a:pt x="18543" y="8729"/>
                  <a:pt x="18504" y="8781"/>
                </a:cubicBezTo>
                <a:cubicBezTo>
                  <a:pt x="18473" y="8822"/>
                  <a:pt x="18453" y="8830"/>
                  <a:pt x="18405" y="8830"/>
                </a:cubicBezTo>
              </a:path>
              <a:path w="11858" h="2109">
                <a:moveTo>
                  <a:pt x="18331" y="8235"/>
                </a:moveTo>
                <a:cubicBezTo>
                  <a:pt x="18362" y="8278"/>
                  <a:pt x="18396" y="8311"/>
                  <a:pt x="18430" y="8359"/>
                </a:cubicBezTo>
                <a:cubicBezTo>
                  <a:pt x="18475" y="8423"/>
                  <a:pt x="18522" y="8457"/>
                  <a:pt x="18579" y="8508"/>
                </a:cubicBezTo>
                <a:cubicBezTo>
                  <a:pt x="18637" y="8559"/>
                  <a:pt x="18672" y="8626"/>
                  <a:pt x="18728" y="8682"/>
                </a:cubicBezTo>
                <a:cubicBezTo>
                  <a:pt x="18797" y="8751"/>
                  <a:pt x="18823" y="8745"/>
                  <a:pt x="18901" y="8781"/>
                </a:cubicBezTo>
                <a:cubicBezTo>
                  <a:pt x="18929" y="8809"/>
                  <a:pt x="18943" y="8818"/>
                  <a:pt x="18976" y="8806"/>
                </a:cubicBezTo>
              </a:path>
              <a:path w="11858" h="2109">
                <a:moveTo>
                  <a:pt x="19174" y="8409"/>
                </a:moveTo>
                <a:cubicBezTo>
                  <a:pt x="19232" y="8453"/>
                  <a:pt x="19275" y="8417"/>
                  <a:pt x="19348" y="8434"/>
                </a:cubicBezTo>
                <a:cubicBezTo>
                  <a:pt x="19410" y="8448"/>
                  <a:pt x="19454" y="8458"/>
                  <a:pt x="19521" y="8458"/>
                </a:cubicBezTo>
                <a:cubicBezTo>
                  <a:pt x="19618" y="8458"/>
                  <a:pt x="19710" y="8461"/>
                  <a:pt x="19794" y="8434"/>
                </a:cubicBezTo>
                <a:cubicBezTo>
                  <a:pt x="19829" y="8434"/>
                  <a:pt x="19842" y="8425"/>
                  <a:pt x="19844" y="8384"/>
                </a:cubicBezTo>
              </a:path>
              <a:path w="11858" h="2109">
                <a:moveTo>
                  <a:pt x="19968" y="7938"/>
                </a:moveTo>
                <a:cubicBezTo>
                  <a:pt x="19982" y="7992"/>
                  <a:pt x="20006" y="8051"/>
                  <a:pt x="20017" y="8111"/>
                </a:cubicBezTo>
                <a:cubicBezTo>
                  <a:pt x="20042" y="8247"/>
                  <a:pt x="20047" y="8404"/>
                  <a:pt x="20092" y="8533"/>
                </a:cubicBezTo>
                <a:cubicBezTo>
                  <a:pt x="20112" y="8590"/>
                  <a:pt x="20119" y="8651"/>
                  <a:pt x="20141" y="8706"/>
                </a:cubicBezTo>
                <a:cubicBezTo>
                  <a:pt x="20162" y="8758"/>
                  <a:pt x="20156" y="8769"/>
                  <a:pt x="20191" y="8781"/>
                </a:cubicBezTo>
              </a:path>
              <a:path w="11858" h="2109">
                <a:moveTo>
                  <a:pt x="20265" y="7342"/>
                </a:moveTo>
                <a:cubicBezTo>
                  <a:pt x="20291" y="7371"/>
                  <a:pt x="20331" y="7428"/>
                  <a:pt x="20365" y="7466"/>
                </a:cubicBezTo>
                <a:cubicBezTo>
                  <a:pt x="20439" y="7550"/>
                  <a:pt x="20518" y="7628"/>
                  <a:pt x="20588" y="7714"/>
                </a:cubicBezTo>
                <a:cubicBezTo>
                  <a:pt x="20689" y="7838"/>
                  <a:pt x="20796" y="7955"/>
                  <a:pt x="20886" y="8086"/>
                </a:cubicBezTo>
                <a:cubicBezTo>
                  <a:pt x="20952" y="8182"/>
                  <a:pt x="21018" y="8275"/>
                  <a:pt x="21059" y="8384"/>
                </a:cubicBezTo>
                <a:cubicBezTo>
                  <a:pt x="21099" y="8490"/>
                  <a:pt x="21086" y="8576"/>
                  <a:pt x="21059" y="8682"/>
                </a:cubicBezTo>
                <a:cubicBezTo>
                  <a:pt x="21026" y="8815"/>
                  <a:pt x="20985" y="8870"/>
                  <a:pt x="20910" y="8979"/>
                </a:cubicBezTo>
                <a:cubicBezTo>
                  <a:pt x="20842" y="9078"/>
                  <a:pt x="20774" y="9177"/>
                  <a:pt x="20712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044800" y="3697200"/>
            <a:ext cx="1554120" cy="490680"/>
          </a:xfrm>
          <a:custGeom>
            <a:avLst/>
            <a:gdLst/>
            <a:ahLst/>
            <a:rect l="l" t="t" r="r" b="b"/>
            <a:pathLst>
              <a:path w="4317" h="1365">
                <a:moveTo>
                  <a:pt x="9203" y="10740"/>
                </a:moveTo>
                <a:cubicBezTo>
                  <a:pt x="9242" y="10750"/>
                  <a:pt x="9285" y="10753"/>
                  <a:pt x="9327" y="10765"/>
                </a:cubicBezTo>
                <a:cubicBezTo>
                  <a:pt x="9412" y="10790"/>
                  <a:pt x="9482" y="10790"/>
                  <a:pt x="9575" y="10790"/>
                </a:cubicBezTo>
                <a:cubicBezTo>
                  <a:pt x="9666" y="10790"/>
                  <a:pt x="9756" y="10790"/>
                  <a:pt x="9847" y="10790"/>
                </a:cubicBezTo>
              </a:path>
              <a:path w="4317" h="1365">
                <a:moveTo>
                  <a:pt x="9277" y="11187"/>
                </a:moveTo>
                <a:cubicBezTo>
                  <a:pt x="9329" y="11226"/>
                  <a:pt x="9383" y="11212"/>
                  <a:pt x="9451" y="11212"/>
                </a:cubicBezTo>
                <a:cubicBezTo>
                  <a:pt x="9603" y="11212"/>
                  <a:pt x="9753" y="11204"/>
                  <a:pt x="9897" y="11237"/>
                </a:cubicBezTo>
                <a:cubicBezTo>
                  <a:pt x="9940" y="11247"/>
                  <a:pt x="9965" y="11235"/>
                  <a:pt x="9996" y="11212"/>
                </a:cubicBezTo>
              </a:path>
              <a:path w="4317" h="1365">
                <a:moveTo>
                  <a:pt x="6028" y="10592"/>
                </a:moveTo>
                <a:cubicBezTo>
                  <a:pt x="6028" y="10657"/>
                  <a:pt x="6045" y="10706"/>
                  <a:pt x="6052" y="10765"/>
                </a:cubicBezTo>
                <a:cubicBezTo>
                  <a:pt x="6065" y="10871"/>
                  <a:pt x="6081" y="10984"/>
                  <a:pt x="6102" y="11088"/>
                </a:cubicBezTo>
                <a:cubicBezTo>
                  <a:pt x="6123" y="11193"/>
                  <a:pt x="6140" y="11304"/>
                  <a:pt x="6152" y="11410"/>
                </a:cubicBezTo>
                <a:cubicBezTo>
                  <a:pt x="6160" y="11482"/>
                  <a:pt x="6152" y="11561"/>
                  <a:pt x="6152" y="11633"/>
                </a:cubicBezTo>
              </a:path>
              <a:path w="4317" h="1365">
                <a:moveTo>
                  <a:pt x="5680" y="11162"/>
                </a:moveTo>
                <a:cubicBezTo>
                  <a:pt x="5759" y="11215"/>
                  <a:pt x="5856" y="11226"/>
                  <a:pt x="5953" y="11237"/>
                </a:cubicBezTo>
                <a:cubicBezTo>
                  <a:pt x="6007" y="11243"/>
                  <a:pt x="6123" y="11226"/>
                  <a:pt x="6176" y="11212"/>
                </a:cubicBezTo>
                <a:cubicBezTo>
                  <a:pt x="6231" y="11198"/>
                  <a:pt x="6298" y="11179"/>
                  <a:pt x="6350" y="11162"/>
                </a:cubicBezTo>
                <a:cubicBezTo>
                  <a:pt x="6410" y="11142"/>
                  <a:pt x="6434" y="11137"/>
                  <a:pt x="6499" y="11137"/>
                </a:cubicBezTo>
                <a:cubicBezTo>
                  <a:pt x="6507" y="11137"/>
                  <a:pt x="6516" y="11137"/>
                  <a:pt x="6524" y="11137"/>
                </a:cubicBezTo>
              </a:path>
              <a:path w="4317" h="1365">
                <a:moveTo>
                  <a:pt x="6821" y="10964"/>
                </a:moveTo>
                <a:cubicBezTo>
                  <a:pt x="6803" y="10920"/>
                  <a:pt x="6790" y="10845"/>
                  <a:pt x="6747" y="10840"/>
                </a:cubicBezTo>
                <a:cubicBezTo>
                  <a:pt x="6702" y="10835"/>
                  <a:pt x="6661" y="10839"/>
                  <a:pt x="6623" y="10864"/>
                </a:cubicBezTo>
                <a:cubicBezTo>
                  <a:pt x="6562" y="10905"/>
                  <a:pt x="6542" y="11023"/>
                  <a:pt x="6524" y="11088"/>
                </a:cubicBezTo>
                <a:cubicBezTo>
                  <a:pt x="6490" y="11210"/>
                  <a:pt x="6472" y="11370"/>
                  <a:pt x="6524" y="11485"/>
                </a:cubicBezTo>
                <a:cubicBezTo>
                  <a:pt x="6537" y="11514"/>
                  <a:pt x="6589" y="11553"/>
                  <a:pt x="6623" y="11534"/>
                </a:cubicBezTo>
                <a:cubicBezTo>
                  <a:pt x="6672" y="11507"/>
                  <a:pt x="6703" y="11433"/>
                  <a:pt x="6722" y="11385"/>
                </a:cubicBezTo>
                <a:cubicBezTo>
                  <a:pt x="6757" y="11297"/>
                  <a:pt x="6799" y="11205"/>
                  <a:pt x="6821" y="11112"/>
                </a:cubicBezTo>
                <a:cubicBezTo>
                  <a:pt x="6821" y="11077"/>
                  <a:pt x="6826" y="11060"/>
                  <a:pt x="6846" y="11038"/>
                </a:cubicBezTo>
                <a:cubicBezTo>
                  <a:pt x="6799" y="11054"/>
                  <a:pt x="6848" y="11112"/>
                  <a:pt x="6871" y="11162"/>
                </a:cubicBezTo>
                <a:cubicBezTo>
                  <a:pt x="6907" y="11241"/>
                  <a:pt x="6951" y="11349"/>
                  <a:pt x="6970" y="11435"/>
                </a:cubicBezTo>
                <a:cubicBezTo>
                  <a:pt x="6984" y="11496"/>
                  <a:pt x="7005" y="11544"/>
                  <a:pt x="7020" y="11609"/>
                </a:cubicBezTo>
                <a:cubicBezTo>
                  <a:pt x="7020" y="11617"/>
                  <a:pt x="7020" y="11625"/>
                  <a:pt x="7020" y="11633"/>
                </a:cubicBezTo>
              </a:path>
              <a:path w="4317" h="1365">
                <a:moveTo>
                  <a:pt x="7144" y="11063"/>
                </a:moveTo>
                <a:cubicBezTo>
                  <a:pt x="7170" y="11155"/>
                  <a:pt x="7182" y="11251"/>
                  <a:pt x="7218" y="11336"/>
                </a:cubicBezTo>
                <a:cubicBezTo>
                  <a:pt x="7247" y="11404"/>
                  <a:pt x="7243" y="11461"/>
                  <a:pt x="7243" y="11534"/>
                </a:cubicBezTo>
                <a:cubicBezTo>
                  <a:pt x="7243" y="11559"/>
                  <a:pt x="7243" y="11567"/>
                  <a:pt x="7243" y="11534"/>
                </a:cubicBezTo>
                <a:cubicBezTo>
                  <a:pt x="7204" y="11419"/>
                  <a:pt x="7196" y="11312"/>
                  <a:pt x="7193" y="11187"/>
                </a:cubicBezTo>
                <a:cubicBezTo>
                  <a:pt x="7191" y="11112"/>
                  <a:pt x="7195" y="11033"/>
                  <a:pt x="7218" y="10964"/>
                </a:cubicBezTo>
                <a:cubicBezTo>
                  <a:pt x="7238" y="10904"/>
                  <a:pt x="7274" y="10859"/>
                  <a:pt x="7317" y="10815"/>
                </a:cubicBezTo>
                <a:cubicBezTo>
                  <a:pt x="7349" y="10783"/>
                  <a:pt x="7388" y="10738"/>
                  <a:pt x="7441" y="10765"/>
                </a:cubicBezTo>
                <a:cubicBezTo>
                  <a:pt x="7499" y="10794"/>
                  <a:pt x="7535" y="10832"/>
                  <a:pt x="7565" y="10889"/>
                </a:cubicBezTo>
                <a:cubicBezTo>
                  <a:pt x="7608" y="10970"/>
                  <a:pt x="7646" y="11072"/>
                  <a:pt x="7665" y="11162"/>
                </a:cubicBezTo>
                <a:cubicBezTo>
                  <a:pt x="7687" y="11268"/>
                  <a:pt x="7716" y="11360"/>
                  <a:pt x="7739" y="11460"/>
                </a:cubicBezTo>
                <a:cubicBezTo>
                  <a:pt x="7739" y="11485"/>
                  <a:pt x="7739" y="11493"/>
                  <a:pt x="7739" y="11509"/>
                </a:cubicBezTo>
              </a:path>
              <a:path w="4317" h="1365">
                <a:moveTo>
                  <a:pt x="7938" y="10294"/>
                </a:moveTo>
                <a:cubicBezTo>
                  <a:pt x="7905" y="10338"/>
                  <a:pt x="7913" y="10360"/>
                  <a:pt x="7913" y="10418"/>
                </a:cubicBezTo>
                <a:cubicBezTo>
                  <a:pt x="7913" y="10486"/>
                  <a:pt x="7952" y="10449"/>
                  <a:pt x="7987" y="10468"/>
                </a:cubicBezTo>
                <a:cubicBezTo>
                  <a:pt x="8036" y="10494"/>
                  <a:pt x="8067" y="10498"/>
                  <a:pt x="8111" y="10542"/>
                </a:cubicBezTo>
                <a:cubicBezTo>
                  <a:pt x="8149" y="10580"/>
                  <a:pt x="8161" y="10588"/>
                  <a:pt x="8161" y="10641"/>
                </a:cubicBezTo>
                <a:cubicBezTo>
                  <a:pt x="8161" y="10695"/>
                  <a:pt x="8079" y="10713"/>
                  <a:pt x="8037" y="10716"/>
                </a:cubicBezTo>
                <a:cubicBezTo>
                  <a:pt x="7966" y="10720"/>
                  <a:pt x="7953" y="10728"/>
                  <a:pt x="7888" y="10716"/>
                </a:cubicBezTo>
                <a:cubicBezTo>
                  <a:pt x="7846" y="10716"/>
                  <a:pt x="7830" y="10724"/>
                  <a:pt x="7838" y="10691"/>
                </a:cubicBezTo>
              </a:path>
              <a:path w="4317" h="1365">
                <a:moveTo>
                  <a:pt x="7888" y="10269"/>
                </a:moveTo>
                <a:cubicBezTo>
                  <a:pt x="7979" y="10269"/>
                  <a:pt x="8070" y="10269"/>
                  <a:pt x="8161" y="10269"/>
                </a:cubicBezTo>
              </a:path>
              <a:path w="4317" h="1365">
                <a:moveTo>
                  <a:pt x="8657" y="10468"/>
                </a:moveTo>
                <a:cubicBezTo>
                  <a:pt x="8738" y="10479"/>
                  <a:pt x="8731" y="10486"/>
                  <a:pt x="8731" y="10567"/>
                </a:cubicBezTo>
                <a:cubicBezTo>
                  <a:pt x="8731" y="10655"/>
                  <a:pt x="8711" y="10706"/>
                  <a:pt x="8682" y="10790"/>
                </a:cubicBezTo>
                <a:cubicBezTo>
                  <a:pt x="8649" y="10886"/>
                  <a:pt x="8600" y="10971"/>
                  <a:pt x="8558" y="11063"/>
                </a:cubicBezTo>
                <a:cubicBezTo>
                  <a:pt x="8528" y="11129"/>
                  <a:pt x="8490" y="11233"/>
                  <a:pt x="8434" y="11261"/>
                </a:cubicBezTo>
              </a:path>
              <a:path w="4317" h="1365">
                <a:moveTo>
                  <a:pt x="8310" y="10592"/>
                </a:moveTo>
                <a:cubicBezTo>
                  <a:pt x="8383" y="10665"/>
                  <a:pt x="8445" y="10734"/>
                  <a:pt x="8508" y="10815"/>
                </a:cubicBezTo>
                <a:cubicBezTo>
                  <a:pt x="8590" y="10920"/>
                  <a:pt x="8657" y="11034"/>
                  <a:pt x="8731" y="11137"/>
                </a:cubicBezTo>
                <a:cubicBezTo>
                  <a:pt x="8785" y="11213"/>
                  <a:pt x="8837" y="11276"/>
                  <a:pt x="8880" y="11361"/>
                </a:cubicBezTo>
                <a:cubicBezTo>
                  <a:pt x="8888" y="11377"/>
                  <a:pt x="8897" y="11394"/>
                  <a:pt x="8905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840120" y="3537000"/>
            <a:ext cx="2643120" cy="579240"/>
          </a:xfrm>
          <a:custGeom>
            <a:avLst/>
            <a:gdLst/>
            <a:ahLst/>
            <a:rect l="l" t="t" r="r" b="b"/>
            <a:pathLst>
              <a:path w="7343" h="1613">
                <a:moveTo>
                  <a:pt x="10964" y="10244"/>
                </a:moveTo>
                <a:cubicBezTo>
                  <a:pt x="10978" y="10317"/>
                  <a:pt x="11005" y="10393"/>
                  <a:pt x="11013" y="10468"/>
                </a:cubicBezTo>
                <a:cubicBezTo>
                  <a:pt x="11026" y="10580"/>
                  <a:pt x="11044" y="10754"/>
                  <a:pt x="11038" y="10864"/>
                </a:cubicBezTo>
                <a:cubicBezTo>
                  <a:pt x="11032" y="10979"/>
                  <a:pt x="11014" y="11117"/>
                  <a:pt x="11038" y="11237"/>
                </a:cubicBezTo>
                <a:cubicBezTo>
                  <a:pt x="11044" y="11268"/>
                  <a:pt x="11072" y="11422"/>
                  <a:pt x="11088" y="11435"/>
                </a:cubicBezTo>
                <a:cubicBezTo>
                  <a:pt x="11116" y="11435"/>
                  <a:pt x="11121" y="11432"/>
                  <a:pt x="11088" y="11410"/>
                </a:cubicBezTo>
              </a:path>
              <a:path w="7343" h="1613">
                <a:moveTo>
                  <a:pt x="10666" y="10889"/>
                </a:moveTo>
                <a:cubicBezTo>
                  <a:pt x="10723" y="10903"/>
                  <a:pt x="10750" y="10923"/>
                  <a:pt x="10815" y="10939"/>
                </a:cubicBezTo>
                <a:cubicBezTo>
                  <a:pt x="10902" y="10960"/>
                  <a:pt x="10996" y="10981"/>
                  <a:pt x="11088" y="10964"/>
                </a:cubicBezTo>
                <a:cubicBezTo>
                  <a:pt x="11167" y="10949"/>
                  <a:pt x="11230" y="10939"/>
                  <a:pt x="11311" y="10939"/>
                </a:cubicBezTo>
                <a:cubicBezTo>
                  <a:pt x="11381" y="10939"/>
                  <a:pt x="11435" y="10914"/>
                  <a:pt x="11509" y="10914"/>
                </a:cubicBezTo>
                <a:cubicBezTo>
                  <a:pt x="11526" y="10914"/>
                  <a:pt x="11542" y="10914"/>
                  <a:pt x="11559" y="10914"/>
                </a:cubicBezTo>
              </a:path>
              <a:path w="7343" h="1613">
                <a:moveTo>
                  <a:pt x="11956" y="10716"/>
                </a:moveTo>
                <a:cubicBezTo>
                  <a:pt x="11950" y="10692"/>
                  <a:pt x="11923" y="10622"/>
                  <a:pt x="11881" y="10641"/>
                </a:cubicBezTo>
                <a:cubicBezTo>
                  <a:pt x="11822" y="10668"/>
                  <a:pt x="11747" y="10696"/>
                  <a:pt x="11708" y="10765"/>
                </a:cubicBezTo>
                <a:cubicBezTo>
                  <a:pt x="11633" y="10898"/>
                  <a:pt x="11592" y="11038"/>
                  <a:pt x="11584" y="11187"/>
                </a:cubicBezTo>
                <a:cubicBezTo>
                  <a:pt x="11579" y="11282"/>
                  <a:pt x="11586" y="11353"/>
                  <a:pt x="11683" y="11361"/>
                </a:cubicBezTo>
                <a:cubicBezTo>
                  <a:pt x="11740" y="11366"/>
                  <a:pt x="11772" y="11335"/>
                  <a:pt x="11807" y="11286"/>
                </a:cubicBezTo>
                <a:cubicBezTo>
                  <a:pt x="11864" y="11206"/>
                  <a:pt x="11916" y="11101"/>
                  <a:pt x="11956" y="11013"/>
                </a:cubicBezTo>
                <a:cubicBezTo>
                  <a:pt x="11993" y="10930"/>
                  <a:pt x="12053" y="10847"/>
                  <a:pt x="12080" y="10765"/>
                </a:cubicBezTo>
                <a:cubicBezTo>
                  <a:pt x="12080" y="10850"/>
                  <a:pt x="12081" y="10907"/>
                  <a:pt x="12105" y="10988"/>
                </a:cubicBezTo>
                <a:cubicBezTo>
                  <a:pt x="12133" y="11081"/>
                  <a:pt x="12162" y="11174"/>
                  <a:pt x="12204" y="11261"/>
                </a:cubicBezTo>
                <a:cubicBezTo>
                  <a:pt x="12232" y="11320"/>
                  <a:pt x="12257" y="11364"/>
                  <a:pt x="12303" y="11410"/>
                </a:cubicBezTo>
              </a:path>
              <a:path w="7343" h="1613">
                <a:moveTo>
                  <a:pt x="12502" y="10691"/>
                </a:moveTo>
                <a:cubicBezTo>
                  <a:pt x="12533" y="10775"/>
                  <a:pt x="12548" y="10875"/>
                  <a:pt x="12551" y="10964"/>
                </a:cubicBezTo>
                <a:cubicBezTo>
                  <a:pt x="12555" y="11060"/>
                  <a:pt x="12587" y="11146"/>
                  <a:pt x="12601" y="11237"/>
                </a:cubicBezTo>
                <a:cubicBezTo>
                  <a:pt x="12607" y="11272"/>
                  <a:pt x="12613" y="11362"/>
                  <a:pt x="12601" y="11286"/>
                </a:cubicBezTo>
                <a:cubicBezTo>
                  <a:pt x="12585" y="11185"/>
                  <a:pt x="12586" y="11065"/>
                  <a:pt x="12576" y="10964"/>
                </a:cubicBezTo>
                <a:cubicBezTo>
                  <a:pt x="12567" y="10870"/>
                  <a:pt x="12540" y="10635"/>
                  <a:pt x="12601" y="10567"/>
                </a:cubicBezTo>
                <a:cubicBezTo>
                  <a:pt x="12630" y="10535"/>
                  <a:pt x="12684" y="10495"/>
                  <a:pt x="12725" y="10492"/>
                </a:cubicBezTo>
                <a:cubicBezTo>
                  <a:pt x="12802" y="10486"/>
                  <a:pt x="12831" y="10540"/>
                  <a:pt x="12874" y="10592"/>
                </a:cubicBezTo>
                <a:cubicBezTo>
                  <a:pt x="12935" y="10665"/>
                  <a:pt x="12959" y="10753"/>
                  <a:pt x="12998" y="10840"/>
                </a:cubicBezTo>
                <a:cubicBezTo>
                  <a:pt x="13031" y="10915"/>
                  <a:pt x="13065" y="10988"/>
                  <a:pt x="13097" y="11063"/>
                </a:cubicBezTo>
                <a:cubicBezTo>
                  <a:pt x="13125" y="11128"/>
                  <a:pt x="13121" y="11183"/>
                  <a:pt x="13171" y="11237"/>
                </a:cubicBezTo>
                <a:cubicBezTo>
                  <a:pt x="13198" y="11266"/>
                  <a:pt x="13197" y="11279"/>
                  <a:pt x="13221" y="11311"/>
                </a:cubicBezTo>
              </a:path>
              <a:path w="7343" h="1613">
                <a:moveTo>
                  <a:pt x="13345" y="9897"/>
                </a:moveTo>
                <a:cubicBezTo>
                  <a:pt x="13345" y="9872"/>
                  <a:pt x="13345" y="9864"/>
                  <a:pt x="13345" y="9847"/>
                </a:cubicBezTo>
                <a:cubicBezTo>
                  <a:pt x="13408" y="9847"/>
                  <a:pt x="13454" y="9826"/>
                  <a:pt x="13519" y="9823"/>
                </a:cubicBezTo>
                <a:cubicBezTo>
                  <a:pt x="13584" y="9820"/>
                  <a:pt x="13592" y="9855"/>
                  <a:pt x="13643" y="9872"/>
                </a:cubicBezTo>
                <a:cubicBezTo>
                  <a:pt x="13651" y="9872"/>
                  <a:pt x="13659" y="9872"/>
                  <a:pt x="13667" y="9872"/>
                </a:cubicBezTo>
                <a:cubicBezTo>
                  <a:pt x="13657" y="9902"/>
                  <a:pt x="13625" y="9915"/>
                  <a:pt x="13593" y="9947"/>
                </a:cubicBezTo>
                <a:cubicBezTo>
                  <a:pt x="13558" y="9981"/>
                  <a:pt x="13530" y="10001"/>
                  <a:pt x="13519" y="10046"/>
                </a:cubicBezTo>
                <a:cubicBezTo>
                  <a:pt x="13563" y="10080"/>
                  <a:pt x="13596" y="10073"/>
                  <a:pt x="13643" y="10096"/>
                </a:cubicBezTo>
                <a:cubicBezTo>
                  <a:pt x="13700" y="10124"/>
                  <a:pt x="13767" y="10184"/>
                  <a:pt x="13791" y="10244"/>
                </a:cubicBezTo>
                <a:cubicBezTo>
                  <a:pt x="13805" y="10279"/>
                  <a:pt x="13788" y="10320"/>
                  <a:pt x="13767" y="10344"/>
                </a:cubicBezTo>
                <a:cubicBezTo>
                  <a:pt x="13736" y="10378"/>
                  <a:pt x="13663" y="10410"/>
                  <a:pt x="13618" y="10418"/>
                </a:cubicBezTo>
                <a:cubicBezTo>
                  <a:pt x="13594" y="10422"/>
                  <a:pt x="13491" y="10465"/>
                  <a:pt x="13469" y="10443"/>
                </a:cubicBezTo>
                <a:cubicBezTo>
                  <a:pt x="13469" y="10435"/>
                  <a:pt x="13469" y="10426"/>
                  <a:pt x="13469" y="10418"/>
                </a:cubicBezTo>
              </a:path>
              <a:path w="7343" h="1613">
                <a:moveTo>
                  <a:pt x="14436" y="10170"/>
                </a:moveTo>
                <a:cubicBezTo>
                  <a:pt x="14436" y="10257"/>
                  <a:pt x="14439" y="10336"/>
                  <a:pt x="14412" y="10418"/>
                </a:cubicBezTo>
                <a:cubicBezTo>
                  <a:pt x="14381" y="10512"/>
                  <a:pt x="14372" y="10597"/>
                  <a:pt x="14337" y="10691"/>
                </a:cubicBezTo>
                <a:cubicBezTo>
                  <a:pt x="14304" y="10777"/>
                  <a:pt x="14275" y="10870"/>
                  <a:pt x="14213" y="10939"/>
                </a:cubicBezTo>
                <a:cubicBezTo>
                  <a:pt x="14175" y="10981"/>
                  <a:pt x="14183" y="11018"/>
                  <a:pt x="14139" y="11063"/>
                </a:cubicBezTo>
              </a:path>
              <a:path w="7343" h="1613">
                <a:moveTo>
                  <a:pt x="14015" y="10344"/>
                </a:moveTo>
                <a:cubicBezTo>
                  <a:pt x="14067" y="10415"/>
                  <a:pt x="14138" y="10471"/>
                  <a:pt x="14188" y="10542"/>
                </a:cubicBezTo>
                <a:cubicBezTo>
                  <a:pt x="14233" y="10607"/>
                  <a:pt x="14280" y="10659"/>
                  <a:pt x="14337" y="10716"/>
                </a:cubicBezTo>
                <a:cubicBezTo>
                  <a:pt x="14391" y="10770"/>
                  <a:pt x="14423" y="10828"/>
                  <a:pt x="14486" y="10864"/>
                </a:cubicBezTo>
                <a:cubicBezTo>
                  <a:pt x="14551" y="10902"/>
                  <a:pt x="14598" y="10965"/>
                  <a:pt x="14660" y="11013"/>
                </a:cubicBezTo>
                <a:cubicBezTo>
                  <a:pt x="14693" y="11039"/>
                  <a:pt x="14726" y="11062"/>
                  <a:pt x="14759" y="11088"/>
                </a:cubicBezTo>
              </a:path>
              <a:path w="7343" h="1613">
                <a:moveTo>
                  <a:pt x="15205" y="9847"/>
                </a:moveTo>
                <a:cubicBezTo>
                  <a:pt x="15232" y="9856"/>
                  <a:pt x="15280" y="9935"/>
                  <a:pt x="15304" y="9971"/>
                </a:cubicBezTo>
                <a:cubicBezTo>
                  <a:pt x="15375" y="10079"/>
                  <a:pt x="15398" y="10244"/>
                  <a:pt x="15429" y="10368"/>
                </a:cubicBezTo>
                <a:cubicBezTo>
                  <a:pt x="15460" y="10492"/>
                  <a:pt x="15489" y="10644"/>
                  <a:pt x="15528" y="10765"/>
                </a:cubicBezTo>
                <a:cubicBezTo>
                  <a:pt x="15545" y="10819"/>
                  <a:pt x="15553" y="10834"/>
                  <a:pt x="15553" y="10889"/>
                </a:cubicBezTo>
              </a:path>
              <a:path w="7343" h="1613">
                <a:moveTo>
                  <a:pt x="14982" y="10418"/>
                </a:moveTo>
                <a:cubicBezTo>
                  <a:pt x="15087" y="10418"/>
                  <a:pt x="15177" y="10432"/>
                  <a:pt x="15280" y="10443"/>
                </a:cubicBezTo>
                <a:cubicBezTo>
                  <a:pt x="15383" y="10454"/>
                  <a:pt x="15482" y="10432"/>
                  <a:pt x="15577" y="10418"/>
                </a:cubicBezTo>
                <a:cubicBezTo>
                  <a:pt x="15664" y="10405"/>
                  <a:pt x="15762" y="10418"/>
                  <a:pt x="15850" y="10418"/>
                </a:cubicBezTo>
              </a:path>
              <a:path w="7343" h="1613">
                <a:moveTo>
                  <a:pt x="16222" y="10393"/>
                </a:moveTo>
                <a:cubicBezTo>
                  <a:pt x="16247" y="10362"/>
                  <a:pt x="16289" y="10305"/>
                  <a:pt x="16297" y="10269"/>
                </a:cubicBezTo>
                <a:cubicBezTo>
                  <a:pt x="16307" y="10225"/>
                  <a:pt x="16271" y="10134"/>
                  <a:pt x="16222" y="10120"/>
                </a:cubicBezTo>
                <a:cubicBezTo>
                  <a:pt x="16167" y="10104"/>
                  <a:pt x="16089" y="10163"/>
                  <a:pt x="16049" y="10195"/>
                </a:cubicBezTo>
                <a:cubicBezTo>
                  <a:pt x="15935" y="10288"/>
                  <a:pt x="15931" y="10408"/>
                  <a:pt x="15900" y="10542"/>
                </a:cubicBezTo>
                <a:cubicBezTo>
                  <a:pt x="15875" y="10648"/>
                  <a:pt x="15827" y="10799"/>
                  <a:pt x="16024" y="10765"/>
                </a:cubicBezTo>
                <a:cubicBezTo>
                  <a:pt x="16081" y="10755"/>
                  <a:pt x="16161" y="10669"/>
                  <a:pt x="16173" y="10616"/>
                </a:cubicBezTo>
                <a:cubicBezTo>
                  <a:pt x="16189" y="10542"/>
                  <a:pt x="16191" y="10438"/>
                  <a:pt x="16222" y="10368"/>
                </a:cubicBezTo>
                <a:cubicBezTo>
                  <a:pt x="16230" y="10360"/>
                  <a:pt x="16239" y="10352"/>
                  <a:pt x="16247" y="10344"/>
                </a:cubicBezTo>
                <a:cubicBezTo>
                  <a:pt x="16262" y="10418"/>
                  <a:pt x="16275" y="10492"/>
                  <a:pt x="16297" y="10567"/>
                </a:cubicBezTo>
                <a:cubicBezTo>
                  <a:pt x="16321" y="10649"/>
                  <a:pt x="16368" y="10751"/>
                  <a:pt x="16421" y="10815"/>
                </a:cubicBezTo>
                <a:cubicBezTo>
                  <a:pt x="16446" y="10846"/>
                  <a:pt x="16460" y="10856"/>
                  <a:pt x="16495" y="10864"/>
                </a:cubicBezTo>
              </a:path>
              <a:path w="7343" h="1613">
                <a:moveTo>
                  <a:pt x="16570" y="10220"/>
                </a:moveTo>
                <a:cubicBezTo>
                  <a:pt x="16605" y="10268"/>
                  <a:pt x="16600" y="10331"/>
                  <a:pt x="16619" y="10393"/>
                </a:cubicBezTo>
                <a:cubicBezTo>
                  <a:pt x="16657" y="10516"/>
                  <a:pt x="16682" y="10642"/>
                  <a:pt x="16718" y="10765"/>
                </a:cubicBezTo>
                <a:cubicBezTo>
                  <a:pt x="16734" y="10822"/>
                  <a:pt x="16756" y="10843"/>
                  <a:pt x="16768" y="10889"/>
                </a:cubicBezTo>
                <a:cubicBezTo>
                  <a:pt x="16768" y="10809"/>
                  <a:pt x="16721" y="10741"/>
                  <a:pt x="16694" y="10666"/>
                </a:cubicBezTo>
                <a:cubicBezTo>
                  <a:pt x="16664" y="10582"/>
                  <a:pt x="16649" y="10481"/>
                  <a:pt x="16644" y="10393"/>
                </a:cubicBezTo>
                <a:cubicBezTo>
                  <a:pt x="16639" y="10308"/>
                  <a:pt x="16624" y="10300"/>
                  <a:pt x="16644" y="10220"/>
                </a:cubicBezTo>
                <a:cubicBezTo>
                  <a:pt x="16655" y="10175"/>
                  <a:pt x="16707" y="10103"/>
                  <a:pt x="16768" y="10120"/>
                </a:cubicBezTo>
                <a:cubicBezTo>
                  <a:pt x="16804" y="10130"/>
                  <a:pt x="16899" y="10211"/>
                  <a:pt x="16917" y="10244"/>
                </a:cubicBezTo>
                <a:cubicBezTo>
                  <a:pt x="16975" y="10350"/>
                  <a:pt x="17015" y="10481"/>
                  <a:pt x="17066" y="10592"/>
                </a:cubicBezTo>
                <a:cubicBezTo>
                  <a:pt x="17090" y="10643"/>
                  <a:pt x="17114" y="10721"/>
                  <a:pt x="17140" y="10765"/>
                </a:cubicBezTo>
                <a:cubicBezTo>
                  <a:pt x="17148" y="10773"/>
                  <a:pt x="17157" y="10782"/>
                  <a:pt x="17165" y="10790"/>
                </a:cubicBezTo>
              </a:path>
              <a:path w="7343" h="1613">
                <a:moveTo>
                  <a:pt x="17289" y="9847"/>
                </a:moveTo>
                <a:cubicBezTo>
                  <a:pt x="17344" y="9847"/>
                  <a:pt x="17383" y="9826"/>
                  <a:pt x="17438" y="9823"/>
                </a:cubicBezTo>
                <a:cubicBezTo>
                  <a:pt x="17513" y="9819"/>
                  <a:pt x="17568" y="9836"/>
                  <a:pt x="17636" y="9847"/>
                </a:cubicBezTo>
                <a:cubicBezTo>
                  <a:pt x="17685" y="9855"/>
                  <a:pt x="17721" y="9846"/>
                  <a:pt x="17760" y="9872"/>
                </a:cubicBezTo>
                <a:cubicBezTo>
                  <a:pt x="17800" y="9899"/>
                  <a:pt x="17785" y="9954"/>
                  <a:pt x="17785" y="9996"/>
                </a:cubicBezTo>
                <a:cubicBezTo>
                  <a:pt x="17785" y="10060"/>
                  <a:pt x="17741" y="10081"/>
                  <a:pt x="17735" y="10145"/>
                </a:cubicBezTo>
                <a:cubicBezTo>
                  <a:pt x="17729" y="10209"/>
                  <a:pt x="17793" y="10195"/>
                  <a:pt x="17835" y="10195"/>
                </a:cubicBezTo>
                <a:cubicBezTo>
                  <a:pt x="17893" y="10195"/>
                  <a:pt x="17950" y="10195"/>
                  <a:pt x="1800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65120" y="4589640"/>
            <a:ext cx="1839960" cy="1152360"/>
          </a:xfrm>
          <a:custGeom>
            <a:avLst/>
            <a:gdLst/>
            <a:ahLst/>
            <a:rect l="l" t="t" r="r" b="b"/>
            <a:pathLst>
              <a:path w="5111" h="3200">
                <a:moveTo>
                  <a:pt x="1290" y="14213"/>
                </a:moveTo>
                <a:cubicBezTo>
                  <a:pt x="1354" y="14170"/>
                  <a:pt x="1414" y="14127"/>
                  <a:pt x="1463" y="14064"/>
                </a:cubicBezTo>
                <a:cubicBezTo>
                  <a:pt x="1549" y="13954"/>
                  <a:pt x="1608" y="13831"/>
                  <a:pt x="1687" y="13717"/>
                </a:cubicBezTo>
                <a:cubicBezTo>
                  <a:pt x="1774" y="13591"/>
                  <a:pt x="1848" y="13461"/>
                  <a:pt x="1910" y="13320"/>
                </a:cubicBezTo>
                <a:cubicBezTo>
                  <a:pt x="1976" y="13170"/>
                  <a:pt x="2035" y="13021"/>
                  <a:pt x="2108" y="12874"/>
                </a:cubicBezTo>
                <a:cubicBezTo>
                  <a:pt x="2132" y="12826"/>
                  <a:pt x="2140" y="12811"/>
                  <a:pt x="2133" y="12774"/>
                </a:cubicBezTo>
                <a:cubicBezTo>
                  <a:pt x="2095" y="12812"/>
                  <a:pt x="2102" y="12823"/>
                  <a:pt x="2084" y="12874"/>
                </a:cubicBezTo>
                <a:cubicBezTo>
                  <a:pt x="2029" y="13033"/>
                  <a:pt x="2009" y="13205"/>
                  <a:pt x="1984" y="13370"/>
                </a:cubicBezTo>
                <a:cubicBezTo>
                  <a:pt x="1949" y="13600"/>
                  <a:pt x="1907" y="13835"/>
                  <a:pt x="1860" y="14064"/>
                </a:cubicBezTo>
                <a:cubicBezTo>
                  <a:pt x="1803" y="14345"/>
                  <a:pt x="1758" y="14613"/>
                  <a:pt x="1662" y="14883"/>
                </a:cubicBezTo>
                <a:cubicBezTo>
                  <a:pt x="1617" y="15011"/>
                  <a:pt x="1543" y="15182"/>
                  <a:pt x="1439" y="15280"/>
                </a:cubicBezTo>
                <a:cubicBezTo>
                  <a:pt x="1422" y="15288"/>
                  <a:pt x="1406" y="15296"/>
                  <a:pt x="1389" y="15304"/>
                </a:cubicBezTo>
                <a:cubicBezTo>
                  <a:pt x="1334" y="15242"/>
                  <a:pt x="1302" y="15161"/>
                  <a:pt x="1290" y="15056"/>
                </a:cubicBezTo>
                <a:cubicBezTo>
                  <a:pt x="1272" y="14902"/>
                  <a:pt x="1334" y="14805"/>
                  <a:pt x="1414" y="14684"/>
                </a:cubicBezTo>
                <a:cubicBezTo>
                  <a:pt x="1487" y="14574"/>
                  <a:pt x="1507" y="14556"/>
                  <a:pt x="1612" y="14511"/>
                </a:cubicBezTo>
              </a:path>
              <a:path w="5111" h="3200">
                <a:moveTo>
                  <a:pt x="1662" y="14610"/>
                </a:moveTo>
                <a:cubicBezTo>
                  <a:pt x="1717" y="14764"/>
                  <a:pt x="1748" y="14832"/>
                  <a:pt x="1811" y="14957"/>
                </a:cubicBezTo>
                <a:cubicBezTo>
                  <a:pt x="1894" y="14897"/>
                  <a:pt x="1924" y="14888"/>
                  <a:pt x="1984" y="14784"/>
                </a:cubicBezTo>
                <a:cubicBezTo>
                  <a:pt x="2026" y="14712"/>
                  <a:pt x="2079" y="14651"/>
                  <a:pt x="2133" y="14585"/>
                </a:cubicBezTo>
                <a:cubicBezTo>
                  <a:pt x="2124" y="14624"/>
                  <a:pt x="2123" y="14623"/>
                  <a:pt x="2108" y="14660"/>
                </a:cubicBezTo>
                <a:cubicBezTo>
                  <a:pt x="2098" y="14684"/>
                  <a:pt x="2094" y="14710"/>
                  <a:pt x="2084" y="14734"/>
                </a:cubicBezTo>
                <a:cubicBezTo>
                  <a:pt x="2164" y="14734"/>
                  <a:pt x="2125" y="14757"/>
                  <a:pt x="2208" y="14709"/>
                </a:cubicBezTo>
                <a:cubicBezTo>
                  <a:pt x="2257" y="14681"/>
                  <a:pt x="2307" y="14633"/>
                  <a:pt x="2356" y="14610"/>
                </a:cubicBezTo>
                <a:cubicBezTo>
                  <a:pt x="2364" y="14610"/>
                  <a:pt x="2373" y="14610"/>
                  <a:pt x="2381" y="14610"/>
                </a:cubicBezTo>
                <a:cubicBezTo>
                  <a:pt x="2375" y="14640"/>
                  <a:pt x="2338" y="14665"/>
                  <a:pt x="2356" y="14709"/>
                </a:cubicBezTo>
                <a:cubicBezTo>
                  <a:pt x="2377" y="14761"/>
                  <a:pt x="2389" y="14725"/>
                  <a:pt x="2431" y="14709"/>
                </a:cubicBezTo>
                <a:cubicBezTo>
                  <a:pt x="2498" y="14684"/>
                  <a:pt x="2553" y="14608"/>
                  <a:pt x="2604" y="14560"/>
                </a:cubicBezTo>
                <a:cubicBezTo>
                  <a:pt x="2632" y="14584"/>
                  <a:pt x="2618" y="14627"/>
                  <a:pt x="2654" y="14635"/>
                </a:cubicBezTo>
                <a:cubicBezTo>
                  <a:pt x="2704" y="14645"/>
                  <a:pt x="2737" y="14608"/>
                  <a:pt x="2778" y="14585"/>
                </a:cubicBezTo>
                <a:cubicBezTo>
                  <a:pt x="2842" y="14548"/>
                  <a:pt x="2876" y="14501"/>
                  <a:pt x="2927" y="14461"/>
                </a:cubicBezTo>
                <a:cubicBezTo>
                  <a:pt x="2948" y="14444"/>
                  <a:pt x="3040" y="14403"/>
                  <a:pt x="3051" y="14387"/>
                </a:cubicBezTo>
                <a:cubicBezTo>
                  <a:pt x="3068" y="14363"/>
                  <a:pt x="3071" y="14270"/>
                  <a:pt x="3051" y="14337"/>
                </a:cubicBezTo>
                <a:cubicBezTo>
                  <a:pt x="3032" y="14400"/>
                  <a:pt x="3000" y="14454"/>
                  <a:pt x="2977" y="14511"/>
                </a:cubicBezTo>
                <a:cubicBezTo>
                  <a:pt x="2953" y="14571"/>
                  <a:pt x="2961" y="14599"/>
                  <a:pt x="2952" y="14660"/>
                </a:cubicBezTo>
                <a:cubicBezTo>
                  <a:pt x="2940" y="14744"/>
                  <a:pt x="2926" y="14825"/>
                  <a:pt x="2902" y="14908"/>
                </a:cubicBezTo>
                <a:cubicBezTo>
                  <a:pt x="2866" y="15033"/>
                  <a:pt x="2784" y="15161"/>
                  <a:pt x="2729" y="15280"/>
                </a:cubicBezTo>
                <a:cubicBezTo>
                  <a:pt x="2648" y="15455"/>
                  <a:pt x="2541" y="15607"/>
                  <a:pt x="2456" y="15776"/>
                </a:cubicBezTo>
                <a:cubicBezTo>
                  <a:pt x="2423" y="15843"/>
                  <a:pt x="2382" y="15910"/>
                  <a:pt x="2332" y="15949"/>
                </a:cubicBezTo>
                <a:cubicBezTo>
                  <a:pt x="2324" y="15949"/>
                  <a:pt x="2315" y="15949"/>
                  <a:pt x="2307" y="15949"/>
                </a:cubicBezTo>
                <a:cubicBezTo>
                  <a:pt x="2330" y="15882"/>
                  <a:pt x="2383" y="15798"/>
                  <a:pt x="2406" y="15726"/>
                </a:cubicBezTo>
                <a:cubicBezTo>
                  <a:pt x="2469" y="15533"/>
                  <a:pt x="2539" y="15365"/>
                  <a:pt x="2629" y="15180"/>
                </a:cubicBezTo>
                <a:cubicBezTo>
                  <a:pt x="2745" y="14940"/>
                  <a:pt x="2864" y="14702"/>
                  <a:pt x="2977" y="14461"/>
                </a:cubicBezTo>
                <a:cubicBezTo>
                  <a:pt x="3059" y="14287"/>
                  <a:pt x="3107" y="14118"/>
                  <a:pt x="3175" y="13940"/>
                </a:cubicBezTo>
                <a:cubicBezTo>
                  <a:pt x="3250" y="13745"/>
                  <a:pt x="3295" y="13528"/>
                  <a:pt x="3398" y="13345"/>
                </a:cubicBezTo>
                <a:cubicBezTo>
                  <a:pt x="3446" y="13259"/>
                  <a:pt x="3485" y="13196"/>
                  <a:pt x="3547" y="13122"/>
                </a:cubicBezTo>
                <a:cubicBezTo>
                  <a:pt x="3557" y="13176"/>
                  <a:pt x="3556" y="13167"/>
                  <a:pt x="3547" y="13221"/>
                </a:cubicBezTo>
                <a:cubicBezTo>
                  <a:pt x="3528" y="13337"/>
                  <a:pt x="3496" y="13450"/>
                  <a:pt x="3473" y="13568"/>
                </a:cubicBezTo>
                <a:cubicBezTo>
                  <a:pt x="3437" y="13755"/>
                  <a:pt x="3375" y="13930"/>
                  <a:pt x="3324" y="14114"/>
                </a:cubicBezTo>
                <a:cubicBezTo>
                  <a:pt x="3285" y="14253"/>
                  <a:pt x="3277" y="14397"/>
                  <a:pt x="3249" y="14536"/>
                </a:cubicBezTo>
                <a:cubicBezTo>
                  <a:pt x="3241" y="14561"/>
                  <a:pt x="3233" y="14585"/>
                  <a:pt x="3225" y="14610"/>
                </a:cubicBezTo>
                <a:cubicBezTo>
                  <a:pt x="3196" y="14537"/>
                  <a:pt x="3200" y="14560"/>
                  <a:pt x="3225" y="14486"/>
                </a:cubicBezTo>
                <a:cubicBezTo>
                  <a:pt x="3264" y="14371"/>
                  <a:pt x="3327" y="14261"/>
                  <a:pt x="3398" y="14163"/>
                </a:cubicBezTo>
                <a:cubicBezTo>
                  <a:pt x="3446" y="14096"/>
                  <a:pt x="3476" y="14057"/>
                  <a:pt x="3547" y="14015"/>
                </a:cubicBezTo>
                <a:cubicBezTo>
                  <a:pt x="3555" y="14015"/>
                  <a:pt x="3564" y="14015"/>
                  <a:pt x="3572" y="14015"/>
                </a:cubicBezTo>
                <a:cubicBezTo>
                  <a:pt x="3587" y="14105"/>
                  <a:pt x="3595" y="14169"/>
                  <a:pt x="3597" y="14263"/>
                </a:cubicBezTo>
                <a:cubicBezTo>
                  <a:pt x="3599" y="14349"/>
                  <a:pt x="3580" y="14465"/>
                  <a:pt x="3646" y="14536"/>
                </a:cubicBezTo>
                <a:cubicBezTo>
                  <a:pt x="3656" y="14547"/>
                  <a:pt x="3682" y="14583"/>
                  <a:pt x="3721" y="14560"/>
                </a:cubicBezTo>
                <a:cubicBezTo>
                  <a:pt x="3751" y="14531"/>
                  <a:pt x="3762" y="14517"/>
                  <a:pt x="3770" y="14486"/>
                </a:cubicBezTo>
              </a:path>
              <a:path w="5111" h="3200">
                <a:moveTo>
                  <a:pt x="3845" y="14312"/>
                </a:moveTo>
                <a:cubicBezTo>
                  <a:pt x="3910" y="14340"/>
                  <a:pt x="3950" y="14334"/>
                  <a:pt x="4018" y="14312"/>
                </a:cubicBezTo>
                <a:cubicBezTo>
                  <a:pt x="4035" y="14304"/>
                  <a:pt x="4051" y="14296"/>
                  <a:pt x="4068" y="14288"/>
                </a:cubicBezTo>
              </a:path>
              <a:path w="5111" h="3200">
                <a:moveTo>
                  <a:pt x="4738" y="13370"/>
                </a:moveTo>
                <a:cubicBezTo>
                  <a:pt x="4738" y="13308"/>
                  <a:pt x="4748" y="13293"/>
                  <a:pt x="4713" y="13271"/>
                </a:cubicBezTo>
                <a:cubicBezTo>
                  <a:pt x="4650" y="13279"/>
                  <a:pt x="4565" y="13299"/>
                  <a:pt x="4514" y="13345"/>
                </a:cubicBezTo>
                <a:cubicBezTo>
                  <a:pt x="4326" y="13514"/>
                  <a:pt x="4241" y="13712"/>
                  <a:pt x="4142" y="13940"/>
                </a:cubicBezTo>
                <a:cubicBezTo>
                  <a:pt x="4073" y="14098"/>
                  <a:pt x="3993" y="14291"/>
                  <a:pt x="4043" y="14461"/>
                </a:cubicBezTo>
                <a:cubicBezTo>
                  <a:pt x="4068" y="14548"/>
                  <a:pt x="4128" y="14543"/>
                  <a:pt x="4192" y="14511"/>
                </a:cubicBezTo>
                <a:cubicBezTo>
                  <a:pt x="4321" y="14446"/>
                  <a:pt x="4380" y="14235"/>
                  <a:pt x="4440" y="14114"/>
                </a:cubicBezTo>
                <a:cubicBezTo>
                  <a:pt x="4532" y="13928"/>
                  <a:pt x="4571" y="13839"/>
                  <a:pt x="4614" y="13692"/>
                </a:cubicBezTo>
              </a:path>
              <a:path w="5111" h="3200">
                <a:moveTo>
                  <a:pt x="4688" y="13295"/>
                </a:moveTo>
                <a:cubicBezTo>
                  <a:pt x="4663" y="13350"/>
                  <a:pt x="4654" y="13361"/>
                  <a:pt x="4638" y="13419"/>
                </a:cubicBezTo>
                <a:cubicBezTo>
                  <a:pt x="4563" y="13690"/>
                  <a:pt x="4520" y="13983"/>
                  <a:pt x="4514" y="14263"/>
                </a:cubicBezTo>
                <a:cubicBezTo>
                  <a:pt x="4512" y="14353"/>
                  <a:pt x="4502" y="14455"/>
                  <a:pt x="4539" y="14536"/>
                </a:cubicBezTo>
                <a:cubicBezTo>
                  <a:pt x="4547" y="14544"/>
                  <a:pt x="4556" y="14552"/>
                  <a:pt x="4564" y="14560"/>
                </a:cubicBezTo>
                <a:cubicBezTo>
                  <a:pt x="4618" y="14511"/>
                  <a:pt x="4648" y="14494"/>
                  <a:pt x="4688" y="14412"/>
                </a:cubicBezTo>
                <a:cubicBezTo>
                  <a:pt x="4762" y="14259"/>
                  <a:pt x="4813" y="14102"/>
                  <a:pt x="4862" y="13940"/>
                </a:cubicBezTo>
                <a:cubicBezTo>
                  <a:pt x="4881" y="13876"/>
                  <a:pt x="4895" y="13806"/>
                  <a:pt x="4911" y="13742"/>
                </a:cubicBezTo>
                <a:cubicBezTo>
                  <a:pt x="4905" y="13839"/>
                  <a:pt x="4905" y="13945"/>
                  <a:pt x="4887" y="14039"/>
                </a:cubicBezTo>
                <a:cubicBezTo>
                  <a:pt x="4871" y="14119"/>
                  <a:pt x="4858" y="14203"/>
                  <a:pt x="4936" y="14263"/>
                </a:cubicBezTo>
                <a:cubicBezTo>
                  <a:pt x="4984" y="14301"/>
                  <a:pt x="5002" y="14292"/>
                  <a:pt x="5060" y="14263"/>
                </a:cubicBezTo>
                <a:cubicBezTo>
                  <a:pt x="5134" y="14226"/>
                  <a:pt x="5171" y="14080"/>
                  <a:pt x="5209" y="14015"/>
                </a:cubicBezTo>
                <a:cubicBezTo>
                  <a:pt x="5209" y="13970"/>
                  <a:pt x="5206" y="13957"/>
                  <a:pt x="5234" y="13940"/>
                </a:cubicBezTo>
                <a:cubicBezTo>
                  <a:pt x="5212" y="14022"/>
                  <a:pt x="5200" y="14105"/>
                  <a:pt x="5184" y="14188"/>
                </a:cubicBezTo>
                <a:cubicBezTo>
                  <a:pt x="5160" y="14315"/>
                  <a:pt x="5176" y="14434"/>
                  <a:pt x="5159" y="14560"/>
                </a:cubicBezTo>
                <a:cubicBezTo>
                  <a:pt x="5137" y="14723"/>
                  <a:pt x="5121" y="14901"/>
                  <a:pt x="5060" y="15056"/>
                </a:cubicBezTo>
                <a:cubicBezTo>
                  <a:pt x="5014" y="15173"/>
                  <a:pt x="4919" y="15340"/>
                  <a:pt x="4812" y="15404"/>
                </a:cubicBezTo>
                <a:cubicBezTo>
                  <a:pt x="4764" y="15428"/>
                  <a:pt x="4750" y="15436"/>
                  <a:pt x="4713" y="15429"/>
                </a:cubicBezTo>
                <a:cubicBezTo>
                  <a:pt x="4715" y="15394"/>
                  <a:pt x="4699" y="15372"/>
                  <a:pt x="4713" y="15304"/>
                </a:cubicBezTo>
                <a:cubicBezTo>
                  <a:pt x="4749" y="15135"/>
                  <a:pt x="4822" y="15013"/>
                  <a:pt x="4887" y="14858"/>
                </a:cubicBezTo>
                <a:cubicBezTo>
                  <a:pt x="4969" y="14663"/>
                  <a:pt x="5044" y="14479"/>
                  <a:pt x="5135" y="14288"/>
                </a:cubicBezTo>
                <a:cubicBezTo>
                  <a:pt x="5182" y="14188"/>
                  <a:pt x="5239" y="14060"/>
                  <a:pt x="5333" y="13990"/>
                </a:cubicBezTo>
                <a:cubicBezTo>
                  <a:pt x="5373" y="13970"/>
                  <a:pt x="5380" y="13961"/>
                  <a:pt x="5407" y="13965"/>
                </a:cubicBezTo>
                <a:cubicBezTo>
                  <a:pt x="5425" y="14070"/>
                  <a:pt x="5417" y="14131"/>
                  <a:pt x="5407" y="14238"/>
                </a:cubicBezTo>
                <a:cubicBezTo>
                  <a:pt x="5402" y="14288"/>
                  <a:pt x="5431" y="14354"/>
                  <a:pt x="5432" y="14362"/>
                </a:cubicBezTo>
                <a:cubicBezTo>
                  <a:pt x="5491" y="14292"/>
                  <a:pt x="5509" y="14229"/>
                  <a:pt x="5556" y="14139"/>
                </a:cubicBezTo>
                <a:cubicBezTo>
                  <a:pt x="5593" y="14068"/>
                  <a:pt x="5643" y="13992"/>
                  <a:pt x="5705" y="13940"/>
                </a:cubicBezTo>
                <a:cubicBezTo>
                  <a:pt x="5713" y="13940"/>
                  <a:pt x="5722" y="13940"/>
                  <a:pt x="5730" y="13940"/>
                </a:cubicBezTo>
                <a:cubicBezTo>
                  <a:pt x="5730" y="14009"/>
                  <a:pt x="5707" y="14114"/>
                  <a:pt x="5755" y="14163"/>
                </a:cubicBezTo>
                <a:cubicBezTo>
                  <a:pt x="5812" y="14221"/>
                  <a:pt x="5887" y="14177"/>
                  <a:pt x="5953" y="14163"/>
                </a:cubicBezTo>
                <a:cubicBezTo>
                  <a:pt x="6099" y="14133"/>
                  <a:pt x="6134" y="14075"/>
                  <a:pt x="6226" y="13965"/>
                </a:cubicBezTo>
                <a:cubicBezTo>
                  <a:pt x="6234" y="13957"/>
                  <a:pt x="6243" y="13948"/>
                  <a:pt x="6251" y="13940"/>
                </a:cubicBezTo>
                <a:cubicBezTo>
                  <a:pt x="6207" y="14081"/>
                  <a:pt x="6143" y="14214"/>
                  <a:pt x="6127" y="14362"/>
                </a:cubicBezTo>
                <a:cubicBezTo>
                  <a:pt x="6116" y="14468"/>
                  <a:pt x="6129" y="14641"/>
                  <a:pt x="6226" y="14709"/>
                </a:cubicBezTo>
                <a:cubicBezTo>
                  <a:pt x="6316" y="14754"/>
                  <a:pt x="6338" y="14768"/>
                  <a:pt x="6400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500200" y="4295880"/>
            <a:ext cx="3278160" cy="741240"/>
          </a:xfrm>
          <a:custGeom>
            <a:avLst/>
            <a:gdLst/>
            <a:ahLst/>
            <a:rect l="l" t="t" r="r" b="b"/>
            <a:pathLst>
              <a:path w="9105" h="2060">
                <a:moveTo>
                  <a:pt x="7342" y="12874"/>
                </a:moveTo>
                <a:cubicBezTo>
                  <a:pt x="7342" y="13042"/>
                  <a:pt x="7356" y="13204"/>
                  <a:pt x="7367" y="13370"/>
                </a:cubicBezTo>
                <a:cubicBezTo>
                  <a:pt x="7376" y="13497"/>
                  <a:pt x="7369" y="13642"/>
                  <a:pt x="7392" y="13767"/>
                </a:cubicBezTo>
                <a:cubicBezTo>
                  <a:pt x="7408" y="13858"/>
                  <a:pt x="7416" y="13885"/>
                  <a:pt x="7392" y="13940"/>
                </a:cubicBezTo>
                <a:cubicBezTo>
                  <a:pt x="7376" y="13978"/>
                  <a:pt x="7350" y="13923"/>
                  <a:pt x="7317" y="13891"/>
                </a:cubicBezTo>
              </a:path>
              <a:path w="9105" h="2060">
                <a:moveTo>
                  <a:pt x="6945" y="13494"/>
                </a:moveTo>
                <a:cubicBezTo>
                  <a:pt x="7017" y="13508"/>
                  <a:pt x="7066" y="13519"/>
                  <a:pt x="7144" y="13519"/>
                </a:cubicBezTo>
                <a:cubicBezTo>
                  <a:pt x="7252" y="13519"/>
                  <a:pt x="7362" y="13517"/>
                  <a:pt x="7466" y="13494"/>
                </a:cubicBezTo>
                <a:cubicBezTo>
                  <a:pt x="7561" y="13473"/>
                  <a:pt x="7644" y="13453"/>
                  <a:pt x="7739" y="13444"/>
                </a:cubicBezTo>
              </a:path>
              <a:path w="9105" h="2060">
                <a:moveTo>
                  <a:pt x="8136" y="13146"/>
                </a:moveTo>
                <a:cubicBezTo>
                  <a:pt x="8119" y="13130"/>
                  <a:pt x="8103" y="13113"/>
                  <a:pt x="8086" y="13097"/>
                </a:cubicBezTo>
                <a:cubicBezTo>
                  <a:pt x="8020" y="13204"/>
                  <a:pt x="7989" y="13320"/>
                  <a:pt x="7962" y="13444"/>
                </a:cubicBezTo>
                <a:cubicBezTo>
                  <a:pt x="7928" y="13602"/>
                  <a:pt x="7948" y="13693"/>
                  <a:pt x="7987" y="13841"/>
                </a:cubicBezTo>
                <a:cubicBezTo>
                  <a:pt x="7987" y="13849"/>
                  <a:pt x="7987" y="13858"/>
                  <a:pt x="7987" y="13866"/>
                </a:cubicBezTo>
                <a:cubicBezTo>
                  <a:pt x="8045" y="13852"/>
                  <a:pt x="8064" y="13799"/>
                  <a:pt x="8086" y="13742"/>
                </a:cubicBezTo>
                <a:cubicBezTo>
                  <a:pt x="8128" y="13635"/>
                  <a:pt x="8137" y="13526"/>
                  <a:pt x="8161" y="13419"/>
                </a:cubicBezTo>
                <a:cubicBezTo>
                  <a:pt x="8174" y="13362"/>
                  <a:pt x="8181" y="13335"/>
                  <a:pt x="8210" y="13295"/>
                </a:cubicBezTo>
                <a:cubicBezTo>
                  <a:pt x="8259" y="13311"/>
                  <a:pt x="8223" y="13341"/>
                  <a:pt x="8235" y="13395"/>
                </a:cubicBezTo>
                <a:cubicBezTo>
                  <a:pt x="8257" y="13492"/>
                  <a:pt x="8295" y="13594"/>
                  <a:pt x="8310" y="13692"/>
                </a:cubicBezTo>
                <a:cubicBezTo>
                  <a:pt x="8321" y="13767"/>
                  <a:pt x="8329" y="13871"/>
                  <a:pt x="8359" y="13940"/>
                </a:cubicBezTo>
                <a:cubicBezTo>
                  <a:pt x="8376" y="13979"/>
                  <a:pt x="8393" y="14012"/>
                  <a:pt x="8409" y="13965"/>
                </a:cubicBezTo>
              </a:path>
              <a:path w="9105" h="2060">
                <a:moveTo>
                  <a:pt x="8582" y="13320"/>
                </a:moveTo>
                <a:cubicBezTo>
                  <a:pt x="8621" y="13427"/>
                  <a:pt x="8648" y="13533"/>
                  <a:pt x="8682" y="13643"/>
                </a:cubicBezTo>
                <a:cubicBezTo>
                  <a:pt x="8708" y="13728"/>
                  <a:pt x="8731" y="13777"/>
                  <a:pt x="8731" y="13866"/>
                </a:cubicBezTo>
                <a:cubicBezTo>
                  <a:pt x="8731" y="13874"/>
                  <a:pt x="8731" y="13883"/>
                  <a:pt x="8731" y="13891"/>
                </a:cubicBezTo>
                <a:cubicBezTo>
                  <a:pt x="8699" y="13870"/>
                  <a:pt x="8665" y="13749"/>
                  <a:pt x="8657" y="13692"/>
                </a:cubicBezTo>
                <a:cubicBezTo>
                  <a:pt x="8643" y="13593"/>
                  <a:pt x="8613" y="13472"/>
                  <a:pt x="8632" y="13370"/>
                </a:cubicBezTo>
                <a:cubicBezTo>
                  <a:pt x="8643" y="13313"/>
                  <a:pt x="8659" y="13219"/>
                  <a:pt x="8682" y="13171"/>
                </a:cubicBezTo>
                <a:cubicBezTo>
                  <a:pt x="8709" y="13116"/>
                  <a:pt x="8755" y="13122"/>
                  <a:pt x="8806" y="13122"/>
                </a:cubicBezTo>
                <a:cubicBezTo>
                  <a:pt x="8854" y="13122"/>
                  <a:pt x="8926" y="13184"/>
                  <a:pt x="8954" y="13221"/>
                </a:cubicBezTo>
                <a:cubicBezTo>
                  <a:pt x="9012" y="13297"/>
                  <a:pt x="9032" y="13385"/>
                  <a:pt x="9054" y="13469"/>
                </a:cubicBezTo>
                <a:cubicBezTo>
                  <a:pt x="9078" y="13562"/>
                  <a:pt x="9109" y="13652"/>
                  <a:pt x="9128" y="13742"/>
                </a:cubicBezTo>
                <a:cubicBezTo>
                  <a:pt x="9138" y="13786"/>
                  <a:pt x="9128" y="13851"/>
                  <a:pt x="9128" y="13767"/>
                </a:cubicBezTo>
              </a:path>
              <a:path w="9105" h="2060">
                <a:moveTo>
                  <a:pt x="9351" y="12576"/>
                </a:moveTo>
                <a:cubicBezTo>
                  <a:pt x="9316" y="12588"/>
                  <a:pt x="9304" y="12603"/>
                  <a:pt x="9277" y="12650"/>
                </a:cubicBezTo>
                <a:cubicBezTo>
                  <a:pt x="9238" y="12719"/>
                  <a:pt x="9242" y="12712"/>
                  <a:pt x="9252" y="12750"/>
                </a:cubicBezTo>
                <a:cubicBezTo>
                  <a:pt x="9265" y="12800"/>
                  <a:pt x="9302" y="12760"/>
                  <a:pt x="9351" y="12774"/>
                </a:cubicBezTo>
                <a:cubicBezTo>
                  <a:pt x="9423" y="12795"/>
                  <a:pt x="9509" y="12806"/>
                  <a:pt x="9575" y="12849"/>
                </a:cubicBezTo>
                <a:cubicBezTo>
                  <a:pt x="9609" y="12872"/>
                  <a:pt x="9609" y="12888"/>
                  <a:pt x="9649" y="12898"/>
                </a:cubicBezTo>
                <a:cubicBezTo>
                  <a:pt x="9628" y="12983"/>
                  <a:pt x="9627" y="12967"/>
                  <a:pt x="9525" y="12973"/>
                </a:cubicBezTo>
                <a:cubicBezTo>
                  <a:pt x="9484" y="12975"/>
                  <a:pt x="9442" y="12973"/>
                  <a:pt x="9401" y="12973"/>
                </a:cubicBezTo>
              </a:path>
              <a:path w="9105" h="2060">
                <a:moveTo>
                  <a:pt x="9302" y="12551"/>
                </a:moveTo>
                <a:cubicBezTo>
                  <a:pt x="9386" y="12551"/>
                  <a:pt x="9446" y="12536"/>
                  <a:pt x="9525" y="12526"/>
                </a:cubicBezTo>
              </a:path>
              <a:path w="9105" h="2060">
                <a:moveTo>
                  <a:pt x="10418" y="12526"/>
                </a:moveTo>
                <a:cubicBezTo>
                  <a:pt x="10434" y="12590"/>
                  <a:pt x="10436" y="12651"/>
                  <a:pt x="10418" y="12725"/>
                </a:cubicBezTo>
                <a:cubicBezTo>
                  <a:pt x="10379" y="12884"/>
                  <a:pt x="10335" y="13015"/>
                  <a:pt x="10294" y="13171"/>
                </a:cubicBezTo>
                <a:cubicBezTo>
                  <a:pt x="10275" y="13246"/>
                  <a:pt x="10248" y="13292"/>
                  <a:pt x="10195" y="13345"/>
                </a:cubicBezTo>
                <a:cubicBezTo>
                  <a:pt x="10165" y="13375"/>
                  <a:pt x="10160" y="13370"/>
                  <a:pt x="10120" y="13370"/>
                </a:cubicBezTo>
              </a:path>
              <a:path w="9105" h="2060">
                <a:moveTo>
                  <a:pt x="10046" y="12750"/>
                </a:moveTo>
                <a:cubicBezTo>
                  <a:pt x="10141" y="12796"/>
                  <a:pt x="10193" y="12847"/>
                  <a:pt x="10269" y="12923"/>
                </a:cubicBezTo>
                <a:cubicBezTo>
                  <a:pt x="10348" y="13002"/>
                  <a:pt x="10403" y="13100"/>
                  <a:pt x="10492" y="13171"/>
                </a:cubicBezTo>
                <a:cubicBezTo>
                  <a:pt x="10600" y="13256"/>
                  <a:pt x="10666" y="13259"/>
                  <a:pt x="10790" y="13246"/>
                </a:cubicBezTo>
                <a:cubicBezTo>
                  <a:pt x="10865" y="13238"/>
                  <a:pt x="10899" y="13203"/>
                  <a:pt x="10939" y="13146"/>
                </a:cubicBezTo>
              </a:path>
              <a:path w="9105" h="2060">
                <a:moveTo>
                  <a:pt x="11286" y="12799"/>
                </a:moveTo>
                <a:cubicBezTo>
                  <a:pt x="11373" y="12807"/>
                  <a:pt x="11444" y="12824"/>
                  <a:pt x="11534" y="12824"/>
                </a:cubicBezTo>
                <a:cubicBezTo>
                  <a:pt x="11559" y="12824"/>
                  <a:pt x="11584" y="12824"/>
                  <a:pt x="11609" y="12824"/>
                </a:cubicBezTo>
              </a:path>
              <a:path w="9105" h="2060">
                <a:moveTo>
                  <a:pt x="11534" y="13072"/>
                </a:moveTo>
                <a:cubicBezTo>
                  <a:pt x="11657" y="13072"/>
                  <a:pt x="11766" y="13079"/>
                  <a:pt x="11881" y="13097"/>
                </a:cubicBezTo>
                <a:cubicBezTo>
                  <a:pt x="11931" y="13097"/>
                  <a:pt x="11948" y="13097"/>
                  <a:pt x="11981" y="13097"/>
                </a:cubicBezTo>
              </a:path>
              <a:path w="9105" h="2060">
                <a:moveTo>
                  <a:pt x="12601" y="12353"/>
                </a:moveTo>
                <a:cubicBezTo>
                  <a:pt x="12697" y="12441"/>
                  <a:pt x="12731" y="12487"/>
                  <a:pt x="12750" y="12626"/>
                </a:cubicBezTo>
                <a:cubicBezTo>
                  <a:pt x="12767" y="12752"/>
                  <a:pt x="12788" y="12874"/>
                  <a:pt x="12824" y="12998"/>
                </a:cubicBezTo>
                <a:cubicBezTo>
                  <a:pt x="12847" y="13076"/>
                  <a:pt x="12868" y="13160"/>
                  <a:pt x="12923" y="13221"/>
                </a:cubicBezTo>
                <a:cubicBezTo>
                  <a:pt x="12946" y="13244"/>
                  <a:pt x="12954" y="13248"/>
                  <a:pt x="12948" y="13271"/>
                </a:cubicBezTo>
              </a:path>
              <a:path w="9105" h="2060">
                <a:moveTo>
                  <a:pt x="12576" y="12799"/>
                </a:moveTo>
                <a:cubicBezTo>
                  <a:pt x="12662" y="12823"/>
                  <a:pt x="12736" y="12846"/>
                  <a:pt x="12824" y="12849"/>
                </a:cubicBezTo>
                <a:cubicBezTo>
                  <a:pt x="12918" y="12853"/>
                  <a:pt x="12999" y="12874"/>
                  <a:pt x="13097" y="12874"/>
                </a:cubicBezTo>
                <a:cubicBezTo>
                  <a:pt x="13174" y="12874"/>
                  <a:pt x="13233" y="12861"/>
                  <a:pt x="13295" y="12849"/>
                </a:cubicBezTo>
                <a:cubicBezTo>
                  <a:pt x="13312" y="12849"/>
                  <a:pt x="13328" y="12849"/>
                  <a:pt x="13345" y="12849"/>
                </a:cubicBezTo>
              </a:path>
              <a:path w="9105" h="2060">
                <a:moveTo>
                  <a:pt x="13791" y="12774"/>
                </a:moveTo>
                <a:cubicBezTo>
                  <a:pt x="13803" y="12729"/>
                  <a:pt x="13816" y="12704"/>
                  <a:pt x="13816" y="12650"/>
                </a:cubicBezTo>
                <a:cubicBezTo>
                  <a:pt x="13816" y="12598"/>
                  <a:pt x="13762" y="12588"/>
                  <a:pt x="13717" y="12601"/>
                </a:cubicBezTo>
                <a:cubicBezTo>
                  <a:pt x="13621" y="12629"/>
                  <a:pt x="13573" y="12696"/>
                  <a:pt x="13519" y="12774"/>
                </a:cubicBezTo>
                <a:cubicBezTo>
                  <a:pt x="13462" y="12856"/>
                  <a:pt x="13411" y="12953"/>
                  <a:pt x="13469" y="13047"/>
                </a:cubicBezTo>
                <a:cubicBezTo>
                  <a:pt x="13507" y="13109"/>
                  <a:pt x="13559" y="13108"/>
                  <a:pt x="13618" y="13072"/>
                </a:cubicBezTo>
                <a:cubicBezTo>
                  <a:pt x="13708" y="13016"/>
                  <a:pt x="13765" y="12942"/>
                  <a:pt x="13816" y="12849"/>
                </a:cubicBezTo>
                <a:cubicBezTo>
                  <a:pt x="13841" y="12799"/>
                  <a:pt x="13849" y="12782"/>
                  <a:pt x="13891" y="12774"/>
                </a:cubicBezTo>
              </a:path>
              <a:path w="9105" h="2060">
                <a:moveTo>
                  <a:pt x="13915" y="12750"/>
                </a:moveTo>
                <a:cubicBezTo>
                  <a:pt x="13915" y="12862"/>
                  <a:pt x="13910" y="12969"/>
                  <a:pt x="13965" y="13072"/>
                </a:cubicBezTo>
                <a:cubicBezTo>
                  <a:pt x="13992" y="13122"/>
                  <a:pt x="14027" y="13146"/>
                  <a:pt x="14064" y="13171"/>
                </a:cubicBezTo>
                <a:cubicBezTo>
                  <a:pt x="14072" y="13179"/>
                  <a:pt x="14081" y="13188"/>
                  <a:pt x="14089" y="13196"/>
                </a:cubicBezTo>
              </a:path>
              <a:path w="9105" h="2060">
                <a:moveTo>
                  <a:pt x="14213" y="12502"/>
                </a:moveTo>
                <a:cubicBezTo>
                  <a:pt x="14231" y="12627"/>
                  <a:pt x="14277" y="12749"/>
                  <a:pt x="14288" y="12874"/>
                </a:cubicBezTo>
                <a:cubicBezTo>
                  <a:pt x="14296" y="12962"/>
                  <a:pt x="14269" y="13048"/>
                  <a:pt x="14312" y="13122"/>
                </a:cubicBezTo>
                <a:cubicBezTo>
                  <a:pt x="14312" y="13165"/>
                  <a:pt x="14293" y="13090"/>
                  <a:pt x="14288" y="13047"/>
                </a:cubicBezTo>
                <a:cubicBezTo>
                  <a:pt x="14274" y="12916"/>
                  <a:pt x="14278" y="12777"/>
                  <a:pt x="14238" y="12650"/>
                </a:cubicBezTo>
                <a:cubicBezTo>
                  <a:pt x="14218" y="12586"/>
                  <a:pt x="14213" y="12546"/>
                  <a:pt x="14213" y="12477"/>
                </a:cubicBezTo>
                <a:cubicBezTo>
                  <a:pt x="14213" y="12452"/>
                  <a:pt x="14213" y="12444"/>
                  <a:pt x="14213" y="12427"/>
                </a:cubicBezTo>
                <a:cubicBezTo>
                  <a:pt x="14266" y="12387"/>
                  <a:pt x="14304" y="12398"/>
                  <a:pt x="14362" y="12427"/>
                </a:cubicBezTo>
                <a:cubicBezTo>
                  <a:pt x="14426" y="12459"/>
                  <a:pt x="14494" y="12517"/>
                  <a:pt x="14536" y="12576"/>
                </a:cubicBezTo>
                <a:cubicBezTo>
                  <a:pt x="14575" y="12631"/>
                  <a:pt x="14633" y="12687"/>
                  <a:pt x="14660" y="12750"/>
                </a:cubicBezTo>
                <a:cubicBezTo>
                  <a:pt x="14686" y="12810"/>
                  <a:pt x="14720" y="12910"/>
                  <a:pt x="14734" y="12973"/>
                </a:cubicBezTo>
                <a:cubicBezTo>
                  <a:pt x="14740" y="13000"/>
                  <a:pt x="14734" y="13043"/>
                  <a:pt x="14734" y="13072"/>
                </a:cubicBezTo>
              </a:path>
              <a:path w="9105" h="2060">
                <a:moveTo>
                  <a:pt x="14784" y="12030"/>
                </a:moveTo>
                <a:cubicBezTo>
                  <a:pt x="14767" y="12038"/>
                  <a:pt x="14751" y="12047"/>
                  <a:pt x="14734" y="12055"/>
                </a:cubicBezTo>
                <a:cubicBezTo>
                  <a:pt x="14773" y="12084"/>
                  <a:pt x="14813" y="12087"/>
                  <a:pt x="14858" y="12105"/>
                </a:cubicBezTo>
                <a:cubicBezTo>
                  <a:pt x="14906" y="12124"/>
                  <a:pt x="14975" y="12134"/>
                  <a:pt x="15007" y="12179"/>
                </a:cubicBezTo>
                <a:cubicBezTo>
                  <a:pt x="15013" y="12188"/>
                  <a:pt x="15055" y="12285"/>
                  <a:pt x="15032" y="12303"/>
                </a:cubicBezTo>
                <a:cubicBezTo>
                  <a:pt x="15010" y="12321"/>
                  <a:pt x="14979" y="12350"/>
                  <a:pt x="14932" y="12353"/>
                </a:cubicBezTo>
                <a:cubicBezTo>
                  <a:pt x="14876" y="12357"/>
                  <a:pt x="14831" y="12313"/>
                  <a:pt x="14808" y="12303"/>
                </a:cubicBezTo>
                <a:cubicBezTo>
                  <a:pt x="14776" y="12289"/>
                  <a:pt x="14784" y="12297"/>
                  <a:pt x="14784" y="12254"/>
                </a:cubicBezTo>
              </a:path>
              <a:path w="9105" h="2060">
                <a:moveTo>
                  <a:pt x="14759" y="11981"/>
                </a:moveTo>
                <a:cubicBezTo>
                  <a:pt x="14820" y="11932"/>
                  <a:pt x="14854" y="11931"/>
                  <a:pt x="14932" y="11931"/>
                </a:cubicBezTo>
                <a:cubicBezTo>
                  <a:pt x="14965" y="11931"/>
                  <a:pt x="14999" y="11931"/>
                  <a:pt x="15032" y="11931"/>
                </a:cubicBezTo>
              </a:path>
              <a:path w="9105" h="2060">
                <a:moveTo>
                  <a:pt x="15627" y="12005"/>
                </a:moveTo>
                <a:cubicBezTo>
                  <a:pt x="15691" y="12012"/>
                  <a:pt x="15722" y="12005"/>
                  <a:pt x="15726" y="12080"/>
                </a:cubicBezTo>
                <a:cubicBezTo>
                  <a:pt x="15732" y="12184"/>
                  <a:pt x="15697" y="12300"/>
                  <a:pt x="15677" y="12402"/>
                </a:cubicBezTo>
                <a:cubicBezTo>
                  <a:pt x="15646" y="12557"/>
                  <a:pt x="15586" y="12689"/>
                  <a:pt x="15577" y="12849"/>
                </a:cubicBezTo>
                <a:cubicBezTo>
                  <a:pt x="15577" y="12874"/>
                  <a:pt x="15577" y="12882"/>
                  <a:pt x="15553" y="12874"/>
                </a:cubicBezTo>
              </a:path>
              <a:path w="9105" h="2060">
                <a:moveTo>
                  <a:pt x="15379" y="12204"/>
                </a:moveTo>
                <a:cubicBezTo>
                  <a:pt x="15461" y="12245"/>
                  <a:pt x="15511" y="12288"/>
                  <a:pt x="15577" y="12353"/>
                </a:cubicBezTo>
                <a:cubicBezTo>
                  <a:pt x="15648" y="12424"/>
                  <a:pt x="15729" y="12479"/>
                  <a:pt x="15801" y="12551"/>
                </a:cubicBezTo>
                <a:cubicBezTo>
                  <a:pt x="15844" y="12594"/>
                  <a:pt x="15940" y="12659"/>
                  <a:pt x="15999" y="12675"/>
                </a:cubicBezTo>
                <a:cubicBezTo>
                  <a:pt x="16016" y="12675"/>
                  <a:pt x="16032" y="12675"/>
                  <a:pt x="16049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on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bjective:  to solve trigonometric equ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he difference between simplifying and solving?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8-12-02T19:16:20Z</dcterms:modified>
  <cp:revision>13</cp:revision>
  <dc:subject/>
  <dc:title>Lesson 5.3 part two</dc:title>
</cp:coreProperties>
</file>